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EBE-1259-40E6-B6A2-FF9B3F5B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263-E1E1-4F6E-B58C-EAB10F38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94D-8B06-4D13-8AAC-D1F535D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D6F-8EAA-4B95-A72A-3F845E37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317-23AB-415E-87B9-DFF58F5A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0D0F-557B-4BF9-9020-9D98F30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F467-7131-4736-B31F-A9AA3F6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843-B083-493E-B1C8-32C3AD0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F720-C933-4A99-8D61-6B1369D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80F4-12F2-4E4D-8730-5F443FB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C19-9A93-4117-B689-ABDE96A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536-C7C5-4FE5-B9DD-B35BF8F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D81D-C38E-4C88-A0DB-37047F4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CB03-F8C9-4009-BFB1-CF57B13F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B49-F0BA-4FA8-A29A-6FB281B5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4ED-5D31-4593-9169-014C4D47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E069-9D7F-403B-AC05-D3D016D0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B5E-01A5-4FE3-8FBD-C2F3A479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241-6D74-4B17-BC43-86C80499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2A0-11F3-43BB-AB11-BBE72654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CCC-E957-4F94-A219-FACE23E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FE5-000D-41B3-A917-8FF522F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503-505E-49A6-BB31-1526AAD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381-58D3-488F-8F32-F80E822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8440" indent="-466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73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3628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955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955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955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BF0-A499-4B21-92F9-332C1548105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AEB-8993-4261-9E3F-E4D2A3C91A6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4222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37296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indent="3240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 indent="3240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 indent="3240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575080"/>
            <a:ext cx="6400800" cy="1209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Comic Sans MS"/>
              </a:rPr>
              <a:t>Autour du glob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Services complets de voy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Comic Sans MS"/>
              </a:rPr>
              <a:t>Pourquoi part-on en voyage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Présenté par Josée Mi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Types de voy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Plais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Sole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Croisiè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mic Sans MS"/>
              </a:rPr>
              <a:t>Santé et rep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Expl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Aff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5003640" y="2421000"/>
            <a:ext cx="2911680" cy="227952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6411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olei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08360" y="19620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1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a pl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21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s activités extérie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21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 pay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21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 re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258920" y="2193840"/>
            <a:ext cx="2577960" cy="245124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84360" y="2060640"/>
            <a:ext cx="37004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on voy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90144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Structure de l’entrepr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Services offe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Pourquoi part-on en voya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Comic Sans MS"/>
              </a:rPr>
              <a:t>Structure de l ’entrepri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Présenté par Jacques Corbe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564000" y="3284640"/>
            <a:ext cx="2438280" cy="2361960"/>
            <a:chOff x="3564000" y="3284640"/>
            <a:chExt cx="2438280" cy="2361960"/>
          </a:xfrm>
        </p:grpSpPr>
        <p:sp>
          <p:nvSpPr>
            <p:cNvPr id="158" name=""/>
            <p:cNvSpPr/>
            <p:nvPr/>
          </p:nvSpPr>
          <p:spPr>
            <a:xfrm>
              <a:off x="3564000" y="3284640"/>
              <a:ext cx="2438280" cy="2361960"/>
            </a:xfrm>
            <a:custGeom>
              <a:avLst/>
              <a:gdLst>
                <a:gd name="textAreaLeft" fmla="*/ 556560 w 2438280"/>
                <a:gd name="textAreaRight" fmla="*/ 1881720 w 2438280"/>
                <a:gd name="textAreaTop" fmla="*/ 539280 h 2361960"/>
                <a:gd name="textAreaBottom" fmla="*/ 182268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78080" y="4027320"/>
              <a:ext cx="1447560" cy="825480"/>
            </a:xfrm>
            <a:prstGeom prst="rect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ccccff"/>
                  </a:solidFill>
                  <a:latin typeface="Times New Roman"/>
                </a:rPr>
                <a:t>Membre A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435640" y="1628640"/>
            <a:ext cx="2971800" cy="1828800"/>
          </a:xfrm>
          <a:prstGeom prst="leftArrow">
            <a:avLst>
              <a:gd name="adj1" fmla="val 50000"/>
              <a:gd name="adj2" fmla="val 40625"/>
            </a:avLst>
          </a:prstGeom>
          <a:solidFill>
            <a:srgbClr val="ffe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703d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Division de voy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Va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Voici nos principales divisions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284640"/>
            <a:ext cx="2808360" cy="1728720"/>
          </a:xfrm>
          <a:prstGeom prst="rightArrow">
            <a:avLst>
              <a:gd name="adj1" fmla="val 50000"/>
              <a:gd name="adj2" fmla="val 40613"/>
            </a:avLst>
          </a:prstGeom>
          <a:solidFill>
            <a:srgbClr val="ffe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703d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Division de voy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Aff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Notre personn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42920" y="2216160"/>
            <a:ext cx="7416360" cy="2728440"/>
            <a:chOff x="1042920" y="2216160"/>
            <a:chExt cx="7416360" cy="2728440"/>
          </a:xfrm>
        </p:grpSpPr>
        <p:cxnSp>
          <p:nvCxnSpPr>
            <p:cNvPr id="165" name="_s28696"/>
            <p:cNvCxnSpPr>
              <a:stCxn id="166" idx="0"/>
              <a:endCxn id="167" idx="2"/>
            </p:cNvCxnSpPr>
            <p:nvPr/>
          </p:nvCxnSpPr>
          <p:spPr>
            <a:xfrm flipV="1" rot="16200000">
              <a:off x="7377480" y="3598200"/>
              <a:ext cx="199440" cy="2160"/>
            </a:xfrm>
            <a:prstGeom prst="bentConnector3">
              <a:avLst>
                <a:gd name="adj1" fmla="val 49547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68" name="_s28694"/>
            <p:cNvCxnSpPr>
              <a:stCxn id="169" idx="0"/>
              <a:endCxn id="170" idx="2"/>
            </p:cNvCxnSpPr>
            <p:nvPr/>
          </p:nvCxnSpPr>
          <p:spPr>
            <a:xfrm flipV="1">
              <a:off x="5235840" y="3499920"/>
              <a:ext cx="2880" cy="199440"/>
            </a:xfrm>
            <a:prstGeom prst="bentConnector2">
              <a:avLst/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1" name="_s28692"/>
            <p:cNvCxnSpPr>
              <a:stCxn id="172" idx="3"/>
              <a:endCxn id="173" idx="2"/>
            </p:cNvCxnSpPr>
            <p:nvPr/>
          </p:nvCxnSpPr>
          <p:spPr>
            <a:xfrm flipV="1">
              <a:off x="3006360" y="3499920"/>
              <a:ext cx="279000" cy="1182240"/>
            </a:xfrm>
            <a:prstGeom prst="bentConnector2">
              <a:avLst/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4" name="_s28690"/>
            <p:cNvCxnSpPr>
              <a:stCxn id="175" idx="3"/>
              <a:endCxn id="173" idx="2"/>
            </p:cNvCxnSpPr>
            <p:nvPr/>
          </p:nvCxnSpPr>
          <p:spPr>
            <a:xfrm flipV="1">
              <a:off x="3006360" y="3499560"/>
              <a:ext cx="279000" cy="460440"/>
            </a:xfrm>
            <a:prstGeom prst="bentConnector2">
              <a:avLst/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6" name="_s28685"/>
            <p:cNvCxnSpPr>
              <a:stCxn id="167" idx="0"/>
              <a:endCxn id="177" idx="2"/>
            </p:cNvCxnSpPr>
            <p:nvPr/>
          </p:nvCxnSpPr>
          <p:spPr>
            <a:xfrm flipV="1" rot="16200000">
              <a:off x="6014160" y="1495440"/>
              <a:ext cx="199440" cy="2724840"/>
            </a:xfrm>
            <a:prstGeom prst="bentConnector3">
              <a:avLst>
                <a:gd name="adj1" fmla="val 49547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8" name="_s28684"/>
            <p:cNvCxnSpPr>
              <a:stCxn id="170" idx="0"/>
              <a:endCxn id="177" idx="2"/>
            </p:cNvCxnSpPr>
            <p:nvPr/>
          </p:nvCxnSpPr>
          <p:spPr>
            <a:xfrm flipV="1" rot="16200000">
              <a:off x="4893840" y="2615760"/>
              <a:ext cx="199440" cy="484200"/>
            </a:xfrm>
            <a:prstGeom prst="bentConnector3">
              <a:avLst>
                <a:gd name="adj1" fmla="val 49547"/>
              </a:avLst>
            </a:prstGeom>
            <a:ln w="28440">
              <a:solidFill>
                <a:srgbClr val="ffb800"/>
              </a:solidFill>
              <a:miter/>
            </a:ln>
          </p:spPr>
        </p:cxnSp>
        <p:cxnSp>
          <p:nvCxnSpPr>
            <p:cNvPr id="179" name="_s28683"/>
            <p:cNvCxnSpPr>
              <a:stCxn id="173" idx="0"/>
              <a:endCxn id="177" idx="2"/>
            </p:cNvCxnSpPr>
            <p:nvPr/>
          </p:nvCxnSpPr>
          <p:spPr>
            <a:xfrm flipH="1" flipV="1" rot="5400000">
              <a:off x="3918960" y="2124360"/>
              <a:ext cx="199440" cy="1467360"/>
            </a:xfrm>
            <a:prstGeom prst="bentConnector3">
              <a:avLst>
                <a:gd name="adj1" fmla="val 49547"/>
              </a:avLst>
            </a:prstGeom>
            <a:ln w="28440">
              <a:solidFill>
                <a:srgbClr val="ffb800"/>
              </a:solidFill>
              <a:miter/>
            </a:ln>
          </p:spPr>
        </p:cxnSp>
        <p:sp>
          <p:nvSpPr>
            <p:cNvPr id="177" name="_s28679"/>
            <p:cNvSpPr/>
            <p:nvPr/>
          </p:nvSpPr>
          <p:spPr>
            <a:xfrm>
              <a:off x="3720600" y="2216160"/>
              <a:ext cx="2058480" cy="542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b200"/>
              </a:solidFill>
              <a:miter/>
            </a:ln>
            <a:effectLst>
              <a:outerShdw dist="63504" dir="19383909" blurRad="0" rotWithShape="0">
                <a:srgbClr val="00b2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Pauline Gauthi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Présiden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28680"/>
            <p:cNvSpPr/>
            <p:nvPr/>
          </p:nvSpPr>
          <p:spPr>
            <a:xfrm>
              <a:off x="2451600" y="2957760"/>
              <a:ext cx="1669320" cy="542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Jacques Dem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Secrétai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28681"/>
            <p:cNvSpPr/>
            <p:nvPr/>
          </p:nvSpPr>
          <p:spPr>
            <a:xfrm>
              <a:off x="4399920" y="2957760"/>
              <a:ext cx="1669680" cy="542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Pascale Bussiè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Conseillè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28682"/>
            <p:cNvSpPr/>
            <p:nvPr/>
          </p:nvSpPr>
          <p:spPr>
            <a:xfrm>
              <a:off x="6642360" y="2957760"/>
              <a:ext cx="1669680" cy="542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703dff"/>
              </a:solidFill>
              <a:miter/>
            </a:ln>
            <a:effectLst>
              <a:outerShdw dist="63504" dir="19383909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Marie L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Comp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28689"/>
            <p:cNvSpPr/>
            <p:nvPr/>
          </p:nvSpPr>
          <p:spPr>
            <a:xfrm>
              <a:off x="1042920" y="3699360"/>
              <a:ext cx="1963800" cy="52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e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Japer Monta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28691"/>
            <p:cNvSpPr/>
            <p:nvPr/>
          </p:nvSpPr>
          <p:spPr>
            <a:xfrm>
              <a:off x="1042920" y="4421520"/>
              <a:ext cx="1963800" cy="52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e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Léa Sat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28693"/>
            <p:cNvSpPr/>
            <p:nvPr/>
          </p:nvSpPr>
          <p:spPr>
            <a:xfrm>
              <a:off x="4252680" y="3699360"/>
              <a:ext cx="1963800" cy="52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e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Nicole Auclai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Service après ven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28695"/>
            <p:cNvSpPr/>
            <p:nvPr/>
          </p:nvSpPr>
          <p:spPr>
            <a:xfrm>
              <a:off x="6495480" y="3699360"/>
              <a:ext cx="1963800" cy="523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e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500" spc="-1" strike="noStrike">
                  <a:solidFill>
                    <a:srgbClr val="000000"/>
                  </a:solidFill>
                  <a:latin typeface="Comic Sans MS"/>
                </a:rPr>
                <a:t>Robert Plu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2575080"/>
            <a:ext cx="6400800" cy="1209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00"/>
                </a:solidFill>
                <a:latin typeface="Comic Sans MS"/>
              </a:rPr>
              <a:t>Services offer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Présenté par Sophie Labr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Voyages internationaux et domest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4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Comptes corporati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Réservations automatisé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28600" indent="-501480">
              <a:spcBef>
                <a:spcPts val="1225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ivraison le jour mê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14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our gui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1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Destinations vac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0144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ervices spécia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Planifications de réun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réunions de v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Photos passe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7400" indent="-530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Service le même j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À travers le p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omic Sans MS"/>
              </a:rPr>
              <a:t>Destinations de voya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1828800"/>
          <a:ext cx="76946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694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6:24:32Z</dcterms:created>
  <dc:creator>IRSST</dc:creator>
  <dc:description/>
  <dc:language>en-US</dc:language>
  <cp:lastModifiedBy>Caroline Lavoie</cp:lastModifiedBy>
  <cp:lastPrinted>1999-06-16T16:54:12Z</cp:lastPrinted>
  <dcterms:modified xsi:type="dcterms:W3CDTF">2006-02-22T01:48:53Z</dcterms:modified>
  <cp:revision>24</cp:revision>
  <dc:subject/>
  <dc:title>Autour du Globe</dc:title>
</cp:coreProperties>
</file>