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7F76-166E-4A31-9B62-5B2F3406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B270-2BB3-4946-847A-2DD4F917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2D3E-6D36-4286-9CE3-D5F81429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9D88-1A4D-40B4-A4CE-F6B9EAC4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4A33-CD35-43A8-A35A-67689DB5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8294-5E36-4299-99C4-B3AF19C7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05D4-C9AF-4DF5-8CA2-265F3FA0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1060-9F6E-41D7-BC55-370EAF64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0554-842C-451D-895B-4147BC08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B8B7-4F8E-44F1-89B5-0D6A73AC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A869-3763-4E1B-AFE3-6A1BF6BC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DD69-BDB3-43F3-87FA-37C0334D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1FD7-DE3F-497B-8920-57B51543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F001-51E7-4C1C-893D-54551606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0487-E68B-4190-A328-DF9318E9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12B3-5D54-41DE-BDC1-58EDF4F3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AAFF-75AA-4A94-BDA2-53902C63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E826-1C71-4DDC-BFD5-C07845A4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79F9-3C07-42C5-9A94-8E359A5E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240B-FB4D-4C79-866C-A164D346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4112-93C3-4CDD-A5F6-C3297252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302-D0B0-4D5D-88ED-E8230904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1DE2-851A-4769-A5B2-A64E1DB7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D1D3-B2DF-4590-B2A6-C8C3C8F6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E227-37EC-4F77-BBB4-521EEDB30DCC}" type="slidenum">
              <a:rPr b="0" lang="fr-FR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4BE6-7A09-40A9-9C0C-35E794463DF7}" type="slidenum">
              <a:rPr b="0" lang="fr-FR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2341080"/>
            <a:ext cx="739116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Autour du glob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Services complets de voy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Pourquoi part-on en voya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Présenté par Josée Mi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8920" y="839520"/>
            <a:ext cx="75643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Types de voyag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Plais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Sole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Croisiè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Santé et re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Expl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Affa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tn00686_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354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8920" y="839520"/>
            <a:ext cx="75643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Solei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6688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La p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Les activités extéri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Le pay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le re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so01038_" descr=""/>
          <p:cNvPicPr/>
          <p:nvPr/>
        </p:nvPicPr>
        <p:blipFill>
          <a:blip r:embed="rId2"/>
          <a:stretch/>
        </p:blipFill>
        <p:spPr>
          <a:xfrm>
            <a:off x="1757520" y="2438280"/>
            <a:ext cx="34588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839520"/>
            <a:ext cx="75643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Affair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6688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Salle de confé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SzPct val="9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Service de secré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Location d’équip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Activités en soir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479600" y="2798640"/>
            <a:ext cx="37368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839520"/>
            <a:ext cx="75643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Vent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479600" y="1981080"/>
          <a:ext cx="762624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9600" y="1981080"/>
                    <a:ext cx="7626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057400"/>
            <a:ext cx="3700440" cy="21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2" name="bd06518_" descr=""/>
          <p:cNvPicPr/>
          <p:nvPr/>
        </p:nvPicPr>
        <p:blipFill>
          <a:blip r:embed="rId2"/>
          <a:stretch/>
        </p:blipFill>
        <p:spPr>
          <a:xfrm>
            <a:off x="4952880" y="3733920"/>
            <a:ext cx="37195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839520"/>
            <a:ext cx="75643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Pla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Structure de l’entre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Services offe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Pourquoi part-on en voya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57800" y="3962520"/>
            <a:ext cx="3133800" cy="2482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Structure de l ’entrepris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Présenté par Jacques Corbe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 rot="16405800">
            <a:off x="81000" y="2663280"/>
            <a:ext cx="4006800" cy="3810240"/>
          </a:xfrm>
          <a:custGeom>
            <a:avLst/>
            <a:gdLst>
              <a:gd name="textAreaLeft" fmla="*/ 0 w 4006800"/>
              <a:gd name="textAreaRight" fmla="*/ 4007160 w 4006800"/>
              <a:gd name="textAreaTop" fmla="*/ 0 h 3810240"/>
              <a:gd name="textAreaBottom" fmla="*/ 3810600 h 3810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2321916"/>
                <a:lnTo>
                  <a:pt x="1041" y="15427"/>
                </a:lnTo>
                <a:arcTo wR="10800" hR="10800" stAng="9278084" swAng="12321916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276720" y="2133720"/>
            <a:ext cx="2438280" cy="2361960"/>
            <a:chOff x="3276720" y="2133720"/>
            <a:chExt cx="2438280" cy="2361960"/>
          </a:xfrm>
        </p:grpSpPr>
        <p:sp>
          <p:nvSpPr>
            <p:cNvPr id="120" name=""/>
            <p:cNvSpPr/>
            <p:nvPr/>
          </p:nvSpPr>
          <p:spPr>
            <a:xfrm>
              <a:off x="3276720" y="2133720"/>
              <a:ext cx="2438280" cy="2361960"/>
            </a:xfrm>
            <a:custGeom>
              <a:avLst/>
              <a:gdLst>
                <a:gd name="textAreaLeft" fmla="*/ 556560 w 2438280"/>
                <a:gd name="textAreaRight" fmla="*/ 1881720 w 2438280"/>
                <a:gd name="textAreaTop" fmla="*/ 539280 h 2361960"/>
                <a:gd name="textAreaBottom" fmla="*/ 182268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90800" y="2876400"/>
              <a:ext cx="1447560" cy="8254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ccccff"/>
                  </a:solidFill>
                  <a:latin typeface="Times New Roman"/>
                </a:rPr>
                <a:t>Membre AS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 txBox="1"/>
          <p:nvPr/>
        </p:nvSpPr>
        <p:spPr>
          <a:xfrm rot="16818600">
            <a:off x="671400" y="2863080"/>
            <a:ext cx="2801880" cy="2779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1314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ivision de voyage d'affai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2276640"/>
            <a:ext cx="3097440" cy="1828800"/>
          </a:xfrm>
          <a:prstGeom prst="leftArrow">
            <a:avLst>
              <a:gd name="adj1" fmla="val 50000"/>
              <a:gd name="adj2" fmla="val 4234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 Black"/>
              </a:rPr>
              <a:t>Division de voy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CA" sz="2000" spc="-1" strike="noStrike">
                <a:solidFill>
                  <a:srgbClr val="000000"/>
                </a:solidFill>
                <a:latin typeface="Arial Black"/>
              </a:rPr>
              <a:t>vac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Voici nos principales divisions 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839520"/>
            <a:ext cx="75643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Notre personne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93720" y="2598840"/>
          <a:ext cx="7398000" cy="287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93720" y="2598840"/>
                    <a:ext cx="739800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52400" y="2341080"/>
            <a:ext cx="739116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Services offert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Présenté par Sophie Labr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Voyages internationaux et domestiqu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Comptes corporat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Réservations automatis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Livraison de billets d ’avion le jour mê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SzPct val="9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Tour guid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Destinations vac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839520"/>
            <a:ext cx="75643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Services spéciaux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Planifications de réun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réunions de v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Photos pass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Service le même j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À travers le p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Destinations de voyag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479600" y="1981080"/>
          <a:ext cx="76248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9600" y="1981080"/>
                    <a:ext cx="7624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16:24:32Z</dcterms:created>
  <dc:creator>IRSST</dc:creator>
  <dc:description/>
  <dc:language>en-US</dc:language>
  <cp:lastModifiedBy>Caroline Lavoie</cp:lastModifiedBy>
  <cp:lastPrinted>1999-06-16T16:54:12Z</cp:lastPrinted>
  <dcterms:modified xsi:type="dcterms:W3CDTF">2006-02-22T01:08:33Z</dcterms:modified>
  <cp:revision>22</cp:revision>
  <dc:subject/>
  <dc:title>Autour du Globe</dc:title>
</cp:coreProperties>
</file>