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400-4694-468A-AF07-53236DF5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2BA-8358-4CD0-8544-73943527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A30-DED5-467E-A2DD-C77AD3FE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7C4-1A87-44F0-91EB-73054E2D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764A-33C2-4C49-8DBC-82C75103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5ADC-F711-41C2-93B3-108EEEA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809F-5DD1-4085-A59E-DC5DA761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2DE0-B738-4E5D-A3F4-2EAE4DEB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8069-E2B6-4B35-9E82-596A12DD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B07F-611A-4837-AC29-93E0D189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C730-403A-43FF-ADBA-EF70242D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51D-530F-410A-986D-69A93E3E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2FCB-CC2F-4680-830A-C80D8E02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7A51-FAC2-46BC-AE67-E26FA79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CF23-E07E-4809-89B8-3B044E13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70BA-2EC4-4297-AB8B-BEBB37C8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79E9-0120-4A8F-A06B-B6800C2B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CC0-7739-4406-B6E5-4BCE262B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F09-3B0B-4886-9112-5A6CCD2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118-1B9B-42CB-9414-29647643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394-472A-410C-89B0-988165C8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0B0-47C5-45E6-9402-9D2B0ECA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7FA-BB39-4F3A-9EA6-A6D3379E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440-586C-4D81-98ED-D896114E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F493-A3CD-4BC9-A043-90AD1C5B5DE5}" type="datetime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75D1-3206-433F-A47B-D96C39402B4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AB6-164B-4ED5-BD0C-313CB9BA18A6}" type="datetime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A8D5-AE77-4BBC-8FFD-62454708A60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330033"/>
                </a:solidFill>
                <a:latin typeface="Times New Roman"/>
              </a:rPr>
              <a:t>Bilan  annuel de votre compagni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ésentation de Jacques Lafl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Activités soci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25360" y="2447280"/>
            <a:ext cx="7488000" cy="3227760"/>
            <a:chOff x="1125360" y="2447280"/>
            <a:chExt cx="7488000" cy="3227760"/>
          </a:xfrm>
        </p:grpSpPr>
        <p:cxnSp>
          <p:nvCxnSpPr>
            <p:cNvPr id="127" name="_s344092"/>
            <p:cNvCxnSpPr>
              <a:stCxn id="128" idx="3"/>
              <a:endCxn id="129" idx="2"/>
            </p:cNvCxnSpPr>
            <p:nvPr/>
          </p:nvCxnSpPr>
          <p:spPr>
            <a:xfrm flipV="1">
              <a:off x="7459200" y="3614040"/>
              <a:ext cx="290520" cy="1830600"/>
            </a:xfrm>
            <a:prstGeom prst="bentConnector2">
              <a:avLst/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30" name="_s344090"/>
            <p:cNvCxnSpPr>
              <a:stCxn id="131" idx="3"/>
              <a:endCxn id="129" idx="2"/>
            </p:cNvCxnSpPr>
            <p:nvPr/>
          </p:nvCxnSpPr>
          <p:spPr>
            <a:xfrm flipV="1">
              <a:off x="7461360" y="3614040"/>
              <a:ext cx="288720" cy="1138680"/>
            </a:xfrm>
            <a:prstGeom prst="bentConnector2">
              <a:avLst/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32" name="_s344088"/>
            <p:cNvCxnSpPr>
              <a:stCxn id="133" idx="3"/>
              <a:endCxn id="129" idx="2"/>
            </p:cNvCxnSpPr>
            <p:nvPr/>
          </p:nvCxnSpPr>
          <p:spPr>
            <a:xfrm flipV="1">
              <a:off x="7461360" y="3614400"/>
              <a:ext cx="288720" cy="448560"/>
            </a:xfrm>
            <a:prstGeom prst="bentConnector2">
              <a:avLst/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34" name="_s344086"/>
            <p:cNvCxnSpPr>
              <a:stCxn id="135" idx="3"/>
              <a:endCxn id="136" idx="2"/>
            </p:cNvCxnSpPr>
            <p:nvPr/>
          </p:nvCxnSpPr>
          <p:spPr>
            <a:xfrm flipV="1">
              <a:off x="5157000" y="3614040"/>
              <a:ext cx="290520" cy="1138680"/>
            </a:xfrm>
            <a:prstGeom prst="bentConnector2">
              <a:avLst/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37" name="_s344084"/>
            <p:cNvCxnSpPr>
              <a:stCxn id="138" idx="3"/>
              <a:endCxn id="136" idx="2"/>
            </p:cNvCxnSpPr>
            <p:nvPr/>
          </p:nvCxnSpPr>
          <p:spPr>
            <a:xfrm flipV="1">
              <a:off x="5157000" y="3614400"/>
              <a:ext cx="290520" cy="448560"/>
            </a:xfrm>
            <a:prstGeom prst="bentConnector2">
              <a:avLst/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39" name="_s344082"/>
            <p:cNvCxnSpPr>
              <a:stCxn id="140" idx="3"/>
              <a:endCxn id="141" idx="2"/>
            </p:cNvCxnSpPr>
            <p:nvPr/>
          </p:nvCxnSpPr>
          <p:spPr>
            <a:xfrm flipV="1">
              <a:off x="2853360" y="3614040"/>
              <a:ext cx="288720" cy="1138680"/>
            </a:xfrm>
            <a:prstGeom prst="bentConnector2">
              <a:avLst/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42" name="_s344080"/>
            <p:cNvCxnSpPr>
              <a:stCxn id="143" idx="3"/>
              <a:endCxn id="141" idx="2"/>
            </p:cNvCxnSpPr>
            <p:nvPr/>
          </p:nvCxnSpPr>
          <p:spPr>
            <a:xfrm flipV="1">
              <a:off x="2853360" y="3614400"/>
              <a:ext cx="288720" cy="448560"/>
            </a:xfrm>
            <a:prstGeom prst="bentConnector2">
              <a:avLst/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44" name="_s344077"/>
            <p:cNvCxnSpPr>
              <a:stCxn id="129" idx="0"/>
              <a:endCxn id="145" idx="2"/>
            </p:cNvCxnSpPr>
            <p:nvPr/>
          </p:nvCxnSpPr>
          <p:spPr>
            <a:xfrm flipV="1" rot="16200000">
              <a:off x="6209640" y="1586160"/>
              <a:ext cx="199080" cy="2880720"/>
            </a:xfrm>
            <a:prstGeom prst="bentConnector3">
              <a:avLst>
                <a:gd name="adj1" fmla="val 51086"/>
              </a:avLst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46" name="_s344076"/>
            <p:cNvCxnSpPr>
              <a:stCxn id="136" idx="0"/>
              <a:endCxn id="145" idx="2"/>
            </p:cNvCxnSpPr>
            <p:nvPr/>
          </p:nvCxnSpPr>
          <p:spPr>
            <a:xfrm flipV="1" rot="16200000">
              <a:off x="5058360" y="2737440"/>
              <a:ext cx="199080" cy="578520"/>
            </a:xfrm>
            <a:prstGeom prst="bentConnector3">
              <a:avLst>
                <a:gd name="adj1" fmla="val 51086"/>
              </a:avLst>
            </a:prstGeom>
            <a:ln w="28440">
              <a:solidFill>
                <a:srgbClr val="51513d"/>
              </a:solidFill>
              <a:miter/>
            </a:ln>
          </p:spPr>
        </p:cxnSp>
        <p:cxnSp>
          <p:nvCxnSpPr>
            <p:cNvPr id="147" name="_s344075"/>
            <p:cNvCxnSpPr>
              <a:stCxn id="141" idx="0"/>
              <a:endCxn id="145" idx="2"/>
            </p:cNvCxnSpPr>
            <p:nvPr/>
          </p:nvCxnSpPr>
          <p:spPr>
            <a:xfrm flipH="1" flipV="1" rot="5400000">
              <a:off x="3906000" y="2162520"/>
              <a:ext cx="199080" cy="1728720"/>
            </a:xfrm>
            <a:prstGeom prst="bentConnector3">
              <a:avLst>
                <a:gd name="adj1" fmla="val 51086"/>
              </a:avLst>
            </a:prstGeom>
            <a:ln w="28440">
              <a:solidFill>
                <a:srgbClr val="51513d"/>
              </a:solidFill>
              <a:miter/>
            </a:ln>
          </p:spPr>
        </p:cxnSp>
        <p:sp>
          <p:nvSpPr>
            <p:cNvPr id="145" name="_s344071"/>
            <p:cNvSpPr/>
            <p:nvPr/>
          </p:nvSpPr>
          <p:spPr>
            <a:xfrm>
              <a:off x="4005360" y="244728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e1e1c2"/>
            </a:solidFill>
            <a:ln w="3816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Club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44072"/>
            <p:cNvSpPr/>
            <p:nvPr/>
          </p:nvSpPr>
          <p:spPr>
            <a:xfrm>
              <a:off x="2277360" y="313920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284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Divertiss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344073"/>
            <p:cNvSpPr/>
            <p:nvPr/>
          </p:nvSpPr>
          <p:spPr>
            <a:xfrm>
              <a:off x="4581360" y="313920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284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Cul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44074"/>
            <p:cNvSpPr/>
            <p:nvPr/>
          </p:nvSpPr>
          <p:spPr>
            <a:xfrm>
              <a:off x="6885360" y="313920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284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S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44079"/>
            <p:cNvSpPr/>
            <p:nvPr/>
          </p:nvSpPr>
          <p:spPr>
            <a:xfrm>
              <a:off x="1125360" y="383076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bcbc8d"/>
            </a:solidFill>
            <a:ln w="32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Pique-N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44081"/>
            <p:cNvSpPr/>
            <p:nvPr/>
          </p:nvSpPr>
          <p:spPr>
            <a:xfrm>
              <a:off x="1125360" y="452232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bcbc8d"/>
            </a:solidFill>
            <a:ln w="32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Party de Noë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344083"/>
            <p:cNvSpPr/>
            <p:nvPr/>
          </p:nvSpPr>
          <p:spPr>
            <a:xfrm>
              <a:off x="3429360" y="383076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bcbc8d"/>
            </a:solidFill>
            <a:ln w="32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Conce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344085"/>
            <p:cNvSpPr/>
            <p:nvPr/>
          </p:nvSpPr>
          <p:spPr>
            <a:xfrm>
              <a:off x="3429360" y="452232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bcbc8d"/>
            </a:solidFill>
            <a:ln w="32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Théât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344087"/>
            <p:cNvSpPr/>
            <p:nvPr/>
          </p:nvSpPr>
          <p:spPr>
            <a:xfrm>
              <a:off x="5733360" y="383076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bcbc8d"/>
            </a:solidFill>
            <a:ln w="32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Hocke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344089"/>
            <p:cNvSpPr/>
            <p:nvPr/>
          </p:nvSpPr>
          <p:spPr>
            <a:xfrm>
              <a:off x="5733360" y="4522320"/>
              <a:ext cx="1728000" cy="460800"/>
            </a:xfrm>
            <a:prstGeom prst="roundRect">
              <a:avLst>
                <a:gd name="adj" fmla="val 16667"/>
              </a:avLst>
            </a:prstGeom>
            <a:solidFill>
              <a:srgbClr val="bcbc8d"/>
            </a:solidFill>
            <a:ln w="32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Gol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344091"/>
            <p:cNvSpPr/>
            <p:nvPr/>
          </p:nvSpPr>
          <p:spPr>
            <a:xfrm>
              <a:off x="5733360" y="5214240"/>
              <a:ext cx="1726200" cy="460800"/>
            </a:xfrm>
            <a:prstGeom prst="roundRect">
              <a:avLst>
                <a:gd name="adj" fmla="val 16667"/>
              </a:avLst>
            </a:prstGeom>
            <a:solidFill>
              <a:srgbClr val="bcbc8d"/>
            </a:solidFill>
            <a:ln w="3240">
              <a:solidFill>
                <a:srgbClr val="51513d"/>
              </a:solidFill>
              <a:miter/>
            </a:ln>
            <a:effectLst>
              <a:outerShdw dist="53966" dir="2700000" blurRad="0" rotWithShape="0">
                <a:srgbClr val="3300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300" spc="-1" strike="noStrike">
                  <a:solidFill>
                    <a:srgbClr val="000000"/>
                  </a:solidFill>
                  <a:latin typeface="Arial"/>
                </a:rPr>
                <a:t>Randonné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1C90B-1E6D-4C4E-A3B2-32BA10D04AE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Valeurs de l’entrepri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70080" y="1235160"/>
            <a:ext cx="5261040" cy="5261040"/>
            <a:chOff x="2170080" y="1235160"/>
            <a:chExt cx="5261040" cy="5261040"/>
          </a:xfrm>
        </p:grpSpPr>
        <p:sp>
          <p:nvSpPr>
            <p:cNvPr id="150" name="_s347181"/>
            <p:cNvSpPr/>
            <p:nvPr/>
          </p:nvSpPr>
          <p:spPr>
            <a:xfrm>
              <a:off x="2874960" y="1940040"/>
              <a:ext cx="3851280" cy="38512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47182"/>
            <p:cNvSpPr/>
            <p:nvPr/>
          </p:nvSpPr>
          <p:spPr>
            <a:xfrm rot="7200000">
              <a:off x="2874960" y="1939680"/>
              <a:ext cx="3851280" cy="38512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ffe1"/>
            </a:solidFill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47183"/>
            <p:cNvSpPr/>
            <p:nvPr/>
          </p:nvSpPr>
          <p:spPr>
            <a:xfrm rot="14400000">
              <a:off x="2874600" y="1940040"/>
              <a:ext cx="3851280" cy="38512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ffffe1"/>
            </a:solidFill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47150"/>
            <p:cNvSpPr/>
            <p:nvPr/>
          </p:nvSpPr>
          <p:spPr>
            <a:xfrm>
              <a:off x="5602320" y="2475000"/>
              <a:ext cx="117468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Éc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347151"/>
            <p:cNvSpPr/>
            <p:nvPr/>
          </p:nvSpPr>
          <p:spPr>
            <a:xfrm>
              <a:off x="4213080" y="4881600"/>
              <a:ext cx="117504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Par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47154"/>
            <p:cNvSpPr/>
            <p:nvPr/>
          </p:nvSpPr>
          <p:spPr>
            <a:xfrm>
              <a:off x="2824200" y="2476440"/>
              <a:ext cx="117468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1049C-E34C-4E60-B4AA-767F3FD8E77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380960" y="836640"/>
          <a:ext cx="682956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836640"/>
                    <a:ext cx="682956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ADA43-BA87-4299-A0FD-86843F5687A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380960" y="836640"/>
          <a:ext cx="682956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836640"/>
                    <a:ext cx="682956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8A011-5DB8-46BD-864C-BDBE9276645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À la procha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6000" y="2565360"/>
            <a:ext cx="648036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rci de votr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rticip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FF85A-6C9C-4B78-98D8-7F4F76429A9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330033"/>
                </a:solidFill>
                <a:latin typeface="Impact"/>
              </a:rPr>
              <a:t>Première parti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Réalisations à l’ex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Réalisations à l’exter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verture de nouvelles succur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Rimouski, Chicouti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mélioration du service à la clientè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Heures d’ouverture prolong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ntrôle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92B66-8A41-43E0-80F6-D22BB3F52F2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Achat d’équipement techniq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stes infor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Ordinateurs portables dispon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mprimantes couleur en résea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Écrans 22 pou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stes télépho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Boîtes vo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Affich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D6048-7FFB-41E4-9267-5AC886D8AF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Aménagement des locau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vant les ré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nque de places à la cafété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hotocopieurs insuffi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lairage désu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Après les ré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fétéria sur deux é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 photocopieur pa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 lampe halogène par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71D75-8D81-4132-ADC2-9CE0C537811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Objectifs à long ter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gmentation de la productiv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éveloppement de nouveaux march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ccroissement des exportations à l’étra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2982960" cy="30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DC8A9-9F27-480C-80D6-92C041A9B65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Processus du service à la clientè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92640" y="2060640"/>
            <a:ext cx="2665440" cy="6062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924280"/>
            <a:ext cx="2154240" cy="2166840"/>
          </a:xfrm>
          <a:custGeom>
            <a:avLst/>
            <a:gdLst>
              <a:gd name="textAreaLeft" fmla="*/ 538560 w 2154240"/>
              <a:gd name="textAreaRight" fmla="*/ 1615680 w 2154240"/>
              <a:gd name="textAreaTop" fmla="*/ 541800 h 2166840"/>
              <a:gd name="textAreaBottom" fmla="*/ 1625400 h 2166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’a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3645000"/>
            <a:ext cx="2665440" cy="6062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Compt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2640" y="5445000"/>
            <a:ext cx="2665440" cy="6066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716280"/>
            <a:ext cx="2665440" cy="6066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CDA14-6EAA-498D-8384-9E5305B36E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00360" y="1700280"/>
            <a:ext cx="1584360" cy="165744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Accueil des nouveaux employé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1849320"/>
            <a:ext cx="2087640" cy="792360"/>
          </a:xfrm>
          <a:prstGeom prst="rightArrow">
            <a:avLst>
              <a:gd name="adj1" fmla="val 50000"/>
              <a:gd name="adj2" fmla="val 65868"/>
            </a:avLst>
          </a:prstGeom>
          <a:solidFill>
            <a:srgbClr val="cccc99"/>
          </a:solidFill>
          <a:ln w="5724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Arriv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287600">
            <a:off x="3276720" y="2565000"/>
            <a:ext cx="2160360" cy="2160720"/>
          </a:xfrm>
          <a:prstGeom prst="star5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533556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Bienven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51640" y="3629160"/>
            <a:ext cx="2952720" cy="14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CA043-1FCF-4B3A-908D-8A3E9D76FF4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Coût de l’amén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65120" y="1628640"/>
          <a:ext cx="6681960" cy="4524480"/>
        </p:xfrm>
        <a:graphic>
          <a:graphicData uri="http://schemas.openxmlformats.org/drawingml/2006/table">
            <a:tbl>
              <a:tblPr/>
              <a:tblGrid>
                <a:gridCol w="3886200"/>
                <a:gridCol w="279576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énagement et ach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û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ph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te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000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fété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000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copie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p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salys Form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D1C92-73BC-46A9-B2D6-AA7D2D16814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6:35:07Z</dcterms:created>
  <dc:creator>ldupont</dc:creator>
  <dc:description/>
  <dc:language>en-US</dc:language>
  <cp:lastModifiedBy>Caroline Lavoie</cp:lastModifiedBy>
  <dcterms:modified xsi:type="dcterms:W3CDTF">2006-02-22T01:45:55Z</dcterms:modified>
  <cp:revision>40</cp:revision>
  <dc:subject/>
  <dc:title>Bilan annuel de votre compagn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