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6739-93D3-403C-B957-65EDDA86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52198-1979-4187-900D-73CD2481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6654-3202-40A2-95CF-7FF90F32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DB0E-CEAB-4A59-BC9E-C01D746E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5FB7-0342-48C4-838B-A463F19F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0EE8-7214-4A92-B4C4-350C96AB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A0F3-F7B9-4007-A7CA-1B9D149B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CB8D-11DB-4849-8C89-505D72EC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E33D-9FF7-4912-86D1-20ECDDC7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400B-1141-4EA6-8320-935A8A68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A363-EDDB-4BD2-9B37-17F09AE8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AE3E-3DC4-4D11-87A5-866B756D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5B5A-3ADB-4A5C-B23C-ADE6B3EB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5BC3-87BC-4802-AB6D-7E691CD2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FF3F-2D4B-4484-8823-A19D5658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9785-B5B0-44DE-86ED-1EE16899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B598-0AE2-4FA4-84F3-E3A2A755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5390-674F-4B27-8C5E-2F7AADBD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E52F-E750-4C69-8098-202EA82C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4065-C4FC-40CA-BC18-39E0EABD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7A4D-CB5D-49D7-87AE-AF1FD1E1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1C3D-2263-4844-AE51-2266C364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BBD9-9CD7-449F-A462-1B74C699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B96F-7BF9-4D91-97F9-134C0793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9E88-FD6B-4248-844E-885C261F68F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21FD-AAF3-4AE6-831E-58E3EF504A1D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2224-3C75-4C6B-826E-6237D84D610B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FF69-2851-4759-88A1-ACCC5D6319E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600" spc="-1" strike="noStrike">
                <a:solidFill>
                  <a:srgbClr val="ffffff"/>
                </a:solidFill>
                <a:latin typeface="Arial"/>
              </a:rPr>
              <a:t>Les attractions touristiques de la province de Québec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ésentation de Julie Duver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Activités so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1120" y="2696040"/>
            <a:ext cx="7927560" cy="2230200"/>
            <a:chOff x="681120" y="2696040"/>
            <a:chExt cx="7927560" cy="2230200"/>
          </a:xfrm>
        </p:grpSpPr>
        <p:cxnSp>
          <p:nvCxnSpPr>
            <p:cNvPr id="138" name="_s114721"/>
            <p:cNvCxnSpPr>
              <a:stCxn id="139" idx="3"/>
              <a:endCxn id="140" idx="2"/>
            </p:cNvCxnSpPr>
            <p:nvPr/>
          </p:nvCxnSpPr>
          <p:spPr>
            <a:xfrm flipV="1">
              <a:off x="7676280" y="3731040"/>
              <a:ext cx="235440" cy="997560"/>
            </a:xfrm>
            <a:prstGeom prst="bentConnector2">
              <a:avLst/>
            </a:prstGeom>
            <a:ln w="28440">
              <a:solidFill>
                <a:srgbClr val="3d3d66"/>
              </a:solidFill>
              <a:miter/>
            </a:ln>
          </p:spPr>
        </p:cxnSp>
        <p:cxnSp>
          <p:nvCxnSpPr>
            <p:cNvPr id="141" name="_s114717"/>
            <p:cNvCxnSpPr>
              <a:stCxn id="142" idx="3"/>
              <a:endCxn id="140" idx="2"/>
            </p:cNvCxnSpPr>
            <p:nvPr/>
          </p:nvCxnSpPr>
          <p:spPr>
            <a:xfrm flipV="1">
              <a:off x="7676280" y="3731040"/>
              <a:ext cx="235440" cy="415080"/>
            </a:xfrm>
            <a:prstGeom prst="bentConnector2">
              <a:avLst/>
            </a:prstGeom>
            <a:ln w="28440">
              <a:solidFill>
                <a:srgbClr val="3d3d66"/>
              </a:solidFill>
              <a:miter/>
            </a:ln>
          </p:spPr>
        </p:cxnSp>
        <p:cxnSp>
          <p:nvCxnSpPr>
            <p:cNvPr id="143" name="_s114715"/>
            <p:cNvCxnSpPr>
              <a:stCxn id="140" idx="0"/>
              <a:endCxn id="144" idx="2"/>
            </p:cNvCxnSpPr>
            <p:nvPr/>
          </p:nvCxnSpPr>
          <p:spPr>
            <a:xfrm flipV="1" rot="16200000">
              <a:off x="6179040" y="1576080"/>
              <a:ext cx="199440" cy="3264840"/>
            </a:xfrm>
            <a:prstGeom prst="bentConnector3">
              <a:avLst>
                <a:gd name="adj1" fmla="val 51175"/>
              </a:avLst>
            </a:prstGeom>
            <a:ln w="28440">
              <a:solidFill>
                <a:srgbClr val="3d3d66"/>
              </a:solidFill>
              <a:miter/>
            </a:ln>
          </p:spPr>
        </p:cxnSp>
        <p:cxnSp>
          <p:nvCxnSpPr>
            <p:cNvPr id="145" name="_s114694"/>
            <p:cNvCxnSpPr>
              <a:stCxn id="146" idx="3"/>
              <a:endCxn id="147" idx="2"/>
            </p:cNvCxnSpPr>
            <p:nvPr/>
          </p:nvCxnSpPr>
          <p:spPr>
            <a:xfrm flipV="1">
              <a:off x="5810760" y="3731400"/>
              <a:ext cx="235440" cy="996480"/>
            </a:xfrm>
            <a:prstGeom prst="bentConnector2">
              <a:avLst/>
            </a:prstGeom>
            <a:ln w="28440">
              <a:solidFill>
                <a:srgbClr val="3d3d66"/>
              </a:solidFill>
              <a:miter/>
            </a:ln>
          </p:spPr>
        </p:cxnSp>
        <p:cxnSp>
          <p:nvCxnSpPr>
            <p:cNvPr id="148" name="_s114695"/>
            <p:cNvCxnSpPr>
              <a:stCxn id="149" idx="3"/>
              <a:endCxn id="147" idx="2"/>
            </p:cNvCxnSpPr>
            <p:nvPr/>
          </p:nvCxnSpPr>
          <p:spPr>
            <a:xfrm flipV="1">
              <a:off x="5810760" y="3731040"/>
              <a:ext cx="235440" cy="415080"/>
            </a:xfrm>
            <a:prstGeom prst="bentConnector2">
              <a:avLst/>
            </a:prstGeom>
            <a:ln w="28440">
              <a:solidFill>
                <a:srgbClr val="3d3d66"/>
              </a:solidFill>
              <a:miter/>
            </a:ln>
          </p:spPr>
        </p:cxnSp>
        <p:cxnSp>
          <p:nvCxnSpPr>
            <p:cNvPr id="150" name="_s114696"/>
            <p:cNvCxnSpPr>
              <a:stCxn id="151" idx="3"/>
              <a:endCxn id="152" idx="2"/>
            </p:cNvCxnSpPr>
            <p:nvPr/>
          </p:nvCxnSpPr>
          <p:spPr>
            <a:xfrm flipV="1">
              <a:off x="3945240" y="3731400"/>
              <a:ext cx="235440" cy="996480"/>
            </a:xfrm>
            <a:prstGeom prst="bentConnector2">
              <a:avLst/>
            </a:prstGeom>
            <a:ln w="28440">
              <a:solidFill>
                <a:srgbClr val="3d3d66"/>
              </a:solidFill>
              <a:miter/>
            </a:ln>
          </p:spPr>
        </p:cxnSp>
        <p:cxnSp>
          <p:nvCxnSpPr>
            <p:cNvPr id="153" name="_s114697"/>
            <p:cNvCxnSpPr>
              <a:stCxn id="154" idx="3"/>
              <a:endCxn id="152" idx="2"/>
            </p:cNvCxnSpPr>
            <p:nvPr/>
          </p:nvCxnSpPr>
          <p:spPr>
            <a:xfrm flipV="1">
              <a:off x="3945240" y="3731040"/>
              <a:ext cx="235440" cy="415080"/>
            </a:xfrm>
            <a:prstGeom prst="bentConnector2">
              <a:avLst/>
            </a:prstGeom>
            <a:ln w="28440">
              <a:solidFill>
                <a:srgbClr val="3d3d66"/>
              </a:solidFill>
              <a:miter/>
            </a:ln>
          </p:spPr>
        </p:cxnSp>
        <p:cxnSp>
          <p:nvCxnSpPr>
            <p:cNvPr id="155" name="_s114698"/>
            <p:cNvCxnSpPr>
              <a:stCxn id="156" idx="3"/>
              <a:endCxn id="157" idx="2"/>
            </p:cNvCxnSpPr>
            <p:nvPr/>
          </p:nvCxnSpPr>
          <p:spPr>
            <a:xfrm flipV="1">
              <a:off x="2079720" y="3731400"/>
              <a:ext cx="235440" cy="996480"/>
            </a:xfrm>
            <a:prstGeom prst="bentConnector2">
              <a:avLst/>
            </a:prstGeom>
            <a:ln w="28440">
              <a:solidFill>
                <a:srgbClr val="3d3d66"/>
              </a:solidFill>
              <a:miter/>
            </a:ln>
          </p:spPr>
        </p:cxnSp>
        <p:cxnSp>
          <p:nvCxnSpPr>
            <p:cNvPr id="158" name="_s114699"/>
            <p:cNvCxnSpPr>
              <a:stCxn id="159" idx="3"/>
              <a:endCxn id="157" idx="2"/>
            </p:cNvCxnSpPr>
            <p:nvPr/>
          </p:nvCxnSpPr>
          <p:spPr>
            <a:xfrm flipV="1">
              <a:off x="2079720" y="3731040"/>
              <a:ext cx="235440" cy="415080"/>
            </a:xfrm>
            <a:prstGeom prst="bentConnector2">
              <a:avLst/>
            </a:prstGeom>
            <a:ln w="28440">
              <a:solidFill>
                <a:srgbClr val="3d3d66"/>
              </a:solidFill>
              <a:miter/>
            </a:ln>
          </p:spPr>
        </p:cxnSp>
        <p:cxnSp>
          <p:nvCxnSpPr>
            <p:cNvPr id="160" name="_s114700"/>
            <p:cNvCxnSpPr>
              <a:stCxn id="147" idx="0"/>
              <a:endCxn id="144" idx="2"/>
            </p:cNvCxnSpPr>
            <p:nvPr/>
          </p:nvCxnSpPr>
          <p:spPr>
            <a:xfrm flipV="1" rot="16200000">
              <a:off x="5246280" y="2508840"/>
              <a:ext cx="199440" cy="1399320"/>
            </a:xfrm>
            <a:prstGeom prst="bentConnector3">
              <a:avLst>
                <a:gd name="adj1" fmla="val 51175"/>
              </a:avLst>
            </a:prstGeom>
            <a:ln w="28440">
              <a:solidFill>
                <a:srgbClr val="3d3d66"/>
              </a:solidFill>
              <a:miter/>
            </a:ln>
          </p:spPr>
        </p:cxnSp>
        <p:cxnSp>
          <p:nvCxnSpPr>
            <p:cNvPr id="161" name="_s114701"/>
            <p:cNvCxnSpPr>
              <a:stCxn id="152" idx="0"/>
              <a:endCxn id="144" idx="2"/>
            </p:cNvCxnSpPr>
            <p:nvPr/>
          </p:nvCxnSpPr>
          <p:spPr>
            <a:xfrm flipH="1" flipV="1" rot="5400000">
              <a:off x="4313880" y="2975040"/>
              <a:ext cx="199440" cy="467280"/>
            </a:xfrm>
            <a:prstGeom prst="bentConnector3">
              <a:avLst>
                <a:gd name="adj1" fmla="val 51175"/>
              </a:avLst>
            </a:prstGeom>
            <a:ln w="28440">
              <a:solidFill>
                <a:srgbClr val="3d3d66"/>
              </a:solidFill>
              <a:miter/>
            </a:ln>
          </p:spPr>
        </p:cxnSp>
        <p:cxnSp>
          <p:nvCxnSpPr>
            <p:cNvPr id="162" name="_s114702"/>
            <p:cNvCxnSpPr>
              <a:stCxn id="157" idx="0"/>
              <a:endCxn id="144" idx="2"/>
            </p:cNvCxnSpPr>
            <p:nvPr/>
          </p:nvCxnSpPr>
          <p:spPr>
            <a:xfrm flipH="1" flipV="1" rot="5400000">
              <a:off x="3381120" y="2042280"/>
              <a:ext cx="199440" cy="2332800"/>
            </a:xfrm>
            <a:prstGeom prst="bentConnector3">
              <a:avLst>
                <a:gd name="adj1" fmla="val 51175"/>
              </a:avLst>
            </a:prstGeom>
            <a:ln w="28440">
              <a:solidFill>
                <a:srgbClr val="3d3d66"/>
              </a:solidFill>
              <a:miter/>
            </a:ln>
          </p:spPr>
        </p:cxnSp>
        <p:sp>
          <p:nvSpPr>
            <p:cNvPr id="144" name="_s114703"/>
            <p:cNvSpPr/>
            <p:nvPr/>
          </p:nvSpPr>
          <p:spPr>
            <a:xfrm>
              <a:off x="3328200" y="2696040"/>
              <a:ext cx="2634840" cy="395280"/>
            </a:xfrm>
            <a:prstGeom prst="roundRect">
              <a:avLst>
                <a:gd name="adj" fmla="val 16667"/>
              </a:avLst>
            </a:prstGeom>
            <a:solidFill>
              <a:srgbClr val="c2c2ff"/>
            </a:solidFill>
            <a:ln w="381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Les sports saisonni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4704"/>
            <p:cNvSpPr/>
            <p:nvPr/>
          </p:nvSpPr>
          <p:spPr>
            <a:xfrm>
              <a:off x="1615320" y="3322080"/>
              <a:ext cx="1397160" cy="395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2844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Arial"/>
                </a:rPr>
                <a:t>Printem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14705"/>
            <p:cNvSpPr/>
            <p:nvPr/>
          </p:nvSpPr>
          <p:spPr>
            <a:xfrm>
              <a:off x="3480840" y="3322080"/>
              <a:ext cx="1397160" cy="395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2844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Arial"/>
                </a:rPr>
                <a:t>É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14706"/>
            <p:cNvSpPr/>
            <p:nvPr/>
          </p:nvSpPr>
          <p:spPr>
            <a:xfrm>
              <a:off x="5346360" y="3322080"/>
              <a:ext cx="1397160" cy="395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2844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Arial"/>
                </a:rPr>
                <a:t>Autom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4707"/>
            <p:cNvSpPr/>
            <p:nvPr/>
          </p:nvSpPr>
          <p:spPr>
            <a:xfrm>
              <a:off x="681120" y="3948480"/>
              <a:ext cx="1398600" cy="394200"/>
            </a:xfrm>
            <a:prstGeom prst="roundRect">
              <a:avLst>
                <a:gd name="adj" fmla="val 16667"/>
              </a:avLst>
            </a:prstGeom>
            <a:solidFill>
              <a:srgbClr val="8d8deb"/>
            </a:solidFill>
            <a:ln w="324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Arial"/>
                </a:rPr>
                <a:t>Raf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4708"/>
            <p:cNvSpPr/>
            <p:nvPr/>
          </p:nvSpPr>
          <p:spPr>
            <a:xfrm>
              <a:off x="681120" y="4529520"/>
              <a:ext cx="1398600" cy="393840"/>
            </a:xfrm>
            <a:prstGeom prst="roundRect">
              <a:avLst>
                <a:gd name="adj" fmla="val 16667"/>
              </a:avLst>
            </a:prstGeom>
            <a:solidFill>
              <a:srgbClr val="8d8deb"/>
            </a:solidFill>
            <a:ln w="324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Arial"/>
                </a:rPr>
                <a:t>Bow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14709"/>
            <p:cNvSpPr/>
            <p:nvPr/>
          </p:nvSpPr>
          <p:spPr>
            <a:xfrm>
              <a:off x="2546640" y="3948480"/>
              <a:ext cx="1398600" cy="394200"/>
            </a:xfrm>
            <a:prstGeom prst="roundRect">
              <a:avLst>
                <a:gd name="adj" fmla="val 16667"/>
              </a:avLst>
            </a:prstGeom>
            <a:solidFill>
              <a:srgbClr val="8d8deb"/>
            </a:solidFill>
            <a:ln w="324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Arial"/>
                </a:rPr>
                <a:t>Balle mol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14710"/>
            <p:cNvSpPr/>
            <p:nvPr/>
          </p:nvSpPr>
          <p:spPr>
            <a:xfrm>
              <a:off x="2546640" y="4529520"/>
              <a:ext cx="1398600" cy="393840"/>
            </a:xfrm>
            <a:prstGeom prst="roundRect">
              <a:avLst>
                <a:gd name="adj" fmla="val 16667"/>
              </a:avLst>
            </a:prstGeom>
            <a:solidFill>
              <a:srgbClr val="8d8deb"/>
            </a:solidFill>
            <a:ln w="324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960" rIns="3996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Arial"/>
                </a:rPr>
                <a:t>Soc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14711"/>
            <p:cNvSpPr/>
            <p:nvPr/>
          </p:nvSpPr>
          <p:spPr>
            <a:xfrm>
              <a:off x="4411440" y="3948480"/>
              <a:ext cx="1399320" cy="394200"/>
            </a:xfrm>
            <a:prstGeom prst="roundRect">
              <a:avLst>
                <a:gd name="adj" fmla="val 16667"/>
              </a:avLst>
            </a:prstGeom>
            <a:solidFill>
              <a:srgbClr val="8d8deb"/>
            </a:solidFill>
            <a:ln w="324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000" rIns="4500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Arial"/>
                </a:rPr>
                <a:t>Vélo de montag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14712"/>
            <p:cNvSpPr/>
            <p:nvPr/>
          </p:nvSpPr>
          <p:spPr>
            <a:xfrm>
              <a:off x="4411440" y="4529520"/>
              <a:ext cx="1399320" cy="393840"/>
            </a:xfrm>
            <a:prstGeom prst="roundRect">
              <a:avLst>
                <a:gd name="adj" fmla="val 16667"/>
              </a:avLst>
            </a:prstGeom>
            <a:solidFill>
              <a:srgbClr val="8d8deb"/>
            </a:solidFill>
            <a:ln w="324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Arial"/>
                </a:rPr>
                <a:t>Randonnée pédest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14714"/>
            <p:cNvSpPr/>
            <p:nvPr/>
          </p:nvSpPr>
          <p:spPr>
            <a:xfrm>
              <a:off x="7211880" y="3322080"/>
              <a:ext cx="1396800" cy="395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2844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0200" rIns="702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Arial"/>
                </a:rPr>
                <a:t>Hi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14716"/>
            <p:cNvSpPr/>
            <p:nvPr/>
          </p:nvSpPr>
          <p:spPr>
            <a:xfrm>
              <a:off x="6276960" y="3948480"/>
              <a:ext cx="1399320" cy="395280"/>
            </a:xfrm>
            <a:prstGeom prst="roundRect">
              <a:avLst>
                <a:gd name="adj" fmla="val 16667"/>
              </a:avLst>
            </a:prstGeom>
            <a:solidFill>
              <a:srgbClr val="8d8deb"/>
            </a:solidFill>
            <a:ln w="324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Arial"/>
                </a:rPr>
                <a:t>Motonei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14720"/>
            <p:cNvSpPr/>
            <p:nvPr/>
          </p:nvSpPr>
          <p:spPr>
            <a:xfrm>
              <a:off x="6276960" y="4530960"/>
              <a:ext cx="1399320" cy="395280"/>
            </a:xfrm>
            <a:prstGeom prst="roundRect">
              <a:avLst>
                <a:gd name="adj" fmla="val 16667"/>
              </a:avLst>
            </a:prstGeom>
            <a:solidFill>
              <a:srgbClr val="8d8deb"/>
            </a:solidFill>
            <a:ln w="324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000" spc="-1" strike="noStrike">
                  <a:solidFill>
                    <a:srgbClr val="000000"/>
                  </a:solidFill>
                  <a:latin typeface="Arial"/>
                </a:rPr>
                <a:t>Hocke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D13616-4AC1-44BA-AA35-542BA111B91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Notre responsabi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25200" y="2324160"/>
            <a:ext cx="3692880" cy="3197520"/>
            <a:chOff x="2725200" y="2324160"/>
            <a:chExt cx="3692880" cy="3197520"/>
          </a:xfrm>
        </p:grpSpPr>
        <p:sp>
          <p:nvSpPr>
            <p:cNvPr id="165" name="_s115730"/>
            <p:cNvSpPr/>
            <p:nvPr/>
          </p:nvSpPr>
          <p:spPr>
            <a:xfrm flipV="1">
              <a:off x="3648240" y="2323800"/>
              <a:ext cx="1847160" cy="1598760"/>
            </a:xfrm>
            <a:custGeom>
              <a:avLst/>
              <a:gdLst>
                <a:gd name="textAreaLeft" fmla="*/ 662760 w 1847160"/>
                <a:gd name="textAreaRight" fmla="*/ 1184400 w 1847160"/>
                <a:gd name="textAreaTop" fmla="*/ 573480 h 1598760"/>
                <a:gd name="textAreaBottom" fmla="*/ 1025280 h 159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B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5732"/>
            <p:cNvSpPr/>
            <p:nvPr/>
          </p:nvSpPr>
          <p:spPr>
            <a:xfrm flipV="1">
              <a:off x="2725200" y="3922560"/>
              <a:ext cx="3692880" cy="1598760"/>
            </a:xfrm>
            <a:custGeom>
              <a:avLst/>
              <a:gdLst>
                <a:gd name="textAreaLeft" fmla="*/ 812160 w 3692880"/>
                <a:gd name="textAreaRight" fmla="*/ 2880720 w 3692880"/>
                <a:gd name="textAreaTop" fmla="*/ 351360 h 1598760"/>
                <a:gd name="textAreaBottom" fmla="*/ 1247400 h 159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VOUS SERV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FD5A1C-F219-4B30-BCEB-BA3DC9B8689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089000" y="608040"/>
          <a:ext cx="708336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608040"/>
                    <a:ext cx="70833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2C601E-06A7-4E3F-949B-373CE7BEAE2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089000" y="608040"/>
          <a:ext cx="708336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608040"/>
                    <a:ext cx="70833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8F450D-20D5-45FD-B98E-2A3149A9A90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Bon voy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305080" y="2971800"/>
            <a:ext cx="4533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venez nous voi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03640" y="4221000"/>
            <a:ext cx="2257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us les a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B95F3B-2F35-421C-AD9F-40B1C3101DD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ffffff"/>
                </a:solidFill>
                <a:latin typeface="Impact"/>
              </a:rPr>
              <a:t>Première part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Les différentes ré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Les différent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La Gaspé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roche perc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La Baie des Chal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La Côte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Le Saguenay Lac St-J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vie après le dél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6B4354-93EE-4FBD-9DD6-BCFDBD86DCE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ouvenirs inoubl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égustation typ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arte aux bleu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uding chôm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âté chin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ouvenirs typ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tatuette en pierre à sav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o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0B18E7-793A-4CC3-B589-A82FF2189A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Deux façons de découvrir la provi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Voyage famil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isiter le biodô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écouvrir le Montréal souter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e promener en traîn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Voyage d’aven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ser une nuit dans un igl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ratter le ventre d’une bal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oûter le caribou au carna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20B1F7-DB33-4A0E-A743-25584703FB6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Festivals à ne pas manqu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estival de l’oie de Montmag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estival de Jaz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Festival du Mont Trembl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3154320" cy="246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4FC743-A6EA-41BD-BAB3-CA82A9FBAF6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rajet recommand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1851120" cy="1761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rot="936600">
            <a:off x="3419280" y="1916280"/>
            <a:ext cx="1728720" cy="502920"/>
          </a:xfrm>
          <a:prstGeom prst="rightArrow">
            <a:avLst>
              <a:gd name="adj1" fmla="val 50000"/>
              <a:gd name="adj2" fmla="val 85934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2781360"/>
            <a:ext cx="215892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Gas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516640"/>
            <a:ext cx="215892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Qué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3750200">
            <a:off x="1187640" y="4437000"/>
            <a:ext cx="1728720" cy="503280"/>
          </a:xfrm>
          <a:prstGeom prst="rightArrow">
            <a:avLst>
              <a:gd name="adj1" fmla="val 50000"/>
              <a:gd name="adj2" fmla="val 85873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2708280"/>
            <a:ext cx="215928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7798800">
            <a:off x="5940000" y="4149360"/>
            <a:ext cx="1728720" cy="503280"/>
          </a:xfrm>
          <a:prstGeom prst="rightArrow">
            <a:avLst>
              <a:gd name="adj1" fmla="val 50000"/>
              <a:gd name="adj2" fmla="val 85873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F5CFB0-D4BE-4C91-B3BA-2597B9A6F7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flipH="1">
            <a:off x="1042560" y="2133720"/>
            <a:ext cx="1817640" cy="1753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Accueil des touri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3860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Arrivée à l’aéro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2492280"/>
            <a:ext cx="2952720" cy="1368360"/>
          </a:xfrm>
          <a:prstGeom prst="upArrowCallout">
            <a:avLst>
              <a:gd name="adj1" fmla="val 53951"/>
              <a:gd name="adj2" fmla="val 53946"/>
              <a:gd name="adj3" fmla="val 16667"/>
              <a:gd name="adj4" fmla="val 66660"/>
            </a:avLst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Choix de l’itinér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484280"/>
            <a:ext cx="1512720" cy="1584360"/>
          </a:xfrm>
          <a:prstGeom prst="sun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000800">
            <a:off x="4068360" y="3931920"/>
            <a:ext cx="862200" cy="2446200"/>
          </a:xfrm>
          <a:custGeom>
            <a:avLst/>
            <a:gdLst>
              <a:gd name="textAreaLeft" fmla="*/ 115200 w 862200"/>
              <a:gd name="textAreaRight" fmla="*/ 747000 w 862200"/>
              <a:gd name="textAreaTop" fmla="*/ 428040 h 2446200"/>
              <a:gd name="textAreaBottom" fmla="*/ 1773720 h 24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1B66B6-0297-4E05-9EB5-A24CB79EA9D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Périodes dangere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g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s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te des g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e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ches noi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g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e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E84FAA-83C3-4505-AF7D-AC285EE57C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6:33:43Z</dcterms:created>
  <dc:creator>ldupont</dc:creator>
  <dc:description/>
  <dc:language>en-US</dc:language>
  <cp:lastModifiedBy>Caroline Lavoie</cp:lastModifiedBy>
  <dcterms:modified xsi:type="dcterms:W3CDTF">2006-02-22T01:44:28Z</dcterms:modified>
  <cp:revision>21</cp:revision>
  <dc:subject/>
  <dc:title>Les attractions touristiques de la province de Québe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