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EE07-FA53-417E-AF68-E78B599A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1F1-C606-401B-AC8D-2B08593C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C76E-4951-4B0E-B83E-B3B81DCE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190C-D735-4148-B701-0171BD25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684C-D498-4B43-8CB7-51DBD8783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5E51-0216-417E-8258-3155F799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4396-B184-4288-9461-A23CFAAF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75B1-AF4F-4738-9386-C84F570C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E437-02B5-489C-903C-03C2364B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9A8B-E538-4829-ADBD-519AC949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D7A4-6388-42EA-AEE3-B66B0CC8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2E7C-1F4C-4815-A9BB-B13FB7E4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D745-0DC9-4BAD-8955-97528438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3983-C621-4887-B340-92A7F60D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504E-42D6-4B46-91E5-453F5DDB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B6D1-D987-4776-B3E3-A65E2837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DFEF-1CFA-469A-853C-C7F41F65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BE59-7AFB-4D8B-B225-79395932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34E4-9B34-4F12-8229-2C0D92B9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220B-DE9E-4340-B593-572D277C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EEAB-1864-43A0-9058-3999F717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0D06-488C-40E9-A13F-1BF1D61D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B237-C73C-4950-AC7A-CB684226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8384-26E7-443C-A0CB-52B99A2D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E372-9D2D-44CD-8BFC-A55C566A9C82}" type="slidenum">
              <a:rPr b="0" lang="fr-FR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EA8E-0E79-4150-9465-2C7AD2DE85AB}" type="slidenum">
              <a:rPr b="0" lang="fr-FR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2400" y="2341080"/>
            <a:ext cx="739116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996633"/>
                </a:solidFill>
                <a:latin typeface="Times New Roman"/>
              </a:rPr>
              <a:t>Autour du glob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Services complets de voy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996633"/>
                </a:solidFill>
                <a:latin typeface="Times New Roman"/>
              </a:rPr>
              <a:t>Pourquoi part-on en voyage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Présenté par Josée Mi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8920" y="839520"/>
            <a:ext cx="756432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996633"/>
                </a:solidFill>
                <a:latin typeface="Times New Roman"/>
              </a:rPr>
              <a:t>Types de voyag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Plais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Sole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Croisiè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Santé et re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Expl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Affa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tn00686_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354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8920" y="839520"/>
            <a:ext cx="756432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996633"/>
                </a:solidFill>
                <a:latin typeface="Times New Roman"/>
              </a:rPr>
              <a:t>Soleil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6688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La p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Les activités extéri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Le pay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le re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so01038_" descr=""/>
          <p:cNvPicPr/>
          <p:nvPr/>
        </p:nvPicPr>
        <p:blipFill>
          <a:blip r:embed="rId2"/>
          <a:stretch/>
        </p:blipFill>
        <p:spPr>
          <a:xfrm>
            <a:off x="1757520" y="2438280"/>
            <a:ext cx="345888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839520"/>
            <a:ext cx="756432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996633"/>
                </a:solidFill>
                <a:latin typeface="Times New Roman"/>
              </a:rPr>
              <a:t>Affair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6688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Salle de confé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SzPct val="95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Service de secré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Location d ’équip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Activités en soir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e01561_" descr=""/>
          <p:cNvPicPr/>
          <p:nvPr/>
        </p:nvPicPr>
        <p:blipFill>
          <a:blip r:embed="rId2"/>
          <a:stretch/>
        </p:blipFill>
        <p:spPr>
          <a:xfrm>
            <a:off x="1479600" y="2798640"/>
            <a:ext cx="37368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839520"/>
            <a:ext cx="756432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996633"/>
                </a:solidFill>
                <a:latin typeface="Times New Roman"/>
              </a:rPr>
              <a:t>Vent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479600" y="1981080"/>
          <a:ext cx="762624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9600" y="1981080"/>
                    <a:ext cx="7626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057400"/>
            <a:ext cx="3700440" cy="21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2" name="bd06518_" descr=""/>
          <p:cNvPicPr/>
          <p:nvPr/>
        </p:nvPicPr>
        <p:blipFill>
          <a:blip r:embed="rId2"/>
          <a:stretch/>
        </p:blipFill>
        <p:spPr>
          <a:xfrm>
            <a:off x="4952880" y="3733920"/>
            <a:ext cx="37195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839520"/>
            <a:ext cx="756432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996633"/>
                </a:solidFill>
                <a:latin typeface="Times New Roman"/>
              </a:rPr>
              <a:t>Pla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Structure de l ’entre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Services offe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Pourquoi part-on en voya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bd05680_" descr=""/>
          <p:cNvPicPr/>
          <p:nvPr/>
        </p:nvPicPr>
        <p:blipFill>
          <a:blip r:embed="rId2"/>
          <a:stretch/>
        </p:blipFill>
        <p:spPr>
          <a:xfrm>
            <a:off x="5257800" y="3962520"/>
            <a:ext cx="3133800" cy="24825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996633"/>
                </a:solidFill>
                <a:latin typeface="Times New Roman"/>
              </a:rPr>
              <a:t>Structure de l ’entrepris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Présenté par Jacques Corbe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 rot="16405800">
            <a:off x="101520" y="2340000"/>
            <a:ext cx="4006800" cy="3809880"/>
          </a:xfrm>
          <a:custGeom>
            <a:avLst/>
            <a:gdLst>
              <a:gd name="textAreaLeft" fmla="*/ 0 w 4006800"/>
              <a:gd name="textAreaRight" fmla="*/ 4007160 w 4006800"/>
              <a:gd name="textAreaTop" fmla="*/ 0 h 3809880"/>
              <a:gd name="textAreaBottom" fmla="*/ 3810240 h 3809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2321916"/>
                <a:lnTo>
                  <a:pt x="1041" y="15427"/>
                </a:lnTo>
                <a:arcTo wR="10800" hR="10800" stAng="9278084" swAng="12321916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276720" y="2133720"/>
            <a:ext cx="2438280" cy="2361960"/>
            <a:chOff x="3276720" y="2133720"/>
            <a:chExt cx="2438280" cy="2361960"/>
          </a:xfrm>
        </p:grpSpPr>
        <p:sp>
          <p:nvSpPr>
            <p:cNvPr id="120" name=""/>
            <p:cNvSpPr/>
            <p:nvPr/>
          </p:nvSpPr>
          <p:spPr>
            <a:xfrm>
              <a:off x="3276720" y="2133720"/>
              <a:ext cx="2438280" cy="2361960"/>
            </a:xfrm>
            <a:custGeom>
              <a:avLst/>
              <a:gdLst>
                <a:gd name="textAreaLeft" fmla="*/ 556560 w 2438280"/>
                <a:gd name="textAreaRight" fmla="*/ 1881720 w 2438280"/>
                <a:gd name="textAreaTop" fmla="*/ 539280 h 2361960"/>
                <a:gd name="textAreaBottom" fmla="*/ 182268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90800" y="2876400"/>
              <a:ext cx="1447560" cy="8254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ccccff"/>
                  </a:solidFill>
                  <a:latin typeface="Times New Roman"/>
                </a:rPr>
                <a:t>Membre AS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 txBox="1"/>
          <p:nvPr/>
        </p:nvSpPr>
        <p:spPr>
          <a:xfrm rot="17126400">
            <a:off x="676800" y="2827800"/>
            <a:ext cx="2789280" cy="2924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1286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ivision de voyage d'affai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2362320"/>
            <a:ext cx="2971800" cy="1828800"/>
          </a:xfrm>
          <a:prstGeom prst="leftArrow">
            <a:avLst>
              <a:gd name="adj1" fmla="val 50000"/>
              <a:gd name="adj2" fmla="val 4062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 Black"/>
              </a:rPr>
              <a:t>Division de voy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CA" sz="2000" spc="-1" strike="noStrike">
                <a:solidFill>
                  <a:srgbClr val="000000"/>
                </a:solidFill>
                <a:latin typeface="Arial Black"/>
              </a:rPr>
              <a:t>vac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996633"/>
                </a:solidFill>
                <a:latin typeface="Times New Roman"/>
              </a:rPr>
              <a:t>Voici nos principales divisions 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839520"/>
            <a:ext cx="756432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996633"/>
                </a:solidFill>
                <a:latin typeface="Times New Roman"/>
              </a:rPr>
              <a:t>Notre personnel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93720" y="2598840"/>
          <a:ext cx="7398000" cy="287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93720" y="2598840"/>
                    <a:ext cx="7398000" cy="28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52400" y="2341080"/>
            <a:ext cx="739116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996633"/>
                </a:solidFill>
                <a:latin typeface="Times New Roman"/>
              </a:rPr>
              <a:t>Services offert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Présenté par Sophie Labr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996633"/>
                </a:solidFill>
                <a:latin typeface="Times New Roman"/>
              </a:rPr>
              <a:t>Voyages internationaux et domestiqu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Comptes corporat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Réservations automatisé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Livraison de billets d ’avion le jour mê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SzPct val="9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Tour guid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Destinations vac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8920" y="839520"/>
            <a:ext cx="756432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996633"/>
                </a:solidFill>
                <a:latin typeface="Times New Roman"/>
              </a:rPr>
              <a:t>Services spéciaux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Planifications de réun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réunions de v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Photos pass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Service le même j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T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À travers le p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996633"/>
                </a:solidFill>
                <a:latin typeface="Times New Roman"/>
              </a:rPr>
              <a:t>Destinations de voyag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479600" y="1981080"/>
          <a:ext cx="76248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9600" y="1981080"/>
                    <a:ext cx="7624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16:24:32Z</dcterms:created>
  <dc:creator>IRSST</dc:creator>
  <dc:description/>
  <dc:language>en-US</dc:language>
  <cp:lastModifiedBy>Julien</cp:lastModifiedBy>
  <cp:lastPrinted>1999-06-16T16:54:12Z</cp:lastPrinted>
  <dcterms:modified xsi:type="dcterms:W3CDTF">1999-11-04T17:09:18Z</dcterms:modified>
  <cp:revision>21</cp:revision>
  <dc:subject/>
  <dc:title>Autour du Globe</dc:title>
</cp:coreProperties>
</file>