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9E8-A784-4245-ADBA-F073295B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166-6EC6-477F-8527-77A9C388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A3A-A247-4CA9-B9B2-1A635503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464-6983-4AFF-8382-96766F69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A890-7BE1-48EE-8675-F4191E3E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832E-245A-4FF3-BEEE-0DC2D952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8B11-842C-4649-8D3E-CDAFF37F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2091-87B2-4AFB-8004-7039C8F3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7EB7-7733-4B46-BC0F-7E1C167D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25F1-5EF5-46B9-9D1C-127A7CAE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5A7A-54EF-4085-A0B4-F8CADF43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168-2D1E-44CF-B3C2-F9404A80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FC0A-65FA-4D5E-9629-36BAD65D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D584-FDCA-436D-B6E9-96AE8755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0C92-E0AC-4732-A5B5-9A8D44C9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63B2-311D-4B72-9A60-D98133C0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D9E8-8085-49C4-B0D7-97FC5532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FF0B-3392-47D8-9434-EC4DF53B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AA00-6BA1-4C59-8994-2EA69C3E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39FE-E2B0-4638-8A61-CDCC987E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03DB-EF09-4575-A128-825AD493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87AF-4C6E-4F69-BCE3-6EBE056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8C7-36F3-4FE3-B44C-D9D30F8E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1EBE-B67F-4EA5-9652-980CBAC4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BCB3-D4F8-4771-9DF0-026ECAF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8336-8FAF-4631-9758-760B95B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E41B-7A30-4F33-A581-2D8D8B5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12DC-CAB3-494B-B213-8AC4C50B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4A27C-8F7F-40BB-95B5-3281DB23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0C67-3D9F-4494-8C3C-7EB74D4B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B2A8-1CE0-4794-9A06-755DA140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F29B7-C041-4CF7-926F-F5FA8834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2000-3E3A-47D6-A932-95C1C881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4B5-3C49-49C6-AD4F-5E01423F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508C-9E16-4A91-8543-D2DBC91A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C25F-7AE2-450C-B5C8-DDA35DD8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9061-9C90-4DB2-BE2F-6D78B467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BE89-DCFB-49F8-8414-794FD11F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AB05F-E72E-4371-BC6F-8A5EF7DC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7BD1-48B3-4885-8A9B-44090F8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50F6-8856-41FA-8A6C-385DF84B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13A3-A68B-4E81-ABDE-335E0F2A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0197-0E6F-4601-9967-F1936CD4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F9DE9-E84B-4B95-82DB-B78CEF78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59D-7D57-406C-8D2D-5AE2A0C1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C4F86-CD9B-479E-A8FB-B6442616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6605E-FC38-485F-A3D2-5FDE75C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528E-5BFE-458A-914A-876AE46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223B0-4A56-48FB-9767-65832E44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BD6E-9072-4164-A785-9651F0FD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3C6D0-3F2F-4F5F-8FBC-6B0816E6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673B-35EE-4BFB-86A6-80D35957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2510-093F-4B62-A53E-9CA116A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A4A06-E7FC-4842-B15E-1C64D1D2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B7816-662D-4CD0-8D59-D05EF1A4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126-7438-498B-B267-66D0A895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A7B8-5C01-4A63-AFEF-415AEB12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8BC69-38B1-4447-9254-72D9C718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EC082-02B5-418F-A68D-5EF78CE1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0B9D-392D-4B0D-B580-6EF8E7F8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D150-F5F5-4FA5-A6D0-F258C83D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66C6-E4E9-455C-A5A4-F8B79913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5B5C-2691-4074-BC2E-8C045ADD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8065-F121-44B0-BC8B-E7BAC08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29C9D-35F4-4751-BCBD-39FE2D3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97D03-8662-48E3-A369-DF17572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84F-B725-4D02-93B1-F5AD6085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13595-79DC-4BE1-925C-A54A7A0C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66F05-B673-4313-A5F2-E20C9E44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7F34-0B11-4944-9C98-96ECAD81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562-502D-4561-81A7-0AEA675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4B9-8FCC-44B7-AE0D-A971DE21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DB87-36E8-46B6-9EB8-7F1A6B1C708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B571-37E2-4228-88BB-756CFCD0E70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9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DAA7-817A-4CB6-A95C-6D611C586B35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3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3373-E1F1-4D5B-9A59-0FD3D918BB23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B03B-11F1-4E38-AED5-602FAB3B39D7}" type="slidenum">
              <a:rPr b="0" lang="fr-C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Click to edit the outline text format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Third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Fourth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Fifth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Sixth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Seventh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399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499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ee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ee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4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51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ECAD-4BC3-45DA-BCAE-83EB11E7F740}" type="slidenum">
              <a:rPr b="0" lang="fr-C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Times New Roman"/>
              </a:rPr>
              <a:t>Bilan annuel de votre compagni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3366"/>
                </a:solidFill>
                <a:latin typeface="Times New Roman"/>
              </a:rPr>
              <a:t>Présenté par Jacques Laflamm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666880" cy="26542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5475240" y="3048120"/>
            <a:ext cx="4557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3366"/>
                </a:solidFill>
                <a:latin typeface="Times New Roman"/>
              </a:rPr>
              <a:t>Service à la clientè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cc99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cc99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3366"/>
                </a:solidFill>
                <a:latin typeface="Times New Roman"/>
              </a:rPr>
              <a:t>Responsables par rég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47640" y="2277000"/>
            <a:ext cx="8496000" cy="2507040"/>
            <a:chOff x="647640" y="2277000"/>
            <a:chExt cx="8496000" cy="2507040"/>
          </a:xfrm>
        </p:grpSpPr>
        <p:cxnSp>
          <p:nvCxnSpPr>
            <p:cNvPr id="608" name="_s43039"/>
            <p:cNvCxnSpPr>
              <a:stCxn id="609" idx="2"/>
              <a:endCxn id="610" idx="3"/>
            </p:cNvCxnSpPr>
            <p:nvPr/>
          </p:nvCxnSpPr>
          <p:spPr>
            <a:xfrm rot="10800000">
              <a:off x="7068600" y="3238920"/>
              <a:ext cx="317880" cy="13928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11" name="_s43037"/>
            <p:cNvCxnSpPr>
              <a:stCxn id="612" idx="2"/>
              <a:endCxn id="610" idx="3"/>
            </p:cNvCxnSpPr>
            <p:nvPr/>
          </p:nvCxnSpPr>
          <p:spPr>
            <a:xfrm rot="10800000">
              <a:off x="7068600" y="3238920"/>
              <a:ext cx="317880" cy="87768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13" name="_s43035"/>
            <p:cNvCxnSpPr>
              <a:stCxn id="614" idx="2"/>
              <a:endCxn id="610" idx="3"/>
            </p:cNvCxnSpPr>
            <p:nvPr/>
          </p:nvCxnSpPr>
          <p:spPr>
            <a:xfrm rot="10800000">
              <a:off x="7068600" y="3238920"/>
              <a:ext cx="317880" cy="3632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15" name="_s43033"/>
            <p:cNvCxnSpPr>
              <a:stCxn id="616" idx="4"/>
              <a:endCxn id="617" idx="3"/>
            </p:cNvCxnSpPr>
            <p:nvPr/>
          </p:nvCxnSpPr>
          <p:spPr>
            <a:xfrm flipV="1">
              <a:off x="4711320" y="3238920"/>
              <a:ext cx="308160" cy="13928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18" name="_s43031"/>
            <p:cNvCxnSpPr>
              <a:stCxn id="619" idx="4"/>
              <a:endCxn id="617" idx="3"/>
            </p:cNvCxnSpPr>
            <p:nvPr/>
          </p:nvCxnSpPr>
          <p:spPr>
            <a:xfrm flipV="1">
              <a:off x="4711320" y="3239280"/>
              <a:ext cx="308160" cy="87768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0" name="_s43029"/>
            <p:cNvCxnSpPr>
              <a:stCxn id="621" idx="4"/>
              <a:endCxn id="617" idx="3"/>
            </p:cNvCxnSpPr>
            <p:nvPr/>
          </p:nvCxnSpPr>
          <p:spPr>
            <a:xfrm flipV="1">
              <a:off x="4711320" y="3238920"/>
              <a:ext cx="308160" cy="3632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2" name="_s43027"/>
            <p:cNvCxnSpPr>
              <a:stCxn id="623" idx="4"/>
              <a:endCxn id="624" idx="3"/>
            </p:cNvCxnSpPr>
            <p:nvPr/>
          </p:nvCxnSpPr>
          <p:spPr>
            <a:xfrm flipV="1">
              <a:off x="2367720" y="3239280"/>
              <a:ext cx="305640" cy="87768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5" name="_s43023"/>
            <p:cNvCxnSpPr>
              <a:stCxn id="626" idx="4"/>
              <a:endCxn id="624" idx="3"/>
            </p:cNvCxnSpPr>
            <p:nvPr/>
          </p:nvCxnSpPr>
          <p:spPr>
            <a:xfrm flipV="1">
              <a:off x="2367720" y="3238920"/>
              <a:ext cx="305640" cy="3632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7" name="_s43021"/>
            <p:cNvCxnSpPr>
              <a:stCxn id="610" idx="0"/>
              <a:endCxn id="628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9" name="_s43020"/>
            <p:cNvCxnSpPr>
              <a:stCxn id="617" idx="0"/>
              <a:endCxn id="628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30" name="_s43019"/>
            <p:cNvCxnSpPr>
              <a:stCxn id="624" idx="0"/>
              <a:endCxn id="628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e3e2c7"/>
              </a:solidFill>
              <a:miter/>
            </a:ln>
          </p:spPr>
        </p:cxnSp>
        <p:sp>
          <p:nvSpPr>
            <p:cNvPr id="628" name="_s43015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3366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4" name="_s43016"/>
            <p:cNvSpPr/>
            <p:nvPr/>
          </p:nvSpPr>
          <p:spPr>
            <a:xfrm>
              <a:off x="181836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7" name="_s43017"/>
            <p:cNvSpPr/>
            <p:nvPr/>
          </p:nvSpPr>
          <p:spPr>
            <a:xfrm>
              <a:off x="4161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0" name="_s43018"/>
            <p:cNvSpPr/>
            <p:nvPr/>
          </p:nvSpPr>
          <p:spPr>
            <a:xfrm>
              <a:off x="6213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6" name="_s43022"/>
            <p:cNvSpPr/>
            <p:nvPr/>
          </p:nvSpPr>
          <p:spPr>
            <a:xfrm>
              <a:off x="64764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3" name="_s43026"/>
            <p:cNvSpPr/>
            <p:nvPr/>
          </p:nvSpPr>
          <p:spPr>
            <a:xfrm>
              <a:off x="64764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1" name="_s43028"/>
            <p:cNvSpPr/>
            <p:nvPr/>
          </p:nvSpPr>
          <p:spPr>
            <a:xfrm>
              <a:off x="2991240" y="34124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9" name="_s43030"/>
            <p:cNvSpPr/>
            <p:nvPr/>
          </p:nvSpPr>
          <p:spPr>
            <a:xfrm>
              <a:off x="2991240" y="392724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6" name="_s43032"/>
            <p:cNvSpPr/>
            <p:nvPr/>
          </p:nvSpPr>
          <p:spPr>
            <a:xfrm>
              <a:off x="2991240" y="44420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4" name="_s43034"/>
            <p:cNvSpPr/>
            <p:nvPr/>
          </p:nvSpPr>
          <p:spPr>
            <a:xfrm>
              <a:off x="738648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2" name="_s43036"/>
            <p:cNvSpPr/>
            <p:nvPr/>
          </p:nvSpPr>
          <p:spPr>
            <a:xfrm>
              <a:off x="738648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9" name="_s43038"/>
            <p:cNvSpPr/>
            <p:nvPr/>
          </p:nvSpPr>
          <p:spPr>
            <a:xfrm>
              <a:off x="7386480" y="44420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cc"/>
                </a:solidFill>
                <a:latin typeface="Book Antiqua"/>
              </a:rPr>
              <a:t>À la prochaine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0880" y="2666880"/>
            <a:ext cx="556272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0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50000">
                      <a:srgbClr val="ccccff"/>
                    </a:gs>
                    <a:gs pos="100000">
                      <a:srgbClr val="33cccc"/>
                    </a:gs>
                  </a:gsLst>
                  <a:lin ang="13500000"/>
                </a:gradFill>
                <a:latin typeface="Impact"/>
              </a:rPr>
              <a:t>Merci de vot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50000">
                    <a:srgbClr val="ccccff"/>
                  </a:gs>
                  <a:gs pos="100000">
                    <a:srgbClr val="33cccc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50000">
                      <a:srgbClr val="ccccff"/>
                    </a:gs>
                    <a:gs pos="100000">
                      <a:srgbClr val="33cccc"/>
                    </a:gs>
                  </a:gsLst>
                  <a:lin ang="13500000"/>
                </a:gradFill>
                <a:latin typeface="Impact"/>
              </a:rPr>
              <a:t>particip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50000">
                    <a:srgbClr val="ccccff"/>
                  </a:gs>
                  <a:gs pos="100000">
                    <a:srgbClr val="33cccc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5257800" y="3124080"/>
            <a:ext cx="2286000" cy="2286000"/>
            <a:chOff x="5257800" y="3124080"/>
            <a:chExt cx="2286000" cy="2286000"/>
          </a:xfrm>
        </p:grpSpPr>
        <p:pic>
          <p:nvPicPr>
            <p:cNvPr id="634" name="" descr=""/>
            <p:cNvPicPr/>
            <p:nvPr/>
          </p:nvPicPr>
          <p:blipFill>
            <a:blip r:embed="rId1"/>
            <a:stretch/>
          </p:blipFill>
          <p:spPr>
            <a:xfrm>
              <a:off x="5257800" y="3124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5410080" y="3733920"/>
              <a:ext cx="205740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2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Janvi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410080" y="3124080"/>
            <a:ext cx="2286000" cy="2286000"/>
            <a:chOff x="5410080" y="3124080"/>
            <a:chExt cx="2286000" cy="2286000"/>
          </a:xfrm>
        </p:grpSpPr>
        <p:pic>
          <p:nvPicPr>
            <p:cNvPr id="637" name="" descr=""/>
            <p:cNvPicPr/>
            <p:nvPr/>
          </p:nvPicPr>
          <p:blipFill>
            <a:blip r:embed="rId2"/>
            <a:stretch/>
          </p:blipFill>
          <p:spPr>
            <a:xfrm>
              <a:off x="5410080" y="3124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562360" y="3733920"/>
              <a:ext cx="205740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2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févri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562720" y="3124080"/>
            <a:ext cx="2286000" cy="2286000"/>
            <a:chOff x="5562720" y="3124080"/>
            <a:chExt cx="2286000" cy="2286000"/>
          </a:xfrm>
        </p:grpSpPr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5562720" y="3124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715000" y="3733920"/>
              <a:ext cx="205740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2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ma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715000" y="3124080"/>
            <a:ext cx="2286000" cy="2286000"/>
            <a:chOff x="5715000" y="3124080"/>
            <a:chExt cx="2286000" cy="2286000"/>
          </a:xfrm>
        </p:grpSpPr>
        <p:pic>
          <p:nvPicPr>
            <p:cNvPr id="643" name="" descr=""/>
            <p:cNvPicPr/>
            <p:nvPr/>
          </p:nvPicPr>
          <p:blipFill>
            <a:blip r:embed="rId4"/>
            <a:stretch/>
          </p:blipFill>
          <p:spPr>
            <a:xfrm>
              <a:off x="5715000" y="3124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5867280" y="3733920"/>
              <a:ext cx="205740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2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avril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648320" y="2057400"/>
            <a:ext cx="3504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eaeaea"/>
                </a:solidFill>
                <a:latin typeface="Times New Roman"/>
              </a:rPr>
              <a:t>Ne manquez pas n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eaeaea"/>
                </a:solidFill>
                <a:latin typeface="Times New Roman"/>
              </a:rPr>
              <a:t>prochaines démonstr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cc"/>
                </a:solidFill>
                <a:latin typeface="Book Antiqua"/>
              </a:rPr>
              <a:t>Réalisations à l’externe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09640" y="24429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eaeaea"/>
                </a:solidFill>
                <a:latin typeface="Book Antiqua"/>
              </a:rPr>
              <a:t>Ouverture de nouvelles succursales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eaeaea"/>
                </a:solidFill>
                <a:latin typeface="Book Antiqua"/>
              </a:rPr>
              <a:t>Rimouski, Chicoutimi, Rouyn-Noranda</a:t>
            </a:r>
            <a:endParaRPr b="0" lang="en-US" sz="2400" spc="-1" strike="noStrike">
              <a:solidFill>
                <a:srgbClr val="eaeaea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eaeaea"/>
                </a:solidFill>
                <a:latin typeface="Book Antiqua"/>
              </a:rPr>
              <a:t>Amélioration du service à la clientèle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eaeaea"/>
                </a:solidFill>
                <a:latin typeface="Book Antiqua"/>
              </a:rPr>
              <a:t>Heures d’ouverture prolongées</a:t>
            </a:r>
            <a:endParaRPr b="0" lang="en-US" sz="2400" spc="-1" strike="noStrike">
              <a:solidFill>
                <a:srgbClr val="eaeaea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eaeaea"/>
                </a:solidFill>
                <a:latin typeface="Book Antiqua"/>
              </a:rPr>
              <a:t>Contrôle de la qualité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eaeaea"/>
                </a:solidFill>
                <a:latin typeface="Book Antiqua"/>
              </a:rPr>
              <a:t>Campagne publicitaire à la télévision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eaeaea"/>
                </a:solidFill>
                <a:latin typeface="Book Antiqua"/>
              </a:rPr>
              <a:t>Visibilité accrue de l’entreprise</a:t>
            </a:r>
            <a:endParaRPr b="0" lang="en-US" sz="2400" spc="-1" strike="noStrike">
              <a:solidFill>
                <a:srgbClr val="eaeaea"/>
              </a:solidFill>
              <a:latin typeface="Book Antiqu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097440" y="1103760"/>
            <a:ext cx="1537200" cy="1439640"/>
            <a:chOff x="3097440" y="1103760"/>
            <a:chExt cx="1537200" cy="1439640"/>
          </a:xfrm>
        </p:grpSpPr>
        <p:sp>
          <p:nvSpPr>
            <p:cNvPr id="649" name=""/>
            <p:cNvSpPr/>
            <p:nvPr/>
          </p:nvSpPr>
          <p:spPr>
            <a:xfrm flipV="1" rot="13904400">
              <a:off x="3132360" y="1469160"/>
              <a:ext cx="1275480" cy="707760"/>
            </a:xfrm>
            <a:custGeom>
              <a:avLst/>
              <a:gdLst/>
              <a:ahLst/>
              <a:rect l="l" t="t" r="r" b="b"/>
              <a:pathLst>
                <a:path w="13660" h="7582">
                  <a:moveTo>
                    <a:pt x="13660" y="0"/>
                  </a:moveTo>
                  <a:lnTo>
                    <a:pt x="9298" y="7582"/>
                  </a:lnTo>
                  <a:lnTo>
                    <a:pt x="6384" y="5772"/>
                  </a:lnTo>
                  <a:lnTo>
                    <a:pt x="4147" y="7106"/>
                  </a:lnTo>
                  <a:lnTo>
                    <a:pt x="3580" y="3662"/>
                  </a:lnTo>
                  <a:lnTo>
                    <a:pt x="0" y="815"/>
                  </a:lnTo>
                  <a:lnTo>
                    <a:pt x="13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 rot="13904400">
              <a:off x="3233160" y="1496880"/>
              <a:ext cx="1078200" cy="595800"/>
            </a:xfrm>
            <a:custGeom>
              <a:avLst/>
              <a:gdLst/>
              <a:ahLst/>
              <a:rect l="l" t="t" r="r" b="b"/>
              <a:pathLst>
                <a:path w="11557" h="6392">
                  <a:moveTo>
                    <a:pt x="11557" y="0"/>
                  </a:moveTo>
                  <a:lnTo>
                    <a:pt x="7877" y="6392"/>
                  </a:lnTo>
                  <a:lnTo>
                    <a:pt x="4272" y="4172"/>
                  </a:lnTo>
                  <a:lnTo>
                    <a:pt x="9777" y="826"/>
                  </a:lnTo>
                  <a:lnTo>
                    <a:pt x="2856" y="2944"/>
                  </a:lnTo>
                  <a:lnTo>
                    <a:pt x="0" y="802"/>
                  </a:lnTo>
                  <a:lnTo>
                    <a:pt x="11557" y="0"/>
                  </a:lnTo>
                  <a:close/>
                </a:path>
              </a:pathLst>
            </a:custGeom>
            <a:solidFill>
              <a:srgbClr val="e0c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 rot="13904400">
              <a:off x="3672000" y="2001600"/>
              <a:ext cx="119880" cy="110160"/>
            </a:xfrm>
            <a:custGeom>
              <a:avLst/>
              <a:gdLst/>
              <a:ahLst/>
              <a:rect l="l" t="t" r="r" b="b"/>
              <a:pathLst>
                <a:path w="1287" h="1174">
                  <a:moveTo>
                    <a:pt x="674" y="0"/>
                  </a:moveTo>
                  <a:lnTo>
                    <a:pt x="0" y="1174"/>
                  </a:lnTo>
                  <a:lnTo>
                    <a:pt x="1287" y="397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200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 rot="13904400">
              <a:off x="3657960" y="1780920"/>
              <a:ext cx="291240" cy="258120"/>
            </a:xfrm>
            <a:custGeom>
              <a:avLst/>
              <a:gdLst/>
              <a:ahLst/>
              <a:rect l="l" t="t" r="r" b="b"/>
              <a:pathLst>
                <a:path w="3119" h="2768">
                  <a:moveTo>
                    <a:pt x="0" y="2768"/>
                  </a:moveTo>
                  <a:lnTo>
                    <a:pt x="560" y="1601"/>
                  </a:lnTo>
                  <a:lnTo>
                    <a:pt x="3119" y="0"/>
                  </a:lnTo>
                  <a:lnTo>
                    <a:pt x="60" y="1281"/>
                  </a:lnTo>
                  <a:lnTo>
                    <a:pt x="0" y="2768"/>
                  </a:lnTo>
                  <a:close/>
                </a:path>
              </a:pathLst>
            </a:custGeom>
            <a:solidFill>
              <a:srgbClr val="473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 rot="13904400">
              <a:off x="3490560" y="1601640"/>
              <a:ext cx="860400" cy="189360"/>
            </a:xfrm>
            <a:custGeom>
              <a:avLst/>
              <a:gdLst/>
              <a:ahLst/>
              <a:rect l="l" t="t" r="r" b="b"/>
              <a:pathLst>
                <a:path w="9215" h="2034">
                  <a:moveTo>
                    <a:pt x="9215" y="0"/>
                  </a:moveTo>
                  <a:lnTo>
                    <a:pt x="0" y="763"/>
                  </a:lnTo>
                  <a:lnTo>
                    <a:pt x="1449" y="2034"/>
                  </a:lnTo>
                  <a:lnTo>
                    <a:pt x="9215" y="0"/>
                  </a:lnTo>
                  <a:close/>
                </a:path>
              </a:pathLst>
            </a:custGeom>
            <a:solidFill>
              <a:srgbClr val="ff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 rot="13904400">
              <a:off x="3409200" y="1341000"/>
              <a:ext cx="364320" cy="488160"/>
            </a:xfrm>
            <a:custGeom>
              <a:avLst/>
              <a:gdLst/>
              <a:ahLst/>
              <a:rect l="l" t="t" r="r" b="b"/>
              <a:pathLst>
                <a:path w="3904" h="5239">
                  <a:moveTo>
                    <a:pt x="0" y="4601"/>
                  </a:moveTo>
                  <a:lnTo>
                    <a:pt x="928" y="5239"/>
                  </a:lnTo>
                  <a:lnTo>
                    <a:pt x="3904" y="0"/>
                  </a:lnTo>
                  <a:lnTo>
                    <a:pt x="0" y="4601"/>
                  </a:lnTo>
                  <a:close/>
                </a:path>
              </a:pathLst>
            </a:custGeom>
            <a:solidFill>
              <a:srgbClr val="b2a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 rot="13904400">
              <a:off x="4046400" y="1972440"/>
              <a:ext cx="707760" cy="38880"/>
            </a:xfrm>
            <a:custGeom>
              <a:avLst/>
              <a:gdLst/>
              <a:ahLst/>
              <a:rect l="l" t="t" r="r" b="b"/>
              <a:pathLst>
                <a:path w="7586" h="425">
                  <a:moveTo>
                    <a:pt x="0" y="0"/>
                  </a:moveTo>
                  <a:lnTo>
                    <a:pt x="384" y="425"/>
                  </a:lnTo>
                  <a:lnTo>
                    <a:pt x="7586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13904400">
              <a:off x="3276720" y="1248120"/>
              <a:ext cx="185040" cy="460440"/>
            </a:xfrm>
            <a:custGeom>
              <a:avLst/>
              <a:gdLst/>
              <a:ahLst/>
              <a:rect l="l" t="t" r="r" b="b"/>
              <a:pathLst>
                <a:path w="1988" h="4915">
                  <a:moveTo>
                    <a:pt x="222" y="4915"/>
                  </a:moveTo>
                  <a:lnTo>
                    <a:pt x="0" y="4484"/>
                  </a:lnTo>
                  <a:lnTo>
                    <a:pt x="1988" y="0"/>
                  </a:lnTo>
                  <a:lnTo>
                    <a:pt x="222" y="49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984560" y="1171080"/>
            <a:ext cx="1022400" cy="1441080"/>
            <a:chOff x="4984560" y="1171080"/>
            <a:chExt cx="1022400" cy="1441080"/>
          </a:xfrm>
        </p:grpSpPr>
        <p:sp>
          <p:nvSpPr>
            <p:cNvPr id="658" name=""/>
            <p:cNvSpPr/>
            <p:nvPr/>
          </p:nvSpPr>
          <p:spPr>
            <a:xfrm flipV="1" rot="15507000">
              <a:off x="4824720" y="1503720"/>
              <a:ext cx="1242000" cy="688680"/>
            </a:xfrm>
            <a:custGeom>
              <a:avLst/>
              <a:gdLst/>
              <a:ahLst/>
              <a:rect l="l" t="t" r="r" b="b"/>
              <a:pathLst>
                <a:path w="13660" h="7582">
                  <a:moveTo>
                    <a:pt x="13660" y="0"/>
                  </a:moveTo>
                  <a:lnTo>
                    <a:pt x="9298" y="7582"/>
                  </a:lnTo>
                  <a:lnTo>
                    <a:pt x="6384" y="5772"/>
                  </a:lnTo>
                  <a:lnTo>
                    <a:pt x="4147" y="7106"/>
                  </a:lnTo>
                  <a:lnTo>
                    <a:pt x="3580" y="3662"/>
                  </a:lnTo>
                  <a:lnTo>
                    <a:pt x="0" y="815"/>
                  </a:lnTo>
                  <a:lnTo>
                    <a:pt x="13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 rot="15507000">
              <a:off x="4934520" y="1534320"/>
              <a:ext cx="1050120" cy="579600"/>
            </a:xfrm>
            <a:custGeom>
              <a:avLst/>
              <a:gdLst/>
              <a:ahLst/>
              <a:rect l="l" t="t" r="r" b="b"/>
              <a:pathLst>
                <a:path w="11557" h="6392">
                  <a:moveTo>
                    <a:pt x="11557" y="0"/>
                  </a:moveTo>
                  <a:lnTo>
                    <a:pt x="7877" y="6392"/>
                  </a:lnTo>
                  <a:lnTo>
                    <a:pt x="4272" y="4172"/>
                  </a:lnTo>
                  <a:lnTo>
                    <a:pt x="9777" y="826"/>
                  </a:lnTo>
                  <a:lnTo>
                    <a:pt x="2856" y="2944"/>
                  </a:lnTo>
                  <a:lnTo>
                    <a:pt x="0" y="802"/>
                  </a:lnTo>
                  <a:lnTo>
                    <a:pt x="11557" y="0"/>
                  </a:lnTo>
                  <a:close/>
                </a:path>
              </a:pathLst>
            </a:custGeom>
            <a:solidFill>
              <a:srgbClr val="e0c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 rot="15507000">
              <a:off x="5252400" y="1981080"/>
              <a:ext cx="116280" cy="107280"/>
            </a:xfrm>
            <a:custGeom>
              <a:avLst/>
              <a:gdLst/>
              <a:ahLst/>
              <a:rect l="l" t="t" r="r" b="b"/>
              <a:pathLst>
                <a:path w="1287" h="1174">
                  <a:moveTo>
                    <a:pt x="674" y="0"/>
                  </a:moveTo>
                  <a:lnTo>
                    <a:pt x="0" y="1174"/>
                  </a:lnTo>
                  <a:lnTo>
                    <a:pt x="1287" y="397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200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 rot="15507000">
              <a:off x="5294880" y="1812240"/>
              <a:ext cx="283320" cy="251280"/>
            </a:xfrm>
            <a:custGeom>
              <a:avLst/>
              <a:gdLst/>
              <a:ahLst/>
              <a:rect l="l" t="t" r="r" b="b"/>
              <a:pathLst>
                <a:path w="3119" h="2768">
                  <a:moveTo>
                    <a:pt x="0" y="2768"/>
                  </a:moveTo>
                  <a:lnTo>
                    <a:pt x="560" y="1601"/>
                  </a:lnTo>
                  <a:lnTo>
                    <a:pt x="3119" y="0"/>
                  </a:lnTo>
                  <a:lnTo>
                    <a:pt x="60" y="1281"/>
                  </a:lnTo>
                  <a:lnTo>
                    <a:pt x="0" y="2768"/>
                  </a:lnTo>
                  <a:close/>
                </a:path>
              </a:pathLst>
            </a:custGeom>
            <a:solidFill>
              <a:srgbClr val="473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 rot="15507000">
              <a:off x="5213520" y="1712160"/>
              <a:ext cx="837720" cy="183960"/>
            </a:xfrm>
            <a:custGeom>
              <a:avLst/>
              <a:gdLst/>
              <a:ahLst/>
              <a:rect l="l" t="t" r="r" b="b"/>
              <a:pathLst>
                <a:path w="9215" h="2034">
                  <a:moveTo>
                    <a:pt x="9215" y="0"/>
                  </a:moveTo>
                  <a:lnTo>
                    <a:pt x="0" y="763"/>
                  </a:lnTo>
                  <a:lnTo>
                    <a:pt x="1449" y="2034"/>
                  </a:lnTo>
                  <a:lnTo>
                    <a:pt x="9215" y="0"/>
                  </a:lnTo>
                  <a:close/>
                </a:path>
              </a:pathLst>
            </a:custGeom>
            <a:solidFill>
              <a:srgbClr val="ff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 rot="15507000">
              <a:off x="5217120" y="1325520"/>
              <a:ext cx="354600" cy="474840"/>
            </a:xfrm>
            <a:custGeom>
              <a:avLst/>
              <a:gdLst/>
              <a:ahLst/>
              <a:rect l="l" t="t" r="r" b="b"/>
              <a:pathLst>
                <a:path w="3904" h="5239">
                  <a:moveTo>
                    <a:pt x="0" y="4601"/>
                  </a:moveTo>
                  <a:lnTo>
                    <a:pt x="928" y="5239"/>
                  </a:lnTo>
                  <a:lnTo>
                    <a:pt x="3904" y="0"/>
                  </a:lnTo>
                  <a:lnTo>
                    <a:pt x="0" y="4601"/>
                  </a:lnTo>
                  <a:close/>
                </a:path>
              </a:pathLst>
            </a:custGeom>
            <a:solidFill>
              <a:srgbClr val="b2a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 rot="15507000">
              <a:off x="5574960" y="2251800"/>
              <a:ext cx="689040" cy="37800"/>
            </a:xfrm>
            <a:custGeom>
              <a:avLst/>
              <a:gdLst/>
              <a:ahLst/>
              <a:rect l="l" t="t" r="r" b="b"/>
              <a:pathLst>
                <a:path w="7586" h="425">
                  <a:moveTo>
                    <a:pt x="0" y="0"/>
                  </a:moveTo>
                  <a:lnTo>
                    <a:pt x="384" y="425"/>
                  </a:lnTo>
                  <a:lnTo>
                    <a:pt x="7586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 rot="15507000">
              <a:off x="5158440" y="1148760"/>
              <a:ext cx="180360" cy="447480"/>
            </a:xfrm>
            <a:custGeom>
              <a:avLst/>
              <a:gdLst/>
              <a:ahLst/>
              <a:rect l="l" t="t" r="r" b="b"/>
              <a:pathLst>
                <a:path w="1988" h="4915">
                  <a:moveTo>
                    <a:pt x="222" y="4915"/>
                  </a:moveTo>
                  <a:lnTo>
                    <a:pt x="0" y="4484"/>
                  </a:lnTo>
                  <a:lnTo>
                    <a:pt x="1988" y="0"/>
                  </a:lnTo>
                  <a:lnTo>
                    <a:pt x="222" y="49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1467000" y="1138320"/>
            <a:ext cx="1671480" cy="954720"/>
            <a:chOff x="1467000" y="1138320"/>
            <a:chExt cx="1671480" cy="954720"/>
          </a:xfrm>
        </p:grpSpPr>
        <p:sp>
          <p:nvSpPr>
            <p:cNvPr id="667" name=""/>
            <p:cNvSpPr/>
            <p:nvPr/>
          </p:nvSpPr>
          <p:spPr>
            <a:xfrm flipH="1" rot="639000">
              <a:off x="1522080" y="1252800"/>
              <a:ext cx="1308960" cy="725400"/>
            </a:xfrm>
            <a:custGeom>
              <a:avLst/>
              <a:gdLst/>
              <a:ahLst/>
              <a:rect l="l" t="t" r="r" b="b"/>
              <a:pathLst>
                <a:path w="13660" h="7582">
                  <a:moveTo>
                    <a:pt x="13660" y="0"/>
                  </a:moveTo>
                  <a:lnTo>
                    <a:pt x="9298" y="7582"/>
                  </a:lnTo>
                  <a:lnTo>
                    <a:pt x="6384" y="5772"/>
                  </a:lnTo>
                  <a:lnTo>
                    <a:pt x="4147" y="7106"/>
                  </a:lnTo>
                  <a:lnTo>
                    <a:pt x="3580" y="3662"/>
                  </a:lnTo>
                  <a:lnTo>
                    <a:pt x="0" y="815"/>
                  </a:lnTo>
                  <a:lnTo>
                    <a:pt x="13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rot="639000">
              <a:off x="1606320" y="1287360"/>
              <a:ext cx="1106640" cy="610560"/>
            </a:xfrm>
            <a:custGeom>
              <a:avLst/>
              <a:gdLst/>
              <a:ahLst/>
              <a:rect l="l" t="t" r="r" b="b"/>
              <a:pathLst>
                <a:path w="11557" h="6392">
                  <a:moveTo>
                    <a:pt x="11557" y="0"/>
                  </a:moveTo>
                  <a:lnTo>
                    <a:pt x="7877" y="6392"/>
                  </a:lnTo>
                  <a:lnTo>
                    <a:pt x="4272" y="4172"/>
                  </a:lnTo>
                  <a:lnTo>
                    <a:pt x="9777" y="826"/>
                  </a:lnTo>
                  <a:lnTo>
                    <a:pt x="2856" y="2944"/>
                  </a:lnTo>
                  <a:lnTo>
                    <a:pt x="0" y="802"/>
                  </a:lnTo>
                  <a:lnTo>
                    <a:pt x="11557" y="0"/>
                  </a:lnTo>
                  <a:close/>
                </a:path>
              </a:pathLst>
            </a:custGeom>
            <a:solidFill>
              <a:srgbClr val="e0c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rot="639000">
              <a:off x="2243880" y="1765080"/>
              <a:ext cx="122400" cy="113040"/>
            </a:xfrm>
            <a:custGeom>
              <a:avLst/>
              <a:gdLst/>
              <a:ahLst/>
              <a:rect l="l" t="t" r="r" b="b"/>
              <a:pathLst>
                <a:path w="1287" h="1174">
                  <a:moveTo>
                    <a:pt x="674" y="0"/>
                  </a:moveTo>
                  <a:lnTo>
                    <a:pt x="0" y="1174"/>
                  </a:lnTo>
                  <a:lnTo>
                    <a:pt x="1287" y="397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200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rot="639000">
              <a:off x="2111400" y="1527840"/>
              <a:ext cx="298800" cy="264600"/>
            </a:xfrm>
            <a:custGeom>
              <a:avLst/>
              <a:gdLst/>
              <a:ahLst/>
              <a:rect l="l" t="t" r="r" b="b"/>
              <a:pathLst>
                <a:path w="3119" h="2768">
                  <a:moveTo>
                    <a:pt x="0" y="2768"/>
                  </a:moveTo>
                  <a:lnTo>
                    <a:pt x="560" y="1601"/>
                  </a:lnTo>
                  <a:lnTo>
                    <a:pt x="3119" y="0"/>
                  </a:lnTo>
                  <a:lnTo>
                    <a:pt x="60" y="1281"/>
                  </a:lnTo>
                  <a:lnTo>
                    <a:pt x="0" y="2768"/>
                  </a:lnTo>
                  <a:close/>
                </a:path>
              </a:pathLst>
            </a:custGeom>
            <a:solidFill>
              <a:srgbClr val="473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rot="639000">
              <a:off x="1766520" y="1319400"/>
              <a:ext cx="882720" cy="194400"/>
            </a:xfrm>
            <a:custGeom>
              <a:avLst/>
              <a:gdLst/>
              <a:ahLst/>
              <a:rect l="l" t="t" r="r" b="b"/>
              <a:pathLst>
                <a:path w="9215" h="2034">
                  <a:moveTo>
                    <a:pt x="9215" y="0"/>
                  </a:moveTo>
                  <a:lnTo>
                    <a:pt x="0" y="763"/>
                  </a:lnTo>
                  <a:lnTo>
                    <a:pt x="1449" y="2034"/>
                  </a:lnTo>
                  <a:lnTo>
                    <a:pt x="9215" y="0"/>
                  </a:lnTo>
                  <a:close/>
                </a:path>
              </a:pathLst>
            </a:custGeom>
            <a:solidFill>
              <a:srgbClr val="ff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rot="639000">
              <a:off x="1690920" y="1302120"/>
              <a:ext cx="373680" cy="500400"/>
            </a:xfrm>
            <a:custGeom>
              <a:avLst/>
              <a:gdLst/>
              <a:ahLst/>
              <a:rect l="l" t="t" r="r" b="b"/>
              <a:pathLst>
                <a:path w="3904" h="5239">
                  <a:moveTo>
                    <a:pt x="0" y="4601"/>
                  </a:moveTo>
                  <a:lnTo>
                    <a:pt x="928" y="5239"/>
                  </a:lnTo>
                  <a:lnTo>
                    <a:pt x="3904" y="0"/>
                  </a:lnTo>
                  <a:lnTo>
                    <a:pt x="0" y="4601"/>
                  </a:lnTo>
                  <a:close/>
                </a:path>
              </a:pathLst>
            </a:custGeom>
            <a:solidFill>
              <a:srgbClr val="b2a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rot="639000">
              <a:off x="2414160" y="1302120"/>
              <a:ext cx="726480" cy="39600"/>
            </a:xfrm>
            <a:custGeom>
              <a:avLst/>
              <a:gdLst/>
              <a:ahLst/>
              <a:rect l="l" t="t" r="r" b="b"/>
              <a:pathLst>
                <a:path w="7586" h="425">
                  <a:moveTo>
                    <a:pt x="0" y="0"/>
                  </a:moveTo>
                  <a:lnTo>
                    <a:pt x="384" y="425"/>
                  </a:lnTo>
                  <a:lnTo>
                    <a:pt x="7586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rot="639000">
              <a:off x="1539720" y="1383480"/>
              <a:ext cx="190080" cy="471960"/>
            </a:xfrm>
            <a:custGeom>
              <a:avLst/>
              <a:gdLst/>
              <a:ahLst/>
              <a:rect l="l" t="t" r="r" b="b"/>
              <a:pathLst>
                <a:path w="1988" h="4915">
                  <a:moveTo>
                    <a:pt x="222" y="4915"/>
                  </a:moveTo>
                  <a:lnTo>
                    <a:pt x="0" y="4484"/>
                  </a:lnTo>
                  <a:lnTo>
                    <a:pt x="1988" y="0"/>
                  </a:lnTo>
                  <a:lnTo>
                    <a:pt x="222" y="49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5715000" y="5562720"/>
            <a:ext cx="3200040" cy="1066320"/>
            <a:chOff x="5715000" y="5562720"/>
            <a:chExt cx="3200040" cy="1066320"/>
          </a:xfrm>
        </p:grpSpPr>
        <p:grpSp>
          <p:nvGrpSpPr>
            <p:cNvPr id="676" name=""/>
            <p:cNvGrpSpPr/>
            <p:nvPr/>
          </p:nvGrpSpPr>
          <p:grpSpPr>
            <a:xfrm>
              <a:off x="5715000" y="5562720"/>
              <a:ext cx="3200040" cy="1066320"/>
              <a:chOff x="5715000" y="5562720"/>
              <a:chExt cx="3200040" cy="1066320"/>
            </a:xfrm>
          </p:grpSpPr>
          <p:sp>
            <p:nvSpPr>
              <p:cNvPr id="677" name=""/>
              <p:cNvSpPr/>
              <p:nvPr/>
            </p:nvSpPr>
            <p:spPr>
              <a:xfrm>
                <a:off x="5738760" y="5604840"/>
                <a:ext cx="2220480" cy="983520"/>
              </a:xfrm>
              <a:custGeom>
                <a:avLst/>
                <a:gdLst/>
                <a:ahLst/>
                <a:rect l="l" t="t" r="r" b="b"/>
                <a:pathLst>
                  <a:path w="3529" h="1403">
                    <a:moveTo>
                      <a:pt x="53" y="365"/>
                    </a:moveTo>
                    <a:lnTo>
                      <a:pt x="23" y="213"/>
                    </a:lnTo>
                    <a:lnTo>
                      <a:pt x="84" y="114"/>
                    </a:lnTo>
                    <a:lnTo>
                      <a:pt x="205" y="99"/>
                    </a:lnTo>
                    <a:lnTo>
                      <a:pt x="494" y="182"/>
                    </a:lnTo>
                    <a:lnTo>
                      <a:pt x="937" y="129"/>
                    </a:lnTo>
                    <a:lnTo>
                      <a:pt x="1555" y="7"/>
                    </a:lnTo>
                    <a:lnTo>
                      <a:pt x="1890" y="0"/>
                    </a:lnTo>
                    <a:lnTo>
                      <a:pt x="2500" y="91"/>
                    </a:lnTo>
                    <a:lnTo>
                      <a:pt x="2896" y="106"/>
                    </a:lnTo>
                    <a:lnTo>
                      <a:pt x="3301" y="68"/>
                    </a:lnTo>
                    <a:lnTo>
                      <a:pt x="3430" y="114"/>
                    </a:lnTo>
                    <a:lnTo>
                      <a:pt x="3483" y="167"/>
                    </a:lnTo>
                    <a:lnTo>
                      <a:pt x="3529" y="251"/>
                    </a:lnTo>
                    <a:lnTo>
                      <a:pt x="3483" y="1175"/>
                    </a:lnTo>
                    <a:lnTo>
                      <a:pt x="3498" y="1273"/>
                    </a:lnTo>
                    <a:lnTo>
                      <a:pt x="3453" y="1327"/>
                    </a:lnTo>
                    <a:lnTo>
                      <a:pt x="3247" y="1319"/>
                    </a:lnTo>
                    <a:lnTo>
                      <a:pt x="2994" y="1365"/>
                    </a:lnTo>
                    <a:lnTo>
                      <a:pt x="2645" y="1403"/>
                    </a:lnTo>
                    <a:lnTo>
                      <a:pt x="2224" y="1349"/>
                    </a:lnTo>
                    <a:lnTo>
                      <a:pt x="1684" y="1273"/>
                    </a:lnTo>
                    <a:lnTo>
                      <a:pt x="1196" y="1289"/>
                    </a:lnTo>
                    <a:lnTo>
                      <a:pt x="648" y="1387"/>
                    </a:lnTo>
                    <a:lnTo>
                      <a:pt x="281" y="1403"/>
                    </a:lnTo>
                    <a:lnTo>
                      <a:pt x="46" y="1357"/>
                    </a:lnTo>
                    <a:lnTo>
                      <a:pt x="0" y="1258"/>
                    </a:lnTo>
                    <a:lnTo>
                      <a:pt x="68" y="929"/>
                    </a:lnTo>
                    <a:lnTo>
                      <a:pt x="99" y="754"/>
                    </a:lnTo>
                    <a:lnTo>
                      <a:pt x="38" y="557"/>
                    </a:lnTo>
                    <a:lnTo>
                      <a:pt x="53" y="365"/>
                    </a:lnTo>
                    <a:lnTo>
                      <a:pt x="53" y="36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280720" y="5973840"/>
                <a:ext cx="586440" cy="298800"/>
              </a:xfrm>
              <a:custGeom>
                <a:avLst/>
                <a:gdLst/>
                <a:ahLst/>
                <a:rect l="l" t="t" r="r" b="b"/>
                <a:pathLst>
                  <a:path w="932" h="426">
                    <a:moveTo>
                      <a:pt x="86" y="198"/>
                    </a:moveTo>
                    <a:lnTo>
                      <a:pt x="0" y="8"/>
                    </a:lnTo>
                    <a:lnTo>
                      <a:pt x="78" y="0"/>
                    </a:lnTo>
                    <a:lnTo>
                      <a:pt x="200" y="122"/>
                    </a:lnTo>
                    <a:lnTo>
                      <a:pt x="565" y="99"/>
                    </a:lnTo>
                    <a:lnTo>
                      <a:pt x="656" y="175"/>
                    </a:lnTo>
                    <a:lnTo>
                      <a:pt x="709" y="122"/>
                    </a:lnTo>
                    <a:lnTo>
                      <a:pt x="841" y="99"/>
                    </a:lnTo>
                    <a:lnTo>
                      <a:pt x="932" y="183"/>
                    </a:lnTo>
                    <a:lnTo>
                      <a:pt x="863" y="320"/>
                    </a:lnTo>
                    <a:lnTo>
                      <a:pt x="649" y="343"/>
                    </a:lnTo>
                    <a:lnTo>
                      <a:pt x="466" y="343"/>
                    </a:lnTo>
                    <a:lnTo>
                      <a:pt x="291" y="426"/>
                    </a:lnTo>
                    <a:lnTo>
                      <a:pt x="306" y="350"/>
                    </a:lnTo>
                    <a:lnTo>
                      <a:pt x="238" y="289"/>
                    </a:lnTo>
                    <a:lnTo>
                      <a:pt x="86" y="198"/>
                    </a:lnTo>
                    <a:lnTo>
                      <a:pt x="86" y="198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29480" y="5562720"/>
                <a:ext cx="2081160" cy="203400"/>
              </a:xfrm>
              <a:custGeom>
                <a:avLst/>
                <a:gdLst/>
                <a:ahLst/>
                <a:rect l="l" t="t" r="r" b="b"/>
                <a:pathLst>
                  <a:path w="3307" h="291">
                    <a:moveTo>
                      <a:pt x="0" y="135"/>
                    </a:moveTo>
                    <a:lnTo>
                      <a:pt x="135" y="164"/>
                    </a:lnTo>
                    <a:lnTo>
                      <a:pt x="310" y="183"/>
                    </a:lnTo>
                    <a:lnTo>
                      <a:pt x="493" y="177"/>
                    </a:lnTo>
                    <a:lnTo>
                      <a:pt x="683" y="150"/>
                    </a:lnTo>
                    <a:lnTo>
                      <a:pt x="905" y="108"/>
                    </a:lnTo>
                    <a:lnTo>
                      <a:pt x="1189" y="55"/>
                    </a:lnTo>
                    <a:lnTo>
                      <a:pt x="1417" y="21"/>
                    </a:lnTo>
                    <a:lnTo>
                      <a:pt x="1599" y="0"/>
                    </a:lnTo>
                    <a:lnTo>
                      <a:pt x="1869" y="29"/>
                    </a:lnTo>
                    <a:lnTo>
                      <a:pt x="2166" y="82"/>
                    </a:lnTo>
                    <a:lnTo>
                      <a:pt x="2375" y="108"/>
                    </a:lnTo>
                    <a:lnTo>
                      <a:pt x="2613" y="122"/>
                    </a:lnTo>
                    <a:lnTo>
                      <a:pt x="2989" y="95"/>
                    </a:lnTo>
                    <a:lnTo>
                      <a:pt x="3151" y="108"/>
                    </a:lnTo>
                    <a:lnTo>
                      <a:pt x="3293" y="150"/>
                    </a:lnTo>
                    <a:lnTo>
                      <a:pt x="3307" y="190"/>
                    </a:lnTo>
                    <a:lnTo>
                      <a:pt x="3225" y="164"/>
                    </a:lnTo>
                    <a:lnTo>
                      <a:pt x="3031" y="177"/>
                    </a:lnTo>
                    <a:lnTo>
                      <a:pt x="2761" y="217"/>
                    </a:lnTo>
                    <a:lnTo>
                      <a:pt x="2552" y="230"/>
                    </a:lnTo>
                    <a:lnTo>
                      <a:pt x="2335" y="217"/>
                    </a:lnTo>
                    <a:lnTo>
                      <a:pt x="2052" y="164"/>
                    </a:lnTo>
                    <a:lnTo>
                      <a:pt x="1742" y="135"/>
                    </a:lnTo>
                    <a:lnTo>
                      <a:pt x="1552" y="116"/>
                    </a:lnTo>
                    <a:lnTo>
                      <a:pt x="1284" y="143"/>
                    </a:lnTo>
                    <a:lnTo>
                      <a:pt x="980" y="217"/>
                    </a:lnTo>
                    <a:lnTo>
                      <a:pt x="689" y="278"/>
                    </a:lnTo>
                    <a:lnTo>
                      <a:pt x="474" y="291"/>
                    </a:lnTo>
                    <a:lnTo>
                      <a:pt x="284" y="283"/>
                    </a:lnTo>
                    <a:lnTo>
                      <a:pt x="149" y="257"/>
                    </a:lnTo>
                    <a:lnTo>
                      <a:pt x="21" y="190"/>
                    </a:lnTo>
                    <a:lnTo>
                      <a:pt x="0" y="135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727240" y="5685840"/>
                <a:ext cx="101880" cy="488160"/>
              </a:xfrm>
              <a:custGeom>
                <a:avLst/>
                <a:gdLst/>
                <a:ahLst/>
                <a:rect l="l" t="t" r="r" b="b"/>
                <a:pathLst>
                  <a:path w="161" h="696">
                    <a:moveTo>
                      <a:pt x="82" y="0"/>
                    </a:moveTo>
                    <a:lnTo>
                      <a:pt x="13" y="66"/>
                    </a:lnTo>
                    <a:lnTo>
                      <a:pt x="0" y="114"/>
                    </a:lnTo>
                    <a:lnTo>
                      <a:pt x="0" y="175"/>
                    </a:lnTo>
                    <a:lnTo>
                      <a:pt x="34" y="256"/>
                    </a:lnTo>
                    <a:lnTo>
                      <a:pt x="34" y="336"/>
                    </a:lnTo>
                    <a:lnTo>
                      <a:pt x="7" y="412"/>
                    </a:lnTo>
                    <a:lnTo>
                      <a:pt x="7" y="479"/>
                    </a:lnTo>
                    <a:lnTo>
                      <a:pt x="61" y="540"/>
                    </a:lnTo>
                    <a:lnTo>
                      <a:pt x="108" y="600"/>
                    </a:lnTo>
                    <a:lnTo>
                      <a:pt x="135" y="696"/>
                    </a:lnTo>
                    <a:lnTo>
                      <a:pt x="161" y="621"/>
                    </a:lnTo>
                    <a:lnTo>
                      <a:pt x="148" y="500"/>
                    </a:lnTo>
                    <a:lnTo>
                      <a:pt x="95" y="426"/>
                    </a:lnTo>
                    <a:lnTo>
                      <a:pt x="95" y="370"/>
                    </a:lnTo>
                    <a:lnTo>
                      <a:pt x="135" y="296"/>
                    </a:lnTo>
                    <a:lnTo>
                      <a:pt x="122" y="228"/>
                    </a:lnTo>
                    <a:lnTo>
                      <a:pt x="87" y="148"/>
                    </a:lnTo>
                    <a:lnTo>
                      <a:pt x="82" y="95"/>
                    </a:lnTo>
                    <a:lnTo>
                      <a:pt x="122" y="40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15000" y="6178680"/>
                <a:ext cx="2234520" cy="450360"/>
              </a:xfrm>
              <a:custGeom>
                <a:avLst/>
                <a:gdLst/>
                <a:ahLst/>
                <a:rect l="l" t="t" r="r" b="b"/>
                <a:pathLst>
                  <a:path w="3550" h="643">
                    <a:moveTo>
                      <a:pt x="76" y="0"/>
                    </a:moveTo>
                    <a:lnTo>
                      <a:pt x="61" y="164"/>
                    </a:lnTo>
                    <a:lnTo>
                      <a:pt x="13" y="318"/>
                    </a:lnTo>
                    <a:lnTo>
                      <a:pt x="0" y="460"/>
                    </a:lnTo>
                    <a:lnTo>
                      <a:pt x="21" y="542"/>
                    </a:lnTo>
                    <a:lnTo>
                      <a:pt x="82" y="595"/>
                    </a:lnTo>
                    <a:lnTo>
                      <a:pt x="182" y="622"/>
                    </a:lnTo>
                    <a:lnTo>
                      <a:pt x="378" y="643"/>
                    </a:lnTo>
                    <a:lnTo>
                      <a:pt x="587" y="622"/>
                    </a:lnTo>
                    <a:lnTo>
                      <a:pt x="831" y="595"/>
                    </a:lnTo>
                    <a:lnTo>
                      <a:pt x="1101" y="542"/>
                    </a:lnTo>
                    <a:lnTo>
                      <a:pt x="1403" y="500"/>
                    </a:lnTo>
                    <a:lnTo>
                      <a:pt x="1654" y="487"/>
                    </a:lnTo>
                    <a:lnTo>
                      <a:pt x="1856" y="508"/>
                    </a:lnTo>
                    <a:lnTo>
                      <a:pt x="2152" y="569"/>
                    </a:lnTo>
                    <a:lnTo>
                      <a:pt x="2403" y="601"/>
                    </a:lnTo>
                    <a:lnTo>
                      <a:pt x="2673" y="622"/>
                    </a:lnTo>
                    <a:lnTo>
                      <a:pt x="2835" y="622"/>
                    </a:lnTo>
                    <a:lnTo>
                      <a:pt x="3004" y="595"/>
                    </a:lnTo>
                    <a:lnTo>
                      <a:pt x="3219" y="534"/>
                    </a:lnTo>
                    <a:lnTo>
                      <a:pt x="3388" y="534"/>
                    </a:lnTo>
                    <a:lnTo>
                      <a:pt x="3529" y="548"/>
                    </a:lnTo>
                    <a:lnTo>
                      <a:pt x="3550" y="508"/>
                    </a:lnTo>
                    <a:lnTo>
                      <a:pt x="3422" y="479"/>
                    </a:lnTo>
                    <a:lnTo>
                      <a:pt x="3266" y="466"/>
                    </a:lnTo>
                    <a:lnTo>
                      <a:pt x="3124" y="500"/>
                    </a:lnTo>
                    <a:lnTo>
                      <a:pt x="2930" y="534"/>
                    </a:lnTo>
                    <a:lnTo>
                      <a:pt x="2761" y="555"/>
                    </a:lnTo>
                    <a:lnTo>
                      <a:pt x="2572" y="542"/>
                    </a:lnTo>
                    <a:lnTo>
                      <a:pt x="2295" y="494"/>
                    </a:lnTo>
                    <a:lnTo>
                      <a:pt x="1972" y="447"/>
                    </a:lnTo>
                    <a:lnTo>
                      <a:pt x="1702" y="426"/>
                    </a:lnTo>
                    <a:lnTo>
                      <a:pt x="1451" y="420"/>
                    </a:lnTo>
                    <a:lnTo>
                      <a:pt x="1236" y="447"/>
                    </a:lnTo>
                    <a:lnTo>
                      <a:pt x="911" y="487"/>
                    </a:lnTo>
                    <a:lnTo>
                      <a:pt x="601" y="527"/>
                    </a:lnTo>
                    <a:lnTo>
                      <a:pt x="426" y="542"/>
                    </a:lnTo>
                    <a:lnTo>
                      <a:pt x="182" y="534"/>
                    </a:lnTo>
                    <a:lnTo>
                      <a:pt x="108" y="508"/>
                    </a:lnTo>
                    <a:lnTo>
                      <a:pt x="87" y="460"/>
                    </a:lnTo>
                    <a:lnTo>
                      <a:pt x="95" y="365"/>
                    </a:lnTo>
                    <a:lnTo>
                      <a:pt x="135" y="257"/>
                    </a:lnTo>
                    <a:lnTo>
                      <a:pt x="143" y="143"/>
                    </a:lnTo>
                    <a:lnTo>
                      <a:pt x="143" y="48"/>
                    </a:lnTo>
                    <a:lnTo>
                      <a:pt x="129" y="8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919280" y="5732640"/>
                <a:ext cx="60480" cy="753480"/>
              </a:xfrm>
              <a:custGeom>
                <a:avLst/>
                <a:gdLst/>
                <a:ahLst/>
                <a:rect l="l" t="t" r="r" b="b"/>
                <a:pathLst>
                  <a:path w="95" h="1074">
                    <a:moveTo>
                      <a:pt x="40" y="40"/>
                    </a:moveTo>
                    <a:lnTo>
                      <a:pt x="8" y="487"/>
                    </a:lnTo>
                    <a:lnTo>
                      <a:pt x="0" y="783"/>
                    </a:lnTo>
                    <a:lnTo>
                      <a:pt x="8" y="953"/>
                    </a:lnTo>
                    <a:lnTo>
                      <a:pt x="8" y="1021"/>
                    </a:lnTo>
                    <a:lnTo>
                      <a:pt x="40" y="1074"/>
                    </a:lnTo>
                    <a:lnTo>
                      <a:pt x="61" y="1034"/>
                    </a:lnTo>
                    <a:lnTo>
                      <a:pt x="82" y="918"/>
                    </a:lnTo>
                    <a:lnTo>
                      <a:pt x="88" y="405"/>
                    </a:lnTo>
                    <a:lnTo>
                      <a:pt x="95" y="130"/>
                    </a:lnTo>
                    <a:lnTo>
                      <a:pt x="95" y="48"/>
                    </a:lnTo>
                    <a:lnTo>
                      <a:pt x="74" y="0"/>
                    </a:lnTo>
                    <a:lnTo>
                      <a:pt x="4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966080" y="6164640"/>
                <a:ext cx="309240" cy="345240"/>
              </a:xfrm>
              <a:custGeom>
                <a:avLst/>
                <a:gdLst/>
                <a:ahLst/>
                <a:rect l="l" t="t" r="r" b="b"/>
                <a:pathLst>
                  <a:path w="493" h="493">
                    <a:moveTo>
                      <a:pt x="34" y="493"/>
                    </a:moveTo>
                    <a:lnTo>
                      <a:pt x="230" y="297"/>
                    </a:lnTo>
                    <a:lnTo>
                      <a:pt x="354" y="164"/>
                    </a:lnTo>
                    <a:lnTo>
                      <a:pt x="493" y="61"/>
                    </a:lnTo>
                    <a:lnTo>
                      <a:pt x="493" y="0"/>
                    </a:lnTo>
                    <a:lnTo>
                      <a:pt x="439" y="14"/>
                    </a:lnTo>
                    <a:lnTo>
                      <a:pt x="304" y="122"/>
                    </a:lnTo>
                    <a:lnTo>
                      <a:pt x="204" y="232"/>
                    </a:lnTo>
                    <a:lnTo>
                      <a:pt x="107" y="337"/>
                    </a:lnTo>
                    <a:lnTo>
                      <a:pt x="0" y="458"/>
                    </a:lnTo>
                    <a:lnTo>
                      <a:pt x="34" y="493"/>
                    </a:lnTo>
                    <a:lnTo>
                      <a:pt x="34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08920" y="5752080"/>
                <a:ext cx="263160" cy="279000"/>
              </a:xfrm>
              <a:custGeom>
                <a:avLst/>
                <a:gdLst/>
                <a:ahLst/>
                <a:rect l="l" t="t" r="r" b="b"/>
                <a:pathLst>
                  <a:path w="418" h="397">
                    <a:moveTo>
                      <a:pt x="0" y="0"/>
                    </a:moveTo>
                    <a:lnTo>
                      <a:pt x="5" y="59"/>
                    </a:lnTo>
                    <a:lnTo>
                      <a:pt x="119" y="175"/>
                    </a:lnTo>
                    <a:lnTo>
                      <a:pt x="241" y="277"/>
                    </a:lnTo>
                    <a:lnTo>
                      <a:pt x="397" y="397"/>
                    </a:lnTo>
                    <a:lnTo>
                      <a:pt x="418" y="357"/>
                    </a:lnTo>
                    <a:lnTo>
                      <a:pt x="336" y="283"/>
                    </a:lnTo>
                    <a:lnTo>
                      <a:pt x="188" y="161"/>
                    </a:lnTo>
                    <a:lnTo>
                      <a:pt x="4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234280" y="5941440"/>
                <a:ext cx="680760" cy="284760"/>
              </a:xfrm>
              <a:custGeom>
                <a:avLst/>
                <a:gdLst/>
                <a:ahLst/>
                <a:rect l="l" t="t" r="r" b="b"/>
                <a:pathLst>
                  <a:path w="1082" h="405">
                    <a:moveTo>
                      <a:pt x="0" y="270"/>
                    </a:moveTo>
                    <a:lnTo>
                      <a:pt x="80" y="270"/>
                    </a:lnTo>
                    <a:lnTo>
                      <a:pt x="148" y="323"/>
                    </a:lnTo>
                    <a:lnTo>
                      <a:pt x="244" y="357"/>
                    </a:lnTo>
                    <a:lnTo>
                      <a:pt x="350" y="378"/>
                    </a:lnTo>
                    <a:lnTo>
                      <a:pt x="437" y="357"/>
                    </a:lnTo>
                    <a:lnTo>
                      <a:pt x="493" y="336"/>
                    </a:lnTo>
                    <a:lnTo>
                      <a:pt x="418" y="310"/>
                    </a:lnTo>
                    <a:lnTo>
                      <a:pt x="331" y="289"/>
                    </a:lnTo>
                    <a:lnTo>
                      <a:pt x="215" y="270"/>
                    </a:lnTo>
                    <a:lnTo>
                      <a:pt x="244" y="228"/>
                    </a:lnTo>
                    <a:lnTo>
                      <a:pt x="223" y="201"/>
                    </a:lnTo>
                    <a:lnTo>
                      <a:pt x="196" y="201"/>
                    </a:lnTo>
                    <a:lnTo>
                      <a:pt x="167" y="148"/>
                    </a:lnTo>
                    <a:lnTo>
                      <a:pt x="114" y="80"/>
                    </a:lnTo>
                    <a:lnTo>
                      <a:pt x="154" y="80"/>
                    </a:lnTo>
                    <a:lnTo>
                      <a:pt x="202" y="114"/>
                    </a:lnTo>
                    <a:lnTo>
                      <a:pt x="228" y="161"/>
                    </a:lnTo>
                    <a:lnTo>
                      <a:pt x="283" y="201"/>
                    </a:lnTo>
                    <a:lnTo>
                      <a:pt x="392" y="188"/>
                    </a:lnTo>
                    <a:lnTo>
                      <a:pt x="607" y="175"/>
                    </a:lnTo>
                    <a:lnTo>
                      <a:pt x="620" y="222"/>
                    </a:lnTo>
                    <a:lnTo>
                      <a:pt x="702" y="243"/>
                    </a:lnTo>
                    <a:lnTo>
                      <a:pt x="742" y="270"/>
                    </a:lnTo>
                    <a:lnTo>
                      <a:pt x="776" y="243"/>
                    </a:lnTo>
                    <a:lnTo>
                      <a:pt x="797" y="180"/>
                    </a:lnTo>
                    <a:lnTo>
                      <a:pt x="875" y="167"/>
                    </a:lnTo>
                    <a:lnTo>
                      <a:pt x="937" y="180"/>
                    </a:lnTo>
                    <a:lnTo>
                      <a:pt x="949" y="251"/>
                    </a:lnTo>
                    <a:lnTo>
                      <a:pt x="941" y="310"/>
                    </a:lnTo>
                    <a:lnTo>
                      <a:pt x="863" y="357"/>
                    </a:lnTo>
                    <a:lnTo>
                      <a:pt x="863" y="405"/>
                    </a:lnTo>
                    <a:lnTo>
                      <a:pt x="937" y="399"/>
                    </a:lnTo>
                    <a:lnTo>
                      <a:pt x="993" y="365"/>
                    </a:lnTo>
                    <a:lnTo>
                      <a:pt x="1008" y="313"/>
                    </a:lnTo>
                    <a:lnTo>
                      <a:pt x="1046" y="302"/>
                    </a:lnTo>
                    <a:lnTo>
                      <a:pt x="1082" y="254"/>
                    </a:lnTo>
                    <a:lnTo>
                      <a:pt x="1067" y="207"/>
                    </a:lnTo>
                    <a:lnTo>
                      <a:pt x="1027" y="184"/>
                    </a:lnTo>
                    <a:lnTo>
                      <a:pt x="979" y="152"/>
                    </a:lnTo>
                    <a:lnTo>
                      <a:pt x="922" y="125"/>
                    </a:lnTo>
                    <a:lnTo>
                      <a:pt x="842" y="125"/>
                    </a:lnTo>
                    <a:lnTo>
                      <a:pt x="755" y="140"/>
                    </a:lnTo>
                    <a:lnTo>
                      <a:pt x="736" y="175"/>
                    </a:lnTo>
                    <a:lnTo>
                      <a:pt x="723" y="135"/>
                    </a:lnTo>
                    <a:lnTo>
                      <a:pt x="715" y="93"/>
                    </a:lnTo>
                    <a:lnTo>
                      <a:pt x="660" y="80"/>
                    </a:lnTo>
                    <a:lnTo>
                      <a:pt x="607" y="121"/>
                    </a:lnTo>
                    <a:lnTo>
                      <a:pt x="519" y="140"/>
                    </a:lnTo>
                    <a:lnTo>
                      <a:pt x="363" y="148"/>
                    </a:lnTo>
                    <a:lnTo>
                      <a:pt x="283" y="135"/>
                    </a:lnTo>
                    <a:lnTo>
                      <a:pt x="215" y="61"/>
                    </a:lnTo>
                    <a:lnTo>
                      <a:pt x="167" y="19"/>
                    </a:lnTo>
                    <a:lnTo>
                      <a:pt x="122" y="0"/>
                    </a:lnTo>
                    <a:lnTo>
                      <a:pt x="61" y="5"/>
                    </a:lnTo>
                    <a:lnTo>
                      <a:pt x="53" y="53"/>
                    </a:lnTo>
                    <a:lnTo>
                      <a:pt x="67" y="93"/>
                    </a:lnTo>
                    <a:lnTo>
                      <a:pt x="114" y="180"/>
                    </a:lnTo>
                    <a:lnTo>
                      <a:pt x="80" y="209"/>
                    </a:lnTo>
                    <a:lnTo>
                      <a:pt x="0" y="209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67360" y="6262920"/>
                <a:ext cx="118080" cy="12888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101" y="0"/>
                    </a:moveTo>
                    <a:lnTo>
                      <a:pt x="40" y="26"/>
                    </a:lnTo>
                    <a:lnTo>
                      <a:pt x="0" y="87"/>
                    </a:lnTo>
                    <a:lnTo>
                      <a:pt x="27" y="142"/>
                    </a:lnTo>
                    <a:lnTo>
                      <a:pt x="54" y="177"/>
                    </a:lnTo>
                    <a:lnTo>
                      <a:pt x="101" y="182"/>
                    </a:lnTo>
                    <a:lnTo>
                      <a:pt x="154" y="156"/>
                    </a:lnTo>
                    <a:lnTo>
                      <a:pt x="189" y="95"/>
                    </a:lnTo>
                    <a:lnTo>
                      <a:pt x="175" y="42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454600" y="6187320"/>
                <a:ext cx="298440" cy="95040"/>
              </a:xfrm>
              <a:custGeom>
                <a:avLst/>
                <a:gdLst/>
                <a:ahLst/>
                <a:rect l="l" t="t" r="r" b="b"/>
                <a:pathLst>
                  <a:path w="473" h="134">
                    <a:moveTo>
                      <a:pt x="0" y="134"/>
                    </a:moveTo>
                    <a:lnTo>
                      <a:pt x="42" y="81"/>
                    </a:lnTo>
                    <a:lnTo>
                      <a:pt x="135" y="20"/>
                    </a:lnTo>
                    <a:lnTo>
                      <a:pt x="278" y="7"/>
                    </a:lnTo>
                    <a:lnTo>
                      <a:pt x="386" y="0"/>
                    </a:lnTo>
                    <a:lnTo>
                      <a:pt x="460" y="15"/>
                    </a:lnTo>
                    <a:lnTo>
                      <a:pt x="473" y="55"/>
                    </a:lnTo>
                    <a:lnTo>
                      <a:pt x="405" y="55"/>
                    </a:lnTo>
                    <a:lnTo>
                      <a:pt x="251" y="74"/>
                    </a:lnTo>
                    <a:lnTo>
                      <a:pt x="122" y="81"/>
                    </a:lnTo>
                    <a:lnTo>
                      <a:pt x="0" y="134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506080" y="6244560"/>
                <a:ext cx="279360" cy="57600"/>
              </a:xfrm>
              <a:custGeom>
                <a:avLst/>
                <a:gdLst/>
                <a:ahLst/>
                <a:rect l="l" t="t" r="r" b="b"/>
                <a:pathLst>
                  <a:path w="445" h="82">
                    <a:moveTo>
                      <a:pt x="26" y="82"/>
                    </a:moveTo>
                    <a:lnTo>
                      <a:pt x="175" y="61"/>
                    </a:lnTo>
                    <a:lnTo>
                      <a:pt x="323" y="53"/>
                    </a:lnTo>
                    <a:lnTo>
                      <a:pt x="445" y="53"/>
                    </a:lnTo>
                    <a:lnTo>
                      <a:pt x="405" y="8"/>
                    </a:lnTo>
                    <a:lnTo>
                      <a:pt x="270" y="0"/>
                    </a:lnTo>
                    <a:lnTo>
                      <a:pt x="108" y="21"/>
                    </a:lnTo>
                    <a:lnTo>
                      <a:pt x="0" y="40"/>
                    </a:lnTo>
                    <a:lnTo>
                      <a:pt x="26" y="82"/>
                    </a:lnTo>
                    <a:lnTo>
                      <a:pt x="2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06080" y="5911920"/>
                <a:ext cx="331200" cy="105120"/>
              </a:xfrm>
              <a:custGeom>
                <a:avLst/>
                <a:gdLst/>
                <a:ahLst/>
                <a:rect l="l" t="t" r="r" b="b"/>
                <a:pathLst>
                  <a:path w="526" h="148">
                    <a:moveTo>
                      <a:pt x="53" y="148"/>
                    </a:moveTo>
                    <a:lnTo>
                      <a:pt x="188" y="116"/>
                    </a:lnTo>
                    <a:lnTo>
                      <a:pt x="363" y="95"/>
                    </a:lnTo>
                    <a:lnTo>
                      <a:pt x="485" y="95"/>
                    </a:lnTo>
                    <a:lnTo>
                      <a:pt x="526" y="82"/>
                    </a:lnTo>
                    <a:lnTo>
                      <a:pt x="500" y="27"/>
                    </a:lnTo>
                    <a:lnTo>
                      <a:pt x="350" y="0"/>
                    </a:lnTo>
                    <a:lnTo>
                      <a:pt x="235" y="21"/>
                    </a:lnTo>
                    <a:lnTo>
                      <a:pt x="66" y="55"/>
                    </a:lnTo>
                    <a:lnTo>
                      <a:pt x="13" y="82"/>
                    </a:lnTo>
                    <a:lnTo>
                      <a:pt x="0" y="129"/>
                    </a:lnTo>
                    <a:lnTo>
                      <a:pt x="53" y="148"/>
                    </a:lnTo>
                    <a:lnTo>
                      <a:pt x="53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5956560" y="5666760"/>
              <a:ext cx="169164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Rimouski,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Chicoutimi,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Rouyn-Noranda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5:41:30Z</dcterms:created>
  <dc:creator>Julien</dc:creator>
  <dc:description/>
  <dc:language>en-US</dc:language>
  <cp:lastModifiedBy>dmdfor1</cp:lastModifiedBy>
  <dcterms:modified xsi:type="dcterms:W3CDTF">2002-01-11T20:43:43Z</dcterms:modified>
  <cp:revision>57</cp:revision>
  <dc:subject/>
  <dc:title>Bilan annuel de votre compagnie</dc:title>
</cp:coreProperties>
</file>