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7.png" ContentType="image/png"/>
  <Override PartName="/ppt/media/image15.wmf" ContentType="image/x-wmf"/>
  <Override PartName="/ppt/media/image21.wmf" ContentType="image/x-wmf"/>
  <Override PartName="/ppt/media/image24.jpeg" ContentType="image/jpeg"/>
  <Override PartName="/ppt/media/drumroll.wav" ContentType="audio/x-wav"/>
  <Override PartName="/ppt/media/applause.wav" ContentType="audio/x-wav"/>
  <Override PartName="/ppt/media/image16.png" ContentType="image/png"/>
  <Override PartName="/ppt/media/image19.gif" ContentType="image/gif"/>
  <Override PartName="/ppt/media/image1.png" ContentType="image/png"/>
  <Override PartName="/ppt/media/image26.jpeg" ContentType="image/jpeg"/>
  <Override PartName="/ppt/media/image18.wmf" ContentType="image/x-wmf"/>
  <Override PartName="/ppt/media/image20.wmf" ContentType="image/x-wmf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  <p:custShowLst>
    <p:custShow name="Service" id="0">
      <p:sldLst>
        <p:sld r:id="rId24"/>
        <p:sld r:id="rId25"/>
        <p:sld r:id="rId26"/>
      </p:sldLst>
    </p:custShow>
    <p:custShow name="Vague" id="1">
      <p:sldLst>
        <p:sld r:id="rId27"/>
        <p:sld r:id="rId28"/>
        <p:sld r:id="rId2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6073-A311-4712-B95C-CCD51B6DF6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F7B4-430F-4ED4-A7A0-0BEB8E8E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1ADD-FD9A-4145-997A-20D42799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4875-49E2-4FBB-8AE9-C72BDF2FFB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B43FC-AC01-4D61-AFD7-587694DD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8895F-1F2A-4A44-8807-5BD2B576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0686C-2FAE-47DC-AEC5-0E493499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7E708-2E46-44E1-91C3-E872C8C1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6009F-8CB0-43E4-8021-76ECADD0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854B4-D887-4829-AC8A-9B3792D6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D4380-BB59-4187-A870-B543E243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CFAE-5A6D-4773-97D2-93336D0B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61802-A655-424F-BFFD-BBF58003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C9850-B9AC-43A1-AA36-8648170D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2C65D-B82D-4B16-B5C4-797FD535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624E5-1B25-4C7C-B76B-C094DDDE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C5E89-B9DC-4FAA-880B-7C932B7C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3A1A7F-4343-4124-BD42-DAED2889D4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2E64E5-5BE4-4FAA-A242-523F74C1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1DD01-8F16-4524-8EA8-51171088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561348-8D9F-4FBA-AEE1-50C33309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A4583-290E-491E-8EB2-5000E572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2BEB-0D88-4AE1-A7B8-A1752BE1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541F83-7728-420A-A205-844E7A35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9D95A-C30B-4B9C-B19B-9E104B16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24FC8E-93A2-4754-9B88-6B67FA16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D0135C-2368-4DD9-884D-7607056E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13291-49E0-4375-931F-56184CF4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09B34-537E-41F5-B03E-393CD06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C909CB-ADAA-41CF-BDB9-EBB4317D25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47A31-7A70-4C21-BA63-C105191A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B9E50-91E0-4262-8200-C8375BEC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B8CCC3-3478-4141-A50E-DE98F2B3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CFE9-29AF-4793-A7C0-DE7C5A76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E6E374-B84B-49B7-953B-38771204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08E9E7-F5B5-4584-BE10-DBA397DD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6F351-EBAD-411A-B741-D1D7554E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761F2C-A019-4D3E-8DDC-AF2FBA0A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755D4F-B6DB-4D7A-A3F2-28767A6A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D4E5DC-D40A-4D21-A7FA-92C6D670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11455-1724-4F87-BD9F-CA1876D4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16054-8725-4923-8E8C-7B92E723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125EB-B954-4E4A-B75B-582AF607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28054-D687-4628-999C-03697E3BD5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8911-E7AD-470D-B4C4-B705DC49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A461C-4CEC-48B5-8EC4-7719999D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7FCE-0FC7-4A8A-B3FE-261E4547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482A-E19A-466A-8056-14AA8F0E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85E30-4024-480D-AF7F-E8D911F0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8F5AC-5FC0-418E-A0D3-BABD3812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93485-7569-43B4-B8DD-03FC88BD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2C774-90A2-4327-A3D7-474A20F0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89188-C95B-4CE4-A113-1B9E9F32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A6995-A2AC-4831-A320-A04D37F1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AF25-C3D8-4133-9FC2-EFD2F291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6EF0-F9E6-4D70-AD1F-61011860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4DD2F-AEFC-4272-A566-C22F114FCC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24A50-2B59-47B5-87D9-C6639C7C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B2B89-698C-416B-BC30-3DFB85CB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AA382-00A3-4584-A956-9AF4AD03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79A00-AC42-41B3-9500-94D4539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4A04E-A080-41CA-AA56-AFB5E75B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F9579-7737-4A86-A624-791DCC8B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14056-0750-46AF-8480-3871E5AD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B4218-86F6-40A5-8945-A5F914F2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5650CE-BC56-4B1D-9741-29A868FD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FF48-CB75-42DB-A9EE-0E4DA426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9FC9E-9851-46A3-A669-9651C37C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5D2E7-5436-4D64-A4C8-3DD3590A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C2867-D6A8-4546-BD0B-851E70F0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6D44-6D66-4300-8C13-BF4B31C5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B6D8-4769-4503-A872-8D1EB31C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" Target="slide11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" Target="slide1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400600" y="632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3ECE-3E0B-4E1A-A4A4-6A918032244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rId10" action="ppaction://hlinksldjump"/>
          </p:cNvPr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11" action="ppaction://hlinksldjump"/>
          </p:cNvPr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8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B6FC-C67B-4C9F-876B-A891B62C104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Book Antiqu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98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7"/>
          </p:nvPr>
        </p:nvSpPr>
        <p:spPr>
          <a:xfrm>
            <a:off x="7867440" y="632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0A91-331A-40FC-8335-37A9F95AF74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8E21-6E7F-488C-903A-BF025333F04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248520" y="624852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2"/>
          </p:nvPr>
        </p:nvSpPr>
        <p:spPr>
          <a:xfrm>
            <a:off x="8244000" y="6248520"/>
            <a:ext cx="442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AD8D-B4BE-4F91-B531-3F9A891138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6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ADD0-688C-47A5-8BD2-B29ECB3918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Participant/Fetes.ppt" TargetMode="External"/><Relationship Id="rId2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hyperlink" Target="file:///../Participant/CouperColler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5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14632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Formation PowerPoint 2002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tre no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71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</a:t>
            </a: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inséré sans lien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476360" y="2349360"/>
          <a:ext cx="5657760" cy="349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349360"/>
                    <a:ext cx="565776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7236000" y="2708280"/>
          <a:ext cx="1728720" cy="936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6000" y="2708280"/>
                    <a:ext cx="1728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42920" y="2057400"/>
            <a:ext cx="825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x musicau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iens Internet et sensitifs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en UR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dresse Internet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à la clientèl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diapositives et présentation insérées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vagues modèlent les cô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apositive de plan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Choix musicau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Orches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class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Jaz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lat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Tables tour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Hip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&amp;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D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443640" y="3610080"/>
            <a:ext cx="2251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2400120" cy="25513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nextslide"/>
          </p:cNvPr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924280"/>
            <a:ext cx="25621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rId1" action="ppaction://hlinksldjump"/>
          </p:cNvPr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1"/>
          </p:cNvPr>
          <p:cNvSpPr/>
          <p:nvPr/>
        </p:nvSpPr>
        <p:spPr>
          <a:xfrm>
            <a:off x="7010280" y="3657600"/>
            <a:ext cx="1752840" cy="10666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Bu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Service à la clientèl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2133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9b1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14800" y="5562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76520" y="3819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53080" y="38098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mpt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9b1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Responsable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47640" y="2277000"/>
            <a:ext cx="8496000" cy="2505960"/>
            <a:chOff x="647640" y="2277000"/>
            <a:chExt cx="8496000" cy="2505960"/>
          </a:xfrm>
        </p:grpSpPr>
        <p:cxnSp>
          <p:nvCxnSpPr>
            <p:cNvPr id="439" name="_s25605"/>
            <p:cNvCxnSpPr>
              <a:stCxn id="440" idx="2"/>
              <a:endCxn id="441" idx="3"/>
            </p:cNvCxnSpPr>
            <p:nvPr/>
          </p:nvCxnSpPr>
          <p:spPr>
            <a:xfrm rot="10800000">
              <a:off x="7068600" y="3237840"/>
              <a:ext cx="317880" cy="13928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2" name="_s25606"/>
            <p:cNvCxnSpPr>
              <a:stCxn id="443" idx="2"/>
              <a:endCxn id="441" idx="3"/>
            </p:cNvCxnSpPr>
            <p:nvPr/>
          </p:nvCxnSpPr>
          <p:spPr>
            <a:xfrm rot="10800000">
              <a:off x="7068600" y="3237840"/>
              <a:ext cx="317880" cy="87876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4" name="_s25607"/>
            <p:cNvCxnSpPr>
              <a:stCxn id="445" idx="2"/>
              <a:endCxn id="441" idx="3"/>
            </p:cNvCxnSpPr>
            <p:nvPr/>
          </p:nvCxnSpPr>
          <p:spPr>
            <a:xfrm rot="10800000">
              <a:off x="7068600" y="3238560"/>
              <a:ext cx="317880" cy="36252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6" name="_s25608"/>
            <p:cNvCxnSpPr>
              <a:stCxn id="447" idx="4"/>
              <a:endCxn id="448" idx="3"/>
            </p:cNvCxnSpPr>
            <p:nvPr/>
          </p:nvCxnSpPr>
          <p:spPr>
            <a:xfrm flipV="1">
              <a:off x="4711320" y="3237840"/>
              <a:ext cx="308160" cy="13928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9" name="_s25609"/>
            <p:cNvCxnSpPr>
              <a:stCxn id="450" idx="4"/>
              <a:endCxn id="448" idx="3"/>
            </p:cNvCxnSpPr>
            <p:nvPr/>
          </p:nvCxnSpPr>
          <p:spPr>
            <a:xfrm flipV="1">
              <a:off x="4711320" y="3237840"/>
              <a:ext cx="308160" cy="87876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1" name="_s25610"/>
            <p:cNvCxnSpPr>
              <a:stCxn id="452" idx="4"/>
              <a:endCxn id="448" idx="3"/>
            </p:cNvCxnSpPr>
            <p:nvPr/>
          </p:nvCxnSpPr>
          <p:spPr>
            <a:xfrm flipV="1">
              <a:off x="4711320" y="3238560"/>
              <a:ext cx="308160" cy="36252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3" name="_s25611"/>
            <p:cNvCxnSpPr>
              <a:stCxn id="454" idx="4"/>
              <a:endCxn id="455" idx="3"/>
            </p:cNvCxnSpPr>
            <p:nvPr/>
          </p:nvCxnSpPr>
          <p:spPr>
            <a:xfrm flipV="1">
              <a:off x="2367720" y="3237840"/>
              <a:ext cx="305640" cy="87876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6" name="_s25612"/>
            <p:cNvCxnSpPr>
              <a:stCxn id="457" idx="4"/>
              <a:endCxn id="455" idx="3"/>
            </p:cNvCxnSpPr>
            <p:nvPr/>
          </p:nvCxnSpPr>
          <p:spPr>
            <a:xfrm flipV="1">
              <a:off x="2367720" y="3238560"/>
              <a:ext cx="305640" cy="36252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8" name="_s25613"/>
            <p:cNvCxnSpPr>
              <a:stCxn id="441" idx="0"/>
              <a:endCxn id="459" idx="3"/>
            </p:cNvCxnSpPr>
            <p:nvPr/>
          </p:nvCxnSpPr>
          <p:spPr>
            <a:xfrm flipV="1" rot="16200000">
              <a:off x="5909040" y="1585800"/>
              <a:ext cx="173520" cy="224388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60" name="_s25614"/>
            <p:cNvCxnSpPr>
              <a:stCxn id="448" idx="0"/>
              <a:endCxn id="459" idx="3"/>
            </p:cNvCxnSpPr>
            <p:nvPr/>
          </p:nvCxnSpPr>
          <p:spPr>
            <a:xfrm flipV="1" rot="16200000">
              <a:off x="4883040" y="2611800"/>
              <a:ext cx="173520" cy="19152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61" name="_s25615"/>
            <p:cNvCxnSpPr>
              <a:stCxn id="455" idx="0"/>
              <a:endCxn id="459" idx="3"/>
            </p:cNvCxnSpPr>
            <p:nvPr/>
          </p:nvCxnSpPr>
          <p:spPr>
            <a:xfrm flipH="1" flipV="1" rot="5400000">
              <a:off x="3711240" y="1631520"/>
              <a:ext cx="173520" cy="215244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sp>
          <p:nvSpPr>
            <p:cNvPr id="459" name="_s25616"/>
            <p:cNvSpPr/>
            <p:nvPr/>
          </p:nvSpPr>
          <p:spPr>
            <a:xfrm>
              <a:off x="4015080" y="2277000"/>
              <a:ext cx="1758960" cy="34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b1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ente des mai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25617"/>
            <p:cNvSpPr/>
            <p:nvPr/>
          </p:nvSpPr>
          <p:spPr>
            <a:xfrm>
              <a:off x="1818360" y="2794320"/>
              <a:ext cx="1758960" cy="443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uy Co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ntré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25618"/>
            <p:cNvSpPr/>
            <p:nvPr/>
          </p:nvSpPr>
          <p:spPr>
            <a:xfrm>
              <a:off x="4161600" y="2794320"/>
              <a:ext cx="1758960" cy="443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Colombe Dub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S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25619"/>
            <p:cNvSpPr/>
            <p:nvPr/>
          </p:nvSpPr>
          <p:spPr>
            <a:xfrm>
              <a:off x="6213600" y="2794320"/>
              <a:ext cx="1758960" cy="443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Armand Duquet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N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25620"/>
            <p:cNvSpPr/>
            <p:nvPr/>
          </p:nvSpPr>
          <p:spPr>
            <a:xfrm>
              <a:off x="647640" y="341136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Édifices à burea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25621"/>
            <p:cNvSpPr/>
            <p:nvPr/>
          </p:nvSpPr>
          <p:spPr>
            <a:xfrm>
              <a:off x="647640" y="392616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me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25622"/>
            <p:cNvSpPr/>
            <p:nvPr/>
          </p:nvSpPr>
          <p:spPr>
            <a:xfrm>
              <a:off x="2991240" y="3411360"/>
              <a:ext cx="175644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tt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25623"/>
            <p:cNvSpPr/>
            <p:nvPr/>
          </p:nvSpPr>
          <p:spPr>
            <a:xfrm>
              <a:off x="2991240" y="392616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dominiu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25624"/>
            <p:cNvSpPr/>
            <p:nvPr/>
          </p:nvSpPr>
          <p:spPr>
            <a:xfrm>
              <a:off x="2991240" y="444096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upl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25625"/>
            <p:cNvSpPr/>
            <p:nvPr/>
          </p:nvSpPr>
          <p:spPr>
            <a:xfrm>
              <a:off x="7386480" y="341136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mmer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25626"/>
            <p:cNvSpPr/>
            <p:nvPr/>
          </p:nvSpPr>
          <p:spPr>
            <a:xfrm>
              <a:off x="7386480" y="392616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ndomin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25627"/>
            <p:cNvSpPr/>
            <p:nvPr/>
          </p:nvSpPr>
          <p:spPr>
            <a:xfrm>
              <a:off x="7386480" y="444096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résidenti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Présentations inséré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405240" cy="3971880"/>
          </a:xfrm>
          <a:prstGeom prst="rect">
            <a:avLst/>
          </a:prstGeom>
          <a:ln w="0">
            <a:noFill/>
          </a:ln>
        </p:spPr>
      </p:pic>
      <p:sp>
        <p:nvSpPr>
          <p:cNvPr id="464" name="">
            <a:hlinkClick r:id="rId3"/>
          </p:cNvPr>
          <p:cNvSpPr/>
          <p:nvPr/>
        </p:nvSpPr>
        <p:spPr>
          <a:xfrm>
            <a:off x="1332000" y="2565360"/>
            <a:ext cx="2663640" cy="2664000"/>
          </a:xfrm>
          <a:prstGeom prst="sun">
            <a:avLst>
              <a:gd name="adj" fmla="val 25000"/>
            </a:avLst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phiqu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rganigramm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bleaux inséré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1" name="">
            <a:hlinkClick r:id="rId2" action="ppaction://hlinksldjump"/>
          </p:cNvPr>
          <p:cNvSpPr/>
          <p:nvPr/>
        </p:nvSpPr>
        <p:spPr>
          <a:xfrm>
            <a:off x="1127160" y="2178000"/>
            <a:ext cx="288720" cy="360360"/>
          </a:xfrm>
          <a:prstGeom prst="flowChartExtra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3" action="ppaction://hlinksldjump"/>
          </p:cNvPr>
          <p:cNvSpPr/>
          <p:nvPr/>
        </p:nvSpPr>
        <p:spPr>
          <a:xfrm>
            <a:off x="1090440" y="2863800"/>
            <a:ext cx="289080" cy="360360"/>
          </a:xfrm>
          <a:prstGeom prst="flowChartExtra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4" action="ppaction://hlinksldjump"/>
          </p:cNvPr>
          <p:cNvSpPr/>
          <p:nvPr/>
        </p:nvSpPr>
        <p:spPr>
          <a:xfrm>
            <a:off x="1090440" y="3548160"/>
            <a:ext cx="289080" cy="360360"/>
          </a:xfrm>
          <a:prstGeom prst="flowChartExtra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 vagues modèlent les cô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 combat entre la mer et la ter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uissance du défer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forces de l’e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résistance du r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roche sertie de crist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 composants vari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575320" y="2266920"/>
            <a:ext cx="2741760" cy="274176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mer a ses jard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 envahiss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e bonne réco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 signe d’é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régime de l’épo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 algues pigment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521240" y="1763280"/>
            <a:ext cx="4038120" cy="3497040"/>
            <a:chOff x="4521240" y="1763280"/>
            <a:chExt cx="4038120" cy="3497040"/>
          </a:xfrm>
        </p:grpSpPr>
        <p:sp>
          <p:nvSpPr>
            <p:cNvPr id="476" name="_s32774"/>
            <p:cNvSpPr/>
            <p:nvPr/>
          </p:nvSpPr>
          <p:spPr>
            <a:xfrm flipV="1">
              <a:off x="5867280" y="1763280"/>
              <a:ext cx="1346040" cy="1164960"/>
            </a:xfrm>
            <a:custGeom>
              <a:avLst/>
              <a:gdLst>
                <a:gd name="textAreaLeft" fmla="*/ 482760 w 1346040"/>
                <a:gd name="textAreaRight" fmla="*/ 863280 w 1346040"/>
                <a:gd name="textAreaTop" fmla="*/ 417960 h 1164960"/>
                <a:gd name="textAreaBottom" fmla="*/ 747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écol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32775"/>
            <p:cNvSpPr/>
            <p:nvPr/>
          </p:nvSpPr>
          <p:spPr>
            <a:xfrm flipV="1">
              <a:off x="5194080" y="2928240"/>
              <a:ext cx="2692080" cy="116640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320 h 1166400"/>
                <a:gd name="textAreaBottom" fmla="*/ 910080 h 11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Épo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_s32776"/>
            <p:cNvSpPr/>
            <p:nvPr/>
          </p:nvSpPr>
          <p:spPr>
            <a:xfrm flipV="1">
              <a:off x="4521240" y="4095360"/>
              <a:ext cx="4038120" cy="1164960"/>
            </a:xfrm>
            <a:custGeom>
              <a:avLst/>
              <a:gdLst>
                <a:gd name="textAreaLeft" fmla="*/ 700920 w 4038120"/>
                <a:gd name="textAreaRight" fmla="*/ 3337200 w 4038120"/>
                <a:gd name="textAreaTop" fmla="*/ 201960 h 1164960"/>
                <a:gd name="textAreaBottom" fmla="*/ 963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g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n les appelle coquillag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 mollusques broute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splendeur nacr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 bibelots de 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herbivore côt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 carnivore cô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allure trompe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mollusque venime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67160" y="1523880"/>
            <a:ext cx="3005280" cy="4202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2788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19040" y="325440"/>
            <a:ext cx="3605400" cy="54720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320840" y="325440"/>
            <a:ext cx="3605040" cy="54720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1320840" y="325440"/>
            <a:ext cx="3605040" cy="5472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5484960" y="200160"/>
            <a:ext cx="2700360" cy="1584360"/>
          </a:xfrm>
          <a:prstGeom prst="wedgeEllipseCallout">
            <a:avLst>
              <a:gd name="adj1" fmla="val -111314"/>
              <a:gd name="adj2" fmla="val 4819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ien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u tourn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 tenni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Maisons vendues pendant 1 moi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038240" y="2065320"/>
          <a:ext cx="7732800" cy="40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2065320"/>
                    <a:ext cx="77328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Bilan des ventes de mais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12960" y="1996920"/>
          <a:ext cx="819612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2960" y="1996920"/>
                    <a:ext cx="81961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Ventes de maison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602080" y="228600"/>
            <a:ext cx="3943080" cy="838080"/>
          </a:xfrm>
          <a:prstGeom prst="flowChartProcess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ur du m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0680" y="1981080"/>
            <a:ext cx="199872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e D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981080"/>
            <a:ext cx="247320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ank D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 des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/>
          <p:nvPr/>
        </p:nvCxnSpPr>
        <p:spPr>
          <a:xfrm>
            <a:off x="115200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50" name=""/>
          <p:cNvCxnSpPr>
            <a:stCxn id="348" idx="3"/>
            <a:endCxn id="348" idx="3"/>
          </p:cNvCxnSpPr>
          <p:nvPr/>
        </p:nvCxnSpPr>
        <p:spPr>
          <a:xfrm>
            <a:off x="8873640" y="24109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51" name=""/>
          <p:cNvCxnSpPr>
            <a:stCxn id="348" idx="0"/>
            <a:endCxn id="346" idx="2"/>
          </p:cNvCxnSpPr>
          <p:nvPr/>
        </p:nvCxnSpPr>
        <p:spPr>
          <a:xfrm flipV="1" rot="16200000">
            <a:off x="5647680" y="-8640"/>
            <a:ext cx="915120" cy="306468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3117960" y="1981080"/>
            <a:ext cx="2361960" cy="83844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ile C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rice des v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2" idx="0"/>
            <a:endCxn id="352" idx="0"/>
          </p:cNvCxnSpPr>
          <p:nvPr/>
        </p:nvCxnSpPr>
        <p:spPr>
          <a:xfrm>
            <a:off x="429876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54" name=""/>
          <p:cNvCxnSpPr>
            <a:stCxn id="352" idx="0"/>
            <a:endCxn id="346" idx="2"/>
          </p:cNvCxnSpPr>
          <p:nvPr/>
        </p:nvCxnSpPr>
        <p:spPr>
          <a:xfrm flipH="1" flipV="1" rot="5400000">
            <a:off x="3978720" y="1386360"/>
            <a:ext cx="915120" cy="27504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390600" y="4533840"/>
            <a:ext cx="1828800" cy="60984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ie Meil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onn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"/>
          <p:cNvCxnSpPr>
            <a:stCxn id="347" idx="0"/>
            <a:endCxn id="346" idx="2"/>
          </p:cNvCxnSpPr>
          <p:nvPr/>
        </p:nvCxnSpPr>
        <p:spPr>
          <a:xfrm flipH="1" flipV="1" rot="5400000">
            <a:off x="2439360" y="-153000"/>
            <a:ext cx="915120" cy="335340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90600" y="3505320"/>
            <a:ext cx="1828800" cy="60948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lain Ter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794640" y="3505320"/>
            <a:ext cx="1685880" cy="102852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an Co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17960" y="32004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o 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17960" y="4229280"/>
            <a:ext cx="2252520" cy="80784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Jeanne Da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Vend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17960" y="52578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 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52" idx="2"/>
            <a:endCxn id="359" idx="3"/>
          </p:cNvCxnSpPr>
          <p:nvPr/>
        </p:nvCxnSpPr>
        <p:spPr>
          <a:xfrm flipH="1" rot="16200000">
            <a:off x="4442040" y="2676240"/>
            <a:ext cx="786240" cy="1072080"/>
          </a:xfrm>
          <a:prstGeom prst="bentConnector4">
            <a:avLst>
              <a:gd name="adj1" fmla="val 33898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60" idx="3"/>
          </p:cNvCxnSpPr>
          <p:nvPr/>
        </p:nvCxnSpPr>
        <p:spPr>
          <a:xfrm flipH="1" rot="16200000">
            <a:off x="3927600" y="3190680"/>
            <a:ext cx="1815120" cy="1072080"/>
          </a:xfrm>
          <a:prstGeom prst="bentConnector4">
            <a:avLst>
              <a:gd name="adj1" fmla="val 14520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52" idx="2"/>
            <a:endCxn id="361" idx="3"/>
          </p:cNvCxnSpPr>
          <p:nvPr/>
        </p:nvCxnSpPr>
        <p:spPr>
          <a:xfrm flipH="1" rot="16200000">
            <a:off x="3413160" y="3704760"/>
            <a:ext cx="2843640" cy="1072080"/>
          </a:xfrm>
          <a:prstGeom prst="bentConnector4">
            <a:avLst>
              <a:gd name="adj1" fmla="val 9369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47" idx="2"/>
            <a:endCxn id="357" idx="1"/>
          </p:cNvCxnSpPr>
          <p:nvPr/>
        </p:nvCxnSpPr>
        <p:spPr>
          <a:xfrm rot="5400000">
            <a:off x="320760" y="2910600"/>
            <a:ext cx="969120" cy="830880"/>
          </a:xfrm>
          <a:prstGeom prst="bentConnector4">
            <a:avLst>
              <a:gd name="adj1" fmla="val 31438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47" idx="2"/>
            <a:endCxn id="355" idx="1"/>
          </p:cNvCxnSpPr>
          <p:nvPr/>
        </p:nvCxnSpPr>
        <p:spPr>
          <a:xfrm rot="5400000">
            <a:off x="-193680" y="3425040"/>
            <a:ext cx="1998000" cy="830880"/>
          </a:xfrm>
          <a:prstGeom prst="bentConnector4">
            <a:avLst>
              <a:gd name="adj1" fmla="val 15245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48" idx="2"/>
            <a:endCxn id="358" idx="0"/>
          </p:cNvCxnSpPr>
          <p:nvPr/>
        </p:nvCxnSpPr>
        <p:spPr>
          <a:xfrm>
            <a:off x="7637040" y="2841480"/>
            <a:ext cx="10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9164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1520" y="181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lackChancery"/>
              </a:rPr>
              <a:t>Informatiqu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9880" y="2077920"/>
            <a:ext cx="2135160" cy="2452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1520" y="320040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1520" y="501804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75" idx="4"/>
            <a:endCxn id="374" idx="1"/>
          </p:cNvCxnSpPr>
          <p:nvPr/>
        </p:nvCxnSpPr>
        <p:spPr>
          <a:xfrm flipV="1">
            <a:off x="1904760" y="3304800"/>
            <a:ext cx="1905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6" idx="4"/>
            <a:endCxn id="374" idx="1"/>
          </p:cNvCxnSpPr>
          <p:nvPr/>
        </p:nvCxnSpPr>
        <p:spPr>
          <a:xfrm flipV="1">
            <a:off x="1904760" y="3304800"/>
            <a:ext cx="1905480" cy="22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371520" y="1324080"/>
            <a:ext cx="1533600" cy="112212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"/>
          <p:cNvCxnSpPr>
            <a:stCxn id="379" idx="3"/>
            <a:endCxn id="375" idx="1"/>
          </p:cNvCxnSpPr>
          <p:nvPr/>
        </p:nvCxnSpPr>
        <p:spPr>
          <a:xfrm>
            <a:off x="1137960" y="244584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066680" y="243828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426888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05120" y="316224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945040" y="5181480"/>
            <a:ext cx="2590920" cy="1255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son-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"/>
          <p:cNvCxnSpPr>
            <a:stCxn id="384" idx="0"/>
            <a:endCxn id="374" idx="3"/>
          </p:cNvCxnSpPr>
          <p:nvPr/>
        </p:nvCxnSpPr>
        <p:spPr>
          <a:xfrm flipH="1" flipV="1">
            <a:off x="5944320" y="3304800"/>
            <a:ext cx="1296360" cy="18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6095880" y="396252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5880" y="1324080"/>
            <a:ext cx="273384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95880" y="1324080"/>
            <a:ext cx="244008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nor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28920" y="5994360"/>
            <a:ext cx="955800" cy="76824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84" idx="1"/>
            <a:endCxn id="389" idx="3"/>
          </p:cNvCxnSpPr>
          <p:nvPr/>
        </p:nvCxnSpPr>
        <p:spPr>
          <a:xfrm flipH="1">
            <a:off x="4284360" y="5810400"/>
            <a:ext cx="166104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3332160" y="5018040"/>
            <a:ext cx="1095480" cy="88128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e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84" idx="1"/>
            <a:endCxn id="391" idx="3"/>
          </p:cNvCxnSpPr>
          <p:nvPr/>
        </p:nvCxnSpPr>
        <p:spPr>
          <a:xfrm flipH="1" flipV="1">
            <a:off x="4426920" y="5459040"/>
            <a:ext cx="15181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7467480" y="6660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previousslide"/>
          </p:cNvPr>
          <p:cNvSpPr/>
          <p:nvPr/>
        </p:nvSpPr>
        <p:spPr>
          <a:xfrm>
            <a:off x="6892920" y="6516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30880" y="6660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68840" y="6660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inséré avec lien 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2044800" y="2057400"/>
            <a:ext cx="581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16:50Z</dcterms:created>
  <dc:creator>dmdfor1</dc:creator>
  <dc:description/>
  <dc:language>en-US</dc:language>
  <cp:lastModifiedBy>Caroline Lavoie</cp:lastModifiedBy>
  <dcterms:modified xsi:type="dcterms:W3CDTF">2006-02-24T01:02:53Z</dcterms:modified>
  <cp:revision>46</cp:revision>
  <dc:subject/>
  <dc:title>Tableau inséré avec lien </dc:title>
</cp:coreProperties>
</file>