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00E9-CAF6-4F72-9A42-21E62C7B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0A84-D31B-4B7E-88F3-27DAB3EC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BB58-280B-4711-874F-9528DFBB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7D7B-635D-49F9-8B61-EC2ABD24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5FC5-8108-4866-ADDF-04ED7E5A5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93EF-8D91-4D83-BC18-AC9D1A47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1CE9-4A59-4E55-9F7B-3FD2F369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FF23-EBA5-4E38-A7D3-81284D28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0F82-4A77-4FB7-A653-42DBD248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74E3-95CF-433B-A089-47BC5792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1FD1-BE67-4930-A574-B622BB84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98DA-D79F-4909-80D7-6E5E981E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310B-400C-4F20-B013-FB700E2A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7141-978E-46F5-93AA-340454EF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BF6E-F255-4378-99C2-17035314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A3AF-90ED-442D-BF7C-62FCECAC3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FBCD-CD2A-4A66-BDB8-1D29F434B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88CE-FE68-405F-AE9B-D095352F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D39F-D4AD-41F3-B22D-3AE9AFC4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8CB8-D793-4671-818D-AB4CB141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217F-9370-45B9-AD84-E3965943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B87A-1AF4-40D5-A8F9-D0FBF88E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125F-D2CB-48D8-9D03-8951FFD3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FE99-736E-457C-87CC-D8C94268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34ED-D241-4EF1-A314-8A3751F848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49B4-BB52-49B3-BCC7-99C706DAAF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66880" y="20570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ahoma"/>
              </a:rPr>
              <a:t>Organisation de fêt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200040" y="4038120"/>
            <a:ext cx="4724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Un souvenir inoubli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2935440" cy="54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ahoma"/>
              </a:rPr>
              <a:t>Choix musicaux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cc00"/>
                </a:solidFill>
                <a:latin typeface="Tahoma"/>
              </a:rPr>
              <a:t>Orchest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Musique class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Jaz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Musique lat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Coun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956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cc00"/>
                </a:solidFill>
                <a:latin typeface="Tahoma"/>
              </a:rPr>
              <a:t>Tables tourn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Hip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R&amp;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Dis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443640" y="3610080"/>
            <a:ext cx="22510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ahoma"/>
              </a:rPr>
              <a:t>Déroulement des activité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3809880"/>
            <a:ext cx="1676520" cy="9144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 Black"/>
              </a:rPr>
              <a:t>Accue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0" y="3657600"/>
            <a:ext cx="1828800" cy="11430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be92"/>
              </a:gs>
              <a:gs pos="50000">
                <a:srgbClr val="ff822d"/>
              </a:gs>
              <a:gs pos="100000">
                <a:srgbClr val="febe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Arial Black"/>
              </a:rPr>
              <a:t>Pun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4762440" y="2514600"/>
            <a:ext cx="19051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f3c8"/>
              </a:gs>
              <a:gs pos="50000">
                <a:srgbClr val="00cc00"/>
              </a:gs>
              <a:gs pos="100000">
                <a:srgbClr val="c8f3c8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Da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762440" y="4572000"/>
            <a:ext cx="19051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f3c8"/>
              </a:gs>
              <a:gs pos="50000">
                <a:srgbClr val="00cc00"/>
              </a:gs>
              <a:gs pos="100000">
                <a:srgbClr val="c8f3c8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Spectac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7010280" y="3657600"/>
            <a:ext cx="1752840" cy="10666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Buff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3733920"/>
            <a:ext cx="380880" cy="747720"/>
          </a:xfrm>
          <a:custGeom>
            <a:avLst/>
            <a:gdLst/>
            <a:ahLst/>
            <a:rect l="l" t="t" r="r" b="b"/>
            <a:pathLst>
              <a:path w="240" h="471">
                <a:moveTo>
                  <a:pt x="240" y="0"/>
                </a:moveTo>
                <a:lnTo>
                  <a:pt x="0" y="231"/>
                </a:lnTo>
                <a:lnTo>
                  <a:pt x="240" y="471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ahoma"/>
              </a:rPr>
              <a:t>Pour toutes sortes d’occas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Cérémonies religieu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Mari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Baptê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Anniversa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Affa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Confér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Réceptions d’ouver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867280" y="2743200"/>
            <a:ext cx="25909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ahoma"/>
              </a:rPr>
              <a:t>Buffets succulen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Cuisine légè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Cuisine raffiné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Cuisine internation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Ital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Mex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As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BBQ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Cockt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495680" y="2343240"/>
            <a:ext cx="381024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9T15:18:21Z</dcterms:created>
  <dc:creator>Katie Miadlikowski</dc:creator>
  <dc:description/>
  <dc:language>en-US</dc:language>
  <cp:lastModifiedBy>Carole Gagnon</cp:lastModifiedBy>
  <dcterms:modified xsi:type="dcterms:W3CDTF">2006-02-23T17:17:55Z</dcterms:modified>
  <cp:revision>19</cp:revision>
  <dc:subject/>
  <dc:title>Organisation de fêtes</dc:title>
</cp:coreProperties>
</file>