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gif" ContentType="image/gi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  <p:custShowLst>
    <p:custShow name="Service" id="0">
      <p:sldLst>
        <p:sld r:id="rId23"/>
        <p:sld r:id="rId24"/>
        <p:sld r:id="rId25"/>
      </p:sldLst>
    </p:custShow>
    <p:custShow name="Vague" id="1">
      <p:sldLst>
        <p:sld r:id="rId26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9210-D00D-4CD8-B316-7C95EB9056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36D0-E625-453A-BB5B-5DF25140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030A-4D21-47B6-B6A9-298739A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B1E6-F658-46CA-BF7A-4EC284E8F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70CA4-FD09-40C2-A877-10FB9D8B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FDCE0-889D-44FD-A2CC-9505141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5BFF3-3EDD-4068-9077-5042556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15BC8-30CF-4987-8ACB-A6BF19D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62D2-09E2-4D87-A420-E4DBD036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89788-9CBA-435D-9D7F-EF4B2370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7371-2500-4440-80FA-943889F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5293-6A3A-45B5-B83D-BAE6E90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B3E7E-D438-42AB-9CE6-8F1B166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87330-DD44-493F-95AC-FF4D825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5EC1A-E7D0-479A-AE79-203771A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2E26-CFFA-4A58-9CB2-459ADCA3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9391-24C3-4580-B839-1CC3179C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47173-2EB2-4050-92C7-5A5275E75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E929C-8DE6-483E-A0A6-5987C8A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F05B6-CE97-4CC8-A621-6B482AC7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D1F7C-72D6-4CC2-B7BE-794A1F4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3C5F8-D003-48D4-BA57-6EAD53D3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E1C2-341A-46D0-9CF8-92E29933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288CF-D697-4BB0-A943-6182024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26A17-9B84-4E89-A676-BE46F74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2019A-78C8-4072-9587-A202BD7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14BC2-33AB-432F-86E5-091CB7B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30431-793E-43B1-931C-376D5AF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E552D-DA5A-4170-BB69-088D896E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F32B3-EA99-4D23-A235-F45E99E19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98AFB-5C7A-4CF4-A337-B85E5E5A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CC61B-E830-4D4D-899E-0B9D152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627B8-5D24-4694-B365-083168DA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0F6A-0063-44F6-9926-8A0CF9F1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6A94A-9D78-4A76-90AF-5A3061D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CD13B-C55C-4AC8-A700-DDFEBB8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2ECF9-847C-4573-B200-1EEE5EFE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E7AA3-A138-424B-91E0-48BCBE7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62E06-954B-4040-B47C-4199B5A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DE873-3E26-428D-8E50-834537D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BA1EA-9674-4A35-AC60-33E5FBE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328F7-33F8-4475-AC57-C876D61B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FDACC-746A-461C-A099-8576C81E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2FA6-14A8-489A-934C-4D47FCA09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B9F5-2926-48C0-9C30-B1E26239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3D4A-AFAA-40BC-8446-CC6E6D5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C907-5888-4EE6-8B90-961B2217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06D5-A81B-4ED2-BFA2-27F6CAF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505B-2C14-4982-BED0-DA9842ED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811A-CB51-4403-AB6C-843100EC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F466-2B6D-4B06-BF84-8FDAB07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7B08-7E6C-4006-9C79-68B38C8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4921-7D46-439B-969F-4390E1D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4634-0E3D-4D86-83A1-8FFA0DD0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9998-2025-4EFF-A1A3-28DD3A7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2C52-86A5-4D0C-A35B-EC4E9DEC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F0D7-1A76-4C2E-91C9-75F3B2289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2F552-80C2-4BB3-9E7C-2D61066E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5E50B-9D04-4C95-988D-C571055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4CDEB-1353-4A3B-9303-6C7A925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86B39-3B31-406E-AF94-EDEF941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1F026-85AF-48BC-8B19-D323145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A94DA-D6D2-4D7A-ACA8-3592B9F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7A282-2F1E-494B-9263-8D95BD8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4A42-3D82-41E0-8B5E-2CE0C1C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F9490-C936-4E84-9A21-48C3B24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60DF-878C-4FA4-90A8-0043947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FD85E-D367-4EEB-9241-5FCA27F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E0E37-72E7-4990-B529-7634756B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4C5F3-6963-427A-8768-B8A19D1B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08A9-7D94-4AAA-BE41-FFA65A4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306F-C18A-4370-8E49-DC55D7A5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0060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DCD9-D779-4A6E-A09C-FD4D53C1D8D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rId10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11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8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C23B-E258-478D-A9A7-C65B51C2957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7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7"/>
          </p:nvPr>
        </p:nvSpPr>
        <p:spPr>
          <a:xfrm>
            <a:off x="786744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FFDC-8BB3-484C-AD0E-0FA097604D6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A7F-D36C-4BEA-8A94-499566355D3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8244000" y="6248520"/>
            <a:ext cx="44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DD4-3EE4-4D35-AF5D-43F5BC037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FA1-D8C4-49B2-80BC-A46DF87AD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Participant/Fetes.ppt" TargetMode="Externa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phiqu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gram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aux inséré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1127160" y="2178000"/>
            <a:ext cx="28872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3" action="ppaction://hlinksldjump"/>
          </p:cNvPr>
          <p:cNvSpPr/>
          <p:nvPr/>
        </p:nvSpPr>
        <p:spPr>
          <a:xfrm>
            <a:off x="1090440" y="286380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1090440" y="354816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2057400"/>
            <a:ext cx="825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x musicau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iens Internet et sensitif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n UR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resse Internet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à la clientè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iapositives et présentation insérée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vagues modèlent les cô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positive de plan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001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2562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/>
          </p:cNvPr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434" name="_s25605"/>
            <p:cNvCxnSpPr>
              <a:stCxn id="435" idx="2"/>
              <a:endCxn id="436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37" name="_s25606"/>
            <p:cNvCxnSpPr>
              <a:stCxn id="438" idx="2"/>
              <a:endCxn id="436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39" name="_s25607"/>
            <p:cNvCxnSpPr>
              <a:stCxn id="440" idx="2"/>
              <a:endCxn id="436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1" name="_s25608"/>
            <p:cNvCxnSpPr>
              <a:stCxn id="442" idx="4"/>
              <a:endCxn id="443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4" name="_s25609"/>
            <p:cNvCxnSpPr>
              <a:stCxn id="445" idx="4"/>
              <a:endCxn id="443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6" name="_s25610"/>
            <p:cNvCxnSpPr>
              <a:stCxn id="447" idx="4"/>
              <a:endCxn id="443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8" name="_s25611"/>
            <p:cNvCxnSpPr>
              <a:stCxn id="449" idx="4"/>
              <a:endCxn id="450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1" name="_s25612"/>
            <p:cNvCxnSpPr>
              <a:stCxn id="452" idx="4"/>
              <a:endCxn id="450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3" name="_s25613"/>
            <p:cNvCxnSpPr>
              <a:stCxn id="436" idx="0"/>
              <a:endCxn id="454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5" name="_s25614"/>
            <p:cNvCxnSpPr>
              <a:stCxn id="443" idx="0"/>
              <a:endCxn id="454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6" name="_s25615"/>
            <p:cNvCxnSpPr>
              <a:stCxn id="450" idx="0"/>
              <a:endCxn id="454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54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405240" cy="397188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46" name=""/>
          <p:cNvCxnSpPr>
            <a:stCxn id="344" idx="3"/>
            <a:endCxn id="344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47" name=""/>
          <p:cNvCxnSpPr>
            <a:stCxn id="344" idx="0"/>
            <a:endCxn id="342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8" idx="0"/>
            <a:endCxn id="348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0" name=""/>
          <p:cNvCxnSpPr>
            <a:stCxn id="348" idx="0"/>
            <a:endCxn id="342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3" idx="0"/>
            <a:endCxn id="342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48" idx="2"/>
            <a:endCxn id="355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8" idx="2"/>
            <a:endCxn id="356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8" idx="2"/>
            <a:endCxn id="357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3" idx="2"/>
            <a:endCxn id="353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3" idx="2"/>
            <a:endCxn id="351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44" idx="2"/>
            <a:endCxn id="354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0" idx="4"/>
            <a:endCxn id="369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1" idx="4"/>
            <a:endCxn id="369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4" idx="3"/>
            <a:endCxn id="370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79" idx="0"/>
            <a:endCxn id="369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79" idx="1"/>
            <a:endCxn id="384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79" idx="1"/>
            <a:endCxn id="386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7467480" y="6660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6892920" y="6516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088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6884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ine Lavoie</cp:lastModifiedBy>
  <dcterms:modified xsi:type="dcterms:W3CDTF">2006-02-24T01:00:54Z</dcterms:modified>
  <cp:revision>29</cp:revision>
  <dc:subject/>
  <dc:title>Tableau inséré avec lien </dc:title>
</cp:coreProperties>
</file>