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29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D73-0C07-474D-938F-F0C285E7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699480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7400" y="5782320"/>
            <a:ext cx="699480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7EC-9B31-4F22-9A69-262CBF62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1560" y="277308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7400" y="578232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01560" y="578232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7E3-D395-4A1A-88F2-9977F229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2252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2600" y="2773080"/>
            <a:ext cx="2252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47800" y="2773080"/>
            <a:ext cx="2252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7400" y="5782320"/>
            <a:ext cx="2252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2600" y="5782320"/>
            <a:ext cx="2252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47800" y="5782320"/>
            <a:ext cx="2252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8C4-CC5F-4C20-86B2-62BF8796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7400" y="2773080"/>
            <a:ext cx="699480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4BF-DFFB-43B0-AB33-F599B039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6994800" cy="576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B93-B437-4CE2-80BA-40DA43BB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3413160" cy="576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01560" y="2773080"/>
            <a:ext cx="3413160" cy="576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606-DF93-4FFE-8989-08CB3E7B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E0C-96E4-4E56-9B1A-B1B651C4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7400" y="853560"/>
            <a:ext cx="69948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535-84C6-4300-81A5-59B64F65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01560" y="2773080"/>
            <a:ext cx="3413160" cy="576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7400" y="578232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B88-A1F1-4B3D-B1E3-ED674A49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3413160" cy="576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1560" y="277308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01560" y="578232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DD7-C315-4016-ACF2-C300E94F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01560" y="277308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7400" y="5782320"/>
            <a:ext cx="699480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D76-2FB7-48F0-82DC-B1FE1A2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7400" y="2773080"/>
            <a:ext cx="6994800" cy="576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9988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4920" indent="-2412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8588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8640" indent="-241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68640" indent="-241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68640" indent="-241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040" y="8746920"/>
            <a:ext cx="1714680" cy="641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1600" y="8746920"/>
            <a:ext cx="2606400" cy="641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97160" y="8746920"/>
            <a:ext cx="1714680" cy="641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34C155C-F0EF-4EBC-9DE1-4631A61DC7C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2.png"/><Relationship Id="rId26" Type="http://schemas.openxmlformats.org/officeDocument/2006/relationships/image" Target="../media/image3.png"/><Relationship Id="rId27" Type="http://schemas.openxmlformats.org/officeDocument/2006/relationships/image" Target="../media/image4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448840" y="-726480"/>
            <a:ext cx="1301760" cy="1314720"/>
            <a:chOff x="8448840" y="-726480"/>
            <a:chExt cx="1301760" cy="1314720"/>
          </a:xfrm>
        </p:grpSpPr>
        <p:sp>
          <p:nvSpPr>
            <p:cNvPr id="42" name=""/>
            <p:cNvSpPr/>
            <p:nvPr/>
          </p:nvSpPr>
          <p:spPr>
            <a:xfrm rot="21371400">
              <a:off x="8687880" y="-693360"/>
              <a:ext cx="1028880" cy="1039680"/>
            </a:xfrm>
            <a:custGeom>
              <a:avLst/>
              <a:gdLst/>
              <a:ahLst/>
              <a:rect l="l" t="t" r="r" b="b"/>
              <a:pathLst>
                <a:path w="648" h="655">
                  <a:moveTo>
                    <a:pt x="4" y="202"/>
                  </a:moveTo>
                  <a:lnTo>
                    <a:pt x="0" y="124"/>
                  </a:lnTo>
                  <a:lnTo>
                    <a:pt x="12" y="70"/>
                  </a:lnTo>
                  <a:lnTo>
                    <a:pt x="46" y="25"/>
                  </a:lnTo>
                  <a:lnTo>
                    <a:pt x="106" y="1"/>
                  </a:lnTo>
                  <a:lnTo>
                    <a:pt x="195" y="0"/>
                  </a:lnTo>
                  <a:lnTo>
                    <a:pt x="292" y="7"/>
                  </a:lnTo>
                  <a:lnTo>
                    <a:pt x="387" y="37"/>
                  </a:lnTo>
                  <a:lnTo>
                    <a:pt x="457" y="73"/>
                  </a:lnTo>
                  <a:lnTo>
                    <a:pt x="519" y="126"/>
                  </a:lnTo>
                  <a:lnTo>
                    <a:pt x="571" y="190"/>
                  </a:lnTo>
                  <a:lnTo>
                    <a:pt x="619" y="276"/>
                  </a:lnTo>
                  <a:lnTo>
                    <a:pt x="639" y="360"/>
                  </a:lnTo>
                  <a:lnTo>
                    <a:pt x="648" y="435"/>
                  </a:lnTo>
                  <a:lnTo>
                    <a:pt x="642" y="495"/>
                  </a:lnTo>
                  <a:lnTo>
                    <a:pt x="625" y="561"/>
                  </a:lnTo>
                  <a:lnTo>
                    <a:pt x="595" y="613"/>
                  </a:lnTo>
                  <a:lnTo>
                    <a:pt x="559" y="640"/>
                  </a:lnTo>
                  <a:lnTo>
                    <a:pt x="505" y="655"/>
                  </a:lnTo>
                  <a:lnTo>
                    <a:pt x="433" y="634"/>
                  </a:lnTo>
                  <a:lnTo>
                    <a:pt x="4" y="202"/>
                  </a:lnTo>
                  <a:close/>
                </a:path>
              </a:pathLst>
            </a:custGeom>
            <a:solidFill>
              <a:srgbClr val="e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1371400">
              <a:off x="8473680" y="-211680"/>
              <a:ext cx="747720" cy="776160"/>
            </a:xfrm>
            <a:custGeom>
              <a:avLst/>
              <a:gdLst/>
              <a:ahLst/>
              <a:rect l="l" t="t" r="r" b="b"/>
              <a:pathLst>
                <a:path w="471" h="489">
                  <a:moveTo>
                    <a:pt x="450" y="478"/>
                  </a:moveTo>
                  <a:lnTo>
                    <a:pt x="398" y="489"/>
                  </a:lnTo>
                  <a:lnTo>
                    <a:pt x="338" y="481"/>
                  </a:lnTo>
                  <a:lnTo>
                    <a:pt x="279" y="453"/>
                  </a:lnTo>
                  <a:lnTo>
                    <a:pt x="225" y="427"/>
                  </a:lnTo>
                  <a:lnTo>
                    <a:pt x="167" y="391"/>
                  </a:lnTo>
                  <a:lnTo>
                    <a:pt x="114" y="346"/>
                  </a:lnTo>
                  <a:lnTo>
                    <a:pt x="75" y="292"/>
                  </a:lnTo>
                  <a:lnTo>
                    <a:pt x="41" y="231"/>
                  </a:lnTo>
                  <a:lnTo>
                    <a:pt x="12" y="160"/>
                  </a:lnTo>
                  <a:lnTo>
                    <a:pt x="5" y="105"/>
                  </a:lnTo>
                  <a:lnTo>
                    <a:pt x="0" y="51"/>
                  </a:lnTo>
                  <a:lnTo>
                    <a:pt x="17" y="0"/>
                  </a:lnTo>
                  <a:lnTo>
                    <a:pt x="195" y="18"/>
                  </a:lnTo>
                  <a:lnTo>
                    <a:pt x="392" y="102"/>
                  </a:lnTo>
                  <a:lnTo>
                    <a:pt x="471" y="319"/>
                  </a:lnTo>
                  <a:lnTo>
                    <a:pt x="450" y="478"/>
                  </a:lnTo>
                  <a:close/>
                </a:path>
              </a:pathLst>
            </a:custGeom>
            <a:solidFill>
              <a:srgbClr val="ffa04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1371400">
              <a:off x="8494920" y="-414360"/>
              <a:ext cx="974880" cy="947520"/>
            </a:xfrm>
            <a:custGeom>
              <a:avLst/>
              <a:gdLst/>
              <a:ahLst/>
              <a:rect l="l" t="t" r="r" b="b"/>
              <a:pathLst>
                <a:path w="614" h="597">
                  <a:moveTo>
                    <a:pt x="159" y="0"/>
                  </a:moveTo>
                  <a:lnTo>
                    <a:pt x="231" y="0"/>
                  </a:lnTo>
                  <a:lnTo>
                    <a:pt x="311" y="14"/>
                  </a:lnTo>
                  <a:lnTo>
                    <a:pt x="381" y="35"/>
                  </a:lnTo>
                  <a:lnTo>
                    <a:pt x="443" y="63"/>
                  </a:lnTo>
                  <a:lnTo>
                    <a:pt x="500" y="108"/>
                  </a:lnTo>
                  <a:lnTo>
                    <a:pt x="543" y="158"/>
                  </a:lnTo>
                  <a:lnTo>
                    <a:pt x="573" y="206"/>
                  </a:lnTo>
                  <a:lnTo>
                    <a:pt x="597" y="258"/>
                  </a:lnTo>
                  <a:lnTo>
                    <a:pt x="611" y="318"/>
                  </a:lnTo>
                  <a:lnTo>
                    <a:pt x="614" y="378"/>
                  </a:lnTo>
                  <a:lnTo>
                    <a:pt x="608" y="444"/>
                  </a:lnTo>
                  <a:lnTo>
                    <a:pt x="434" y="597"/>
                  </a:lnTo>
                  <a:lnTo>
                    <a:pt x="423" y="513"/>
                  </a:lnTo>
                  <a:lnTo>
                    <a:pt x="404" y="447"/>
                  </a:lnTo>
                  <a:lnTo>
                    <a:pt x="365" y="359"/>
                  </a:lnTo>
                  <a:lnTo>
                    <a:pt x="314" y="299"/>
                  </a:lnTo>
                  <a:lnTo>
                    <a:pt x="249" y="230"/>
                  </a:lnTo>
                  <a:lnTo>
                    <a:pt x="159" y="170"/>
                  </a:lnTo>
                  <a:lnTo>
                    <a:pt x="84" y="138"/>
                  </a:lnTo>
                  <a:lnTo>
                    <a:pt x="0" y="11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267360" y="4836240"/>
            <a:ext cx="1301040" cy="1314360"/>
            <a:chOff x="3267360" y="4836240"/>
            <a:chExt cx="1301040" cy="1314360"/>
          </a:xfrm>
        </p:grpSpPr>
        <p:sp>
          <p:nvSpPr>
            <p:cNvPr id="46" name=""/>
            <p:cNvSpPr/>
            <p:nvPr/>
          </p:nvSpPr>
          <p:spPr>
            <a:xfrm rot="21371400">
              <a:off x="3506040" y="4869000"/>
              <a:ext cx="1028520" cy="1039680"/>
            </a:xfrm>
            <a:custGeom>
              <a:avLst/>
              <a:gdLst/>
              <a:ahLst/>
              <a:rect l="l" t="t" r="r" b="b"/>
              <a:pathLst>
                <a:path w="648" h="655">
                  <a:moveTo>
                    <a:pt x="4" y="202"/>
                  </a:moveTo>
                  <a:lnTo>
                    <a:pt x="0" y="124"/>
                  </a:lnTo>
                  <a:lnTo>
                    <a:pt x="12" y="70"/>
                  </a:lnTo>
                  <a:lnTo>
                    <a:pt x="46" y="25"/>
                  </a:lnTo>
                  <a:lnTo>
                    <a:pt x="106" y="1"/>
                  </a:lnTo>
                  <a:lnTo>
                    <a:pt x="195" y="0"/>
                  </a:lnTo>
                  <a:lnTo>
                    <a:pt x="292" y="7"/>
                  </a:lnTo>
                  <a:lnTo>
                    <a:pt x="387" y="37"/>
                  </a:lnTo>
                  <a:lnTo>
                    <a:pt x="457" y="73"/>
                  </a:lnTo>
                  <a:lnTo>
                    <a:pt x="519" y="126"/>
                  </a:lnTo>
                  <a:lnTo>
                    <a:pt x="571" y="190"/>
                  </a:lnTo>
                  <a:lnTo>
                    <a:pt x="619" y="276"/>
                  </a:lnTo>
                  <a:lnTo>
                    <a:pt x="639" y="360"/>
                  </a:lnTo>
                  <a:lnTo>
                    <a:pt x="648" y="435"/>
                  </a:lnTo>
                  <a:lnTo>
                    <a:pt x="642" y="495"/>
                  </a:lnTo>
                  <a:lnTo>
                    <a:pt x="625" y="561"/>
                  </a:lnTo>
                  <a:lnTo>
                    <a:pt x="595" y="613"/>
                  </a:lnTo>
                  <a:lnTo>
                    <a:pt x="559" y="640"/>
                  </a:lnTo>
                  <a:lnTo>
                    <a:pt x="505" y="655"/>
                  </a:lnTo>
                  <a:lnTo>
                    <a:pt x="433" y="634"/>
                  </a:lnTo>
                  <a:lnTo>
                    <a:pt x="4" y="202"/>
                  </a:lnTo>
                  <a:close/>
                </a:path>
              </a:pathLst>
            </a:custGeom>
            <a:solidFill>
              <a:srgbClr val="e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1371400">
              <a:off x="3292200" y="5350320"/>
              <a:ext cx="747360" cy="776160"/>
            </a:xfrm>
            <a:custGeom>
              <a:avLst/>
              <a:gdLst/>
              <a:ahLst/>
              <a:rect l="l" t="t" r="r" b="b"/>
              <a:pathLst>
                <a:path w="471" h="489">
                  <a:moveTo>
                    <a:pt x="450" y="478"/>
                  </a:moveTo>
                  <a:lnTo>
                    <a:pt x="398" y="489"/>
                  </a:lnTo>
                  <a:lnTo>
                    <a:pt x="338" y="481"/>
                  </a:lnTo>
                  <a:lnTo>
                    <a:pt x="279" y="453"/>
                  </a:lnTo>
                  <a:lnTo>
                    <a:pt x="225" y="427"/>
                  </a:lnTo>
                  <a:lnTo>
                    <a:pt x="167" y="391"/>
                  </a:lnTo>
                  <a:lnTo>
                    <a:pt x="114" y="346"/>
                  </a:lnTo>
                  <a:lnTo>
                    <a:pt x="75" y="292"/>
                  </a:lnTo>
                  <a:lnTo>
                    <a:pt x="41" y="231"/>
                  </a:lnTo>
                  <a:lnTo>
                    <a:pt x="12" y="160"/>
                  </a:lnTo>
                  <a:lnTo>
                    <a:pt x="5" y="105"/>
                  </a:lnTo>
                  <a:lnTo>
                    <a:pt x="0" y="51"/>
                  </a:lnTo>
                  <a:lnTo>
                    <a:pt x="17" y="0"/>
                  </a:lnTo>
                  <a:lnTo>
                    <a:pt x="195" y="18"/>
                  </a:lnTo>
                  <a:lnTo>
                    <a:pt x="392" y="102"/>
                  </a:lnTo>
                  <a:lnTo>
                    <a:pt x="471" y="319"/>
                  </a:lnTo>
                  <a:lnTo>
                    <a:pt x="450" y="478"/>
                  </a:lnTo>
                  <a:close/>
                </a:path>
              </a:pathLst>
            </a:custGeom>
            <a:solidFill>
              <a:srgbClr val="ffa04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1371400">
              <a:off x="3312720" y="5147640"/>
              <a:ext cx="974520" cy="947520"/>
            </a:xfrm>
            <a:custGeom>
              <a:avLst/>
              <a:gdLst/>
              <a:ahLst/>
              <a:rect l="l" t="t" r="r" b="b"/>
              <a:pathLst>
                <a:path w="614" h="597">
                  <a:moveTo>
                    <a:pt x="159" y="0"/>
                  </a:moveTo>
                  <a:lnTo>
                    <a:pt x="231" y="0"/>
                  </a:lnTo>
                  <a:lnTo>
                    <a:pt x="311" y="14"/>
                  </a:lnTo>
                  <a:lnTo>
                    <a:pt x="381" y="35"/>
                  </a:lnTo>
                  <a:lnTo>
                    <a:pt x="443" y="63"/>
                  </a:lnTo>
                  <a:lnTo>
                    <a:pt x="500" y="108"/>
                  </a:lnTo>
                  <a:lnTo>
                    <a:pt x="543" y="158"/>
                  </a:lnTo>
                  <a:lnTo>
                    <a:pt x="573" y="206"/>
                  </a:lnTo>
                  <a:lnTo>
                    <a:pt x="597" y="258"/>
                  </a:lnTo>
                  <a:lnTo>
                    <a:pt x="611" y="318"/>
                  </a:lnTo>
                  <a:lnTo>
                    <a:pt x="614" y="378"/>
                  </a:lnTo>
                  <a:lnTo>
                    <a:pt x="608" y="444"/>
                  </a:lnTo>
                  <a:lnTo>
                    <a:pt x="434" y="597"/>
                  </a:lnTo>
                  <a:lnTo>
                    <a:pt x="423" y="513"/>
                  </a:lnTo>
                  <a:lnTo>
                    <a:pt x="404" y="447"/>
                  </a:lnTo>
                  <a:lnTo>
                    <a:pt x="365" y="359"/>
                  </a:lnTo>
                  <a:lnTo>
                    <a:pt x="314" y="299"/>
                  </a:lnTo>
                  <a:lnTo>
                    <a:pt x="249" y="230"/>
                  </a:lnTo>
                  <a:lnTo>
                    <a:pt x="159" y="170"/>
                  </a:lnTo>
                  <a:lnTo>
                    <a:pt x="84" y="138"/>
                  </a:lnTo>
                  <a:lnTo>
                    <a:pt x="0" y="11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905920" y="4437360"/>
            <a:ext cx="2215080" cy="2079720"/>
            <a:chOff x="2905920" y="4437360"/>
            <a:chExt cx="2215080" cy="2079720"/>
          </a:xfrm>
        </p:grpSpPr>
        <p:sp>
          <p:nvSpPr>
            <p:cNvPr id="50" name=""/>
            <p:cNvSpPr/>
            <p:nvPr/>
          </p:nvSpPr>
          <p:spPr>
            <a:xfrm flipH="1" rot="21372000">
              <a:off x="2960280" y="4491360"/>
              <a:ext cx="1695600" cy="1709640"/>
            </a:xfrm>
            <a:custGeom>
              <a:avLst/>
              <a:gdLst/>
              <a:ahLst/>
              <a:rect l="l" t="t" r="r" b="b"/>
              <a:pathLst>
                <a:path w="648" h="655">
                  <a:moveTo>
                    <a:pt x="4" y="202"/>
                  </a:moveTo>
                  <a:lnTo>
                    <a:pt x="0" y="124"/>
                  </a:lnTo>
                  <a:lnTo>
                    <a:pt x="12" y="70"/>
                  </a:lnTo>
                  <a:lnTo>
                    <a:pt x="46" y="25"/>
                  </a:lnTo>
                  <a:lnTo>
                    <a:pt x="106" y="1"/>
                  </a:lnTo>
                  <a:lnTo>
                    <a:pt x="195" y="0"/>
                  </a:lnTo>
                  <a:lnTo>
                    <a:pt x="292" y="7"/>
                  </a:lnTo>
                  <a:lnTo>
                    <a:pt x="387" y="37"/>
                  </a:lnTo>
                  <a:lnTo>
                    <a:pt x="457" y="73"/>
                  </a:lnTo>
                  <a:lnTo>
                    <a:pt x="519" y="126"/>
                  </a:lnTo>
                  <a:lnTo>
                    <a:pt x="571" y="190"/>
                  </a:lnTo>
                  <a:lnTo>
                    <a:pt x="619" y="276"/>
                  </a:lnTo>
                  <a:lnTo>
                    <a:pt x="639" y="360"/>
                  </a:lnTo>
                  <a:lnTo>
                    <a:pt x="648" y="435"/>
                  </a:lnTo>
                  <a:lnTo>
                    <a:pt x="642" y="495"/>
                  </a:lnTo>
                  <a:lnTo>
                    <a:pt x="625" y="561"/>
                  </a:lnTo>
                  <a:lnTo>
                    <a:pt x="595" y="613"/>
                  </a:lnTo>
                  <a:lnTo>
                    <a:pt x="559" y="640"/>
                  </a:lnTo>
                  <a:lnTo>
                    <a:pt x="505" y="655"/>
                  </a:lnTo>
                  <a:lnTo>
                    <a:pt x="433" y="634"/>
                  </a:lnTo>
                  <a:lnTo>
                    <a:pt x="4" y="20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21372000">
              <a:off x="3847680" y="5200920"/>
              <a:ext cx="1232280" cy="1276560"/>
            </a:xfrm>
            <a:custGeom>
              <a:avLst/>
              <a:gdLst/>
              <a:ahLst/>
              <a:rect l="l" t="t" r="r" b="b"/>
              <a:pathLst>
                <a:path w="471" h="489">
                  <a:moveTo>
                    <a:pt x="450" y="478"/>
                  </a:moveTo>
                  <a:lnTo>
                    <a:pt x="398" y="489"/>
                  </a:lnTo>
                  <a:lnTo>
                    <a:pt x="338" y="481"/>
                  </a:lnTo>
                  <a:lnTo>
                    <a:pt x="279" y="453"/>
                  </a:lnTo>
                  <a:lnTo>
                    <a:pt x="225" y="427"/>
                  </a:lnTo>
                  <a:lnTo>
                    <a:pt x="167" y="391"/>
                  </a:lnTo>
                  <a:lnTo>
                    <a:pt x="114" y="346"/>
                  </a:lnTo>
                  <a:lnTo>
                    <a:pt x="75" y="292"/>
                  </a:lnTo>
                  <a:lnTo>
                    <a:pt x="41" y="231"/>
                  </a:lnTo>
                  <a:lnTo>
                    <a:pt x="12" y="160"/>
                  </a:lnTo>
                  <a:lnTo>
                    <a:pt x="5" y="105"/>
                  </a:lnTo>
                  <a:lnTo>
                    <a:pt x="0" y="51"/>
                  </a:lnTo>
                  <a:lnTo>
                    <a:pt x="17" y="0"/>
                  </a:lnTo>
                  <a:lnTo>
                    <a:pt x="195" y="18"/>
                  </a:lnTo>
                  <a:lnTo>
                    <a:pt x="392" y="102"/>
                  </a:lnTo>
                  <a:lnTo>
                    <a:pt x="471" y="319"/>
                  </a:lnTo>
                  <a:lnTo>
                    <a:pt x="450" y="47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21372000">
              <a:off x="3415320" y="4898160"/>
              <a:ext cx="1606680" cy="1558080"/>
            </a:xfrm>
            <a:custGeom>
              <a:avLst/>
              <a:gdLst/>
              <a:ahLst/>
              <a:rect l="l" t="t" r="r" b="b"/>
              <a:pathLst>
                <a:path w="614" h="597">
                  <a:moveTo>
                    <a:pt x="159" y="0"/>
                  </a:moveTo>
                  <a:lnTo>
                    <a:pt x="231" y="0"/>
                  </a:lnTo>
                  <a:lnTo>
                    <a:pt x="311" y="14"/>
                  </a:lnTo>
                  <a:lnTo>
                    <a:pt x="381" y="35"/>
                  </a:lnTo>
                  <a:lnTo>
                    <a:pt x="443" y="63"/>
                  </a:lnTo>
                  <a:lnTo>
                    <a:pt x="500" y="108"/>
                  </a:lnTo>
                  <a:lnTo>
                    <a:pt x="543" y="158"/>
                  </a:lnTo>
                  <a:lnTo>
                    <a:pt x="573" y="206"/>
                  </a:lnTo>
                  <a:lnTo>
                    <a:pt x="597" y="258"/>
                  </a:lnTo>
                  <a:lnTo>
                    <a:pt x="611" y="318"/>
                  </a:lnTo>
                  <a:lnTo>
                    <a:pt x="614" y="378"/>
                  </a:lnTo>
                  <a:lnTo>
                    <a:pt x="608" y="444"/>
                  </a:lnTo>
                  <a:lnTo>
                    <a:pt x="434" y="597"/>
                  </a:lnTo>
                  <a:lnTo>
                    <a:pt x="423" y="513"/>
                  </a:lnTo>
                  <a:lnTo>
                    <a:pt x="404" y="447"/>
                  </a:lnTo>
                  <a:lnTo>
                    <a:pt x="365" y="359"/>
                  </a:lnTo>
                  <a:lnTo>
                    <a:pt x="314" y="299"/>
                  </a:lnTo>
                  <a:lnTo>
                    <a:pt x="249" y="230"/>
                  </a:lnTo>
                  <a:lnTo>
                    <a:pt x="159" y="170"/>
                  </a:lnTo>
                  <a:lnTo>
                    <a:pt x="84" y="138"/>
                  </a:lnTo>
                  <a:lnTo>
                    <a:pt x="0" y="117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032640" y="3231720"/>
            <a:ext cx="2875680" cy="2882880"/>
            <a:chOff x="3032640" y="3231720"/>
            <a:chExt cx="2875680" cy="2882880"/>
          </a:xfrm>
        </p:grpSpPr>
        <p:sp>
          <p:nvSpPr>
            <p:cNvPr id="54" name=""/>
            <p:cNvSpPr/>
            <p:nvPr/>
          </p:nvSpPr>
          <p:spPr>
            <a:xfrm rot="21046800">
              <a:off x="3223080" y="3415680"/>
              <a:ext cx="2499840" cy="2514600"/>
            </a:xfrm>
            <a:custGeom>
              <a:avLst/>
              <a:gdLst/>
              <a:ahLst/>
              <a:rect l="l" t="t" r="r" b="b"/>
              <a:pathLst>
                <a:path w="1837" h="2053">
                  <a:moveTo>
                    <a:pt x="0" y="1588"/>
                  </a:moveTo>
                  <a:lnTo>
                    <a:pt x="226" y="1420"/>
                  </a:lnTo>
                  <a:lnTo>
                    <a:pt x="465" y="1206"/>
                  </a:lnTo>
                  <a:lnTo>
                    <a:pt x="578" y="1027"/>
                  </a:lnTo>
                  <a:lnTo>
                    <a:pt x="668" y="835"/>
                  </a:lnTo>
                  <a:lnTo>
                    <a:pt x="714" y="675"/>
                  </a:lnTo>
                  <a:lnTo>
                    <a:pt x="744" y="531"/>
                  </a:lnTo>
                  <a:lnTo>
                    <a:pt x="786" y="346"/>
                  </a:lnTo>
                  <a:lnTo>
                    <a:pt x="786" y="430"/>
                  </a:lnTo>
                  <a:lnTo>
                    <a:pt x="792" y="525"/>
                  </a:lnTo>
                  <a:lnTo>
                    <a:pt x="810" y="621"/>
                  </a:lnTo>
                  <a:lnTo>
                    <a:pt x="870" y="436"/>
                  </a:lnTo>
                  <a:lnTo>
                    <a:pt x="936" y="256"/>
                  </a:lnTo>
                  <a:lnTo>
                    <a:pt x="1019" y="114"/>
                  </a:lnTo>
                  <a:lnTo>
                    <a:pt x="1121" y="0"/>
                  </a:lnTo>
                  <a:lnTo>
                    <a:pt x="1055" y="144"/>
                  </a:lnTo>
                  <a:lnTo>
                    <a:pt x="1001" y="310"/>
                  </a:lnTo>
                  <a:lnTo>
                    <a:pt x="959" y="460"/>
                  </a:lnTo>
                  <a:lnTo>
                    <a:pt x="918" y="609"/>
                  </a:lnTo>
                  <a:lnTo>
                    <a:pt x="882" y="729"/>
                  </a:lnTo>
                  <a:lnTo>
                    <a:pt x="822" y="907"/>
                  </a:lnTo>
                  <a:lnTo>
                    <a:pt x="912" y="759"/>
                  </a:lnTo>
                  <a:lnTo>
                    <a:pt x="977" y="657"/>
                  </a:lnTo>
                  <a:lnTo>
                    <a:pt x="1079" y="537"/>
                  </a:lnTo>
                  <a:lnTo>
                    <a:pt x="1169" y="442"/>
                  </a:lnTo>
                  <a:lnTo>
                    <a:pt x="1263" y="364"/>
                  </a:lnTo>
                  <a:lnTo>
                    <a:pt x="1348" y="310"/>
                  </a:lnTo>
                  <a:lnTo>
                    <a:pt x="1538" y="262"/>
                  </a:lnTo>
                  <a:lnTo>
                    <a:pt x="1436" y="316"/>
                  </a:lnTo>
                  <a:lnTo>
                    <a:pt x="1372" y="370"/>
                  </a:lnTo>
                  <a:lnTo>
                    <a:pt x="1276" y="448"/>
                  </a:lnTo>
                  <a:lnTo>
                    <a:pt x="1191" y="549"/>
                  </a:lnTo>
                  <a:lnTo>
                    <a:pt x="1103" y="657"/>
                  </a:lnTo>
                  <a:lnTo>
                    <a:pt x="1031" y="753"/>
                  </a:lnTo>
                  <a:lnTo>
                    <a:pt x="965" y="871"/>
                  </a:lnTo>
                  <a:lnTo>
                    <a:pt x="918" y="1027"/>
                  </a:lnTo>
                  <a:lnTo>
                    <a:pt x="1007" y="907"/>
                  </a:lnTo>
                  <a:lnTo>
                    <a:pt x="1091" y="823"/>
                  </a:lnTo>
                  <a:lnTo>
                    <a:pt x="1157" y="763"/>
                  </a:lnTo>
                  <a:lnTo>
                    <a:pt x="1245" y="717"/>
                  </a:lnTo>
                  <a:lnTo>
                    <a:pt x="1354" y="681"/>
                  </a:lnTo>
                  <a:lnTo>
                    <a:pt x="1448" y="663"/>
                  </a:lnTo>
                  <a:lnTo>
                    <a:pt x="1556" y="669"/>
                  </a:lnTo>
                  <a:lnTo>
                    <a:pt x="1681" y="705"/>
                  </a:lnTo>
                  <a:lnTo>
                    <a:pt x="1741" y="775"/>
                  </a:lnTo>
                  <a:lnTo>
                    <a:pt x="1753" y="895"/>
                  </a:lnTo>
                  <a:lnTo>
                    <a:pt x="1693" y="781"/>
                  </a:lnTo>
                  <a:lnTo>
                    <a:pt x="1634" y="741"/>
                  </a:lnTo>
                  <a:lnTo>
                    <a:pt x="1538" y="717"/>
                  </a:lnTo>
                  <a:lnTo>
                    <a:pt x="1418" y="741"/>
                  </a:lnTo>
                  <a:lnTo>
                    <a:pt x="1324" y="793"/>
                  </a:lnTo>
                  <a:lnTo>
                    <a:pt x="1251" y="871"/>
                  </a:lnTo>
                  <a:lnTo>
                    <a:pt x="1215" y="967"/>
                  </a:lnTo>
                  <a:lnTo>
                    <a:pt x="1306" y="937"/>
                  </a:lnTo>
                  <a:lnTo>
                    <a:pt x="1414" y="901"/>
                  </a:lnTo>
                  <a:lnTo>
                    <a:pt x="1496" y="889"/>
                  </a:lnTo>
                  <a:lnTo>
                    <a:pt x="1616" y="913"/>
                  </a:lnTo>
                  <a:lnTo>
                    <a:pt x="1496" y="949"/>
                  </a:lnTo>
                  <a:lnTo>
                    <a:pt x="1402" y="985"/>
                  </a:lnTo>
                  <a:lnTo>
                    <a:pt x="1324" y="1027"/>
                  </a:lnTo>
                  <a:lnTo>
                    <a:pt x="1239" y="1098"/>
                  </a:lnTo>
                  <a:lnTo>
                    <a:pt x="1418" y="1086"/>
                  </a:lnTo>
                  <a:lnTo>
                    <a:pt x="1538" y="1086"/>
                  </a:lnTo>
                  <a:lnTo>
                    <a:pt x="1628" y="1086"/>
                  </a:lnTo>
                  <a:lnTo>
                    <a:pt x="1837" y="1140"/>
                  </a:lnTo>
                  <a:lnTo>
                    <a:pt x="1580" y="1128"/>
                  </a:lnTo>
                  <a:lnTo>
                    <a:pt x="1424" y="1158"/>
                  </a:lnTo>
                  <a:lnTo>
                    <a:pt x="1526" y="1188"/>
                  </a:lnTo>
                  <a:lnTo>
                    <a:pt x="1616" y="1230"/>
                  </a:lnTo>
                  <a:lnTo>
                    <a:pt x="1705" y="1290"/>
                  </a:lnTo>
                  <a:lnTo>
                    <a:pt x="1777" y="1348"/>
                  </a:lnTo>
                  <a:lnTo>
                    <a:pt x="1634" y="1302"/>
                  </a:lnTo>
                  <a:lnTo>
                    <a:pt x="1532" y="1284"/>
                  </a:lnTo>
                  <a:lnTo>
                    <a:pt x="1430" y="1290"/>
                  </a:lnTo>
                  <a:lnTo>
                    <a:pt x="1312" y="1314"/>
                  </a:lnTo>
                  <a:lnTo>
                    <a:pt x="1197" y="1354"/>
                  </a:lnTo>
                  <a:lnTo>
                    <a:pt x="1079" y="1408"/>
                  </a:lnTo>
                  <a:lnTo>
                    <a:pt x="1175" y="1426"/>
                  </a:lnTo>
                  <a:lnTo>
                    <a:pt x="1448" y="1498"/>
                  </a:lnTo>
                  <a:lnTo>
                    <a:pt x="1209" y="1474"/>
                  </a:lnTo>
                  <a:lnTo>
                    <a:pt x="1085" y="1486"/>
                  </a:lnTo>
                  <a:lnTo>
                    <a:pt x="1330" y="1588"/>
                  </a:lnTo>
                  <a:lnTo>
                    <a:pt x="1079" y="1534"/>
                  </a:lnTo>
                  <a:lnTo>
                    <a:pt x="947" y="1546"/>
                  </a:lnTo>
                  <a:lnTo>
                    <a:pt x="822" y="1611"/>
                  </a:lnTo>
                  <a:lnTo>
                    <a:pt x="714" y="1689"/>
                  </a:lnTo>
                  <a:lnTo>
                    <a:pt x="202" y="2053"/>
                  </a:lnTo>
                  <a:lnTo>
                    <a:pt x="0" y="1588"/>
                  </a:lnTo>
                  <a:close/>
                </a:path>
              </a:pathLst>
            </a:custGeom>
            <a:solidFill>
              <a:srgbClr val="00e0e0"/>
            </a:solidFill>
            <a:ln w="19080">
              <a:solidFill>
                <a:srgbClr val="0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032640" y="3637440"/>
              <a:ext cx="2850840" cy="1914840"/>
              <a:chOff x="3032640" y="3637440"/>
              <a:chExt cx="2850840" cy="191484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4309560" y="5036760"/>
                <a:ext cx="342720" cy="334800"/>
                <a:chOff x="4309560" y="5036760"/>
                <a:chExt cx="342720" cy="334800"/>
              </a:xfrm>
            </p:grpSpPr>
            <p:sp>
              <p:nvSpPr>
                <p:cNvPr id="57" name=""/>
                <p:cNvSpPr/>
                <p:nvPr/>
              </p:nvSpPr>
              <p:spPr>
                <a:xfrm rot="21046800">
                  <a:off x="4330800" y="5058720"/>
                  <a:ext cx="300240" cy="290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21046800">
                  <a:off x="4379040" y="5078880"/>
                  <a:ext cx="221400" cy="209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21046800">
                  <a:off x="4351680" y="5084280"/>
                  <a:ext cx="235080" cy="2487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21046800">
                  <a:off x="4361760" y="5107320"/>
                  <a:ext cx="15084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21046800">
                  <a:off x="4381560" y="5148720"/>
                  <a:ext cx="5292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4391640" y="4703760"/>
                <a:ext cx="340200" cy="334440"/>
                <a:chOff x="4391640" y="4703760"/>
                <a:chExt cx="340200" cy="334440"/>
              </a:xfrm>
            </p:grpSpPr>
            <p:sp>
              <p:nvSpPr>
                <p:cNvPr id="63" name=""/>
                <p:cNvSpPr/>
                <p:nvPr/>
              </p:nvSpPr>
              <p:spPr>
                <a:xfrm rot="21046800">
                  <a:off x="4412880" y="4725720"/>
                  <a:ext cx="297720" cy="290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21046800">
                  <a:off x="4439880" y="4786200"/>
                  <a:ext cx="222840" cy="209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21046800">
                  <a:off x="4455000" y="4742280"/>
                  <a:ext cx="232560" cy="2473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21046800">
                  <a:off x="4526640" y="4815720"/>
                  <a:ext cx="15444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21046800">
                  <a:off x="4608360" y="4866480"/>
                  <a:ext cx="50040" cy="58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979080" y="4811400"/>
                <a:ext cx="340560" cy="334800"/>
                <a:chOff x="3979080" y="4811400"/>
                <a:chExt cx="340560" cy="334800"/>
              </a:xfrm>
            </p:grpSpPr>
            <p:sp>
              <p:nvSpPr>
                <p:cNvPr id="69" name=""/>
                <p:cNvSpPr/>
                <p:nvPr/>
              </p:nvSpPr>
              <p:spPr>
                <a:xfrm rot="21046800">
                  <a:off x="4000320" y="4833360"/>
                  <a:ext cx="297720" cy="29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21046800">
                  <a:off x="4021920" y="4857840"/>
                  <a:ext cx="222840" cy="210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21046800">
                  <a:off x="4043880" y="4853880"/>
                  <a:ext cx="232560" cy="249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rot="21046800">
                  <a:off x="4105800" y="4869000"/>
                  <a:ext cx="154800" cy="1508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rot="21046800">
                  <a:off x="4183920" y="4901760"/>
                  <a:ext cx="50040" cy="58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713400" y="5038200"/>
                <a:ext cx="252000" cy="232560"/>
                <a:chOff x="3713400" y="5038200"/>
                <a:chExt cx="252000" cy="232560"/>
              </a:xfrm>
            </p:grpSpPr>
            <p:sp>
              <p:nvSpPr>
                <p:cNvPr id="75" name=""/>
                <p:cNvSpPr/>
                <p:nvPr/>
              </p:nvSpPr>
              <p:spPr>
                <a:xfrm rot="21046800">
                  <a:off x="3727800" y="5054400"/>
                  <a:ext cx="222840" cy="199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21046800">
                  <a:off x="3745800" y="5070600"/>
                  <a:ext cx="165600" cy="146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rot="21046800">
                  <a:off x="3760200" y="5067360"/>
                  <a:ext cx="176400" cy="172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21046800">
                  <a:off x="3810600" y="5075280"/>
                  <a:ext cx="114120" cy="1076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21046800">
                  <a:off x="3864240" y="5099760"/>
                  <a:ext cx="39240" cy="42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923640" y="5096520"/>
                <a:ext cx="290160" cy="268200"/>
                <a:chOff x="3923640" y="5096520"/>
                <a:chExt cx="290160" cy="268200"/>
              </a:xfrm>
            </p:grpSpPr>
            <p:sp>
              <p:nvSpPr>
                <p:cNvPr id="81" name=""/>
                <p:cNvSpPr/>
                <p:nvPr/>
              </p:nvSpPr>
              <p:spPr>
                <a:xfrm rot="21046800">
                  <a:off x="3940200" y="5115240"/>
                  <a:ext cx="256680" cy="230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21046800">
                  <a:off x="3979800" y="5131080"/>
                  <a:ext cx="191520" cy="1688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21046800">
                  <a:off x="3957480" y="5135400"/>
                  <a:ext cx="203400" cy="19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21046800">
                  <a:off x="3963240" y="5154480"/>
                  <a:ext cx="133200" cy="1209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21046800">
                  <a:off x="3985200" y="5186160"/>
                  <a:ext cx="42120" cy="48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314600" y="4935960"/>
                <a:ext cx="207360" cy="199440"/>
                <a:chOff x="4314600" y="4935960"/>
                <a:chExt cx="207360" cy="199440"/>
              </a:xfrm>
            </p:grpSpPr>
            <p:sp>
              <p:nvSpPr>
                <p:cNvPr id="87" name=""/>
                <p:cNvSpPr/>
                <p:nvPr/>
              </p:nvSpPr>
              <p:spPr>
                <a:xfrm rot="21046800">
                  <a:off x="4327200" y="4949280"/>
                  <a:ext cx="182160" cy="172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21046800">
                  <a:off x="4341600" y="4962600"/>
                  <a:ext cx="134640" cy="1270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21046800">
                  <a:off x="4353840" y="4960440"/>
                  <a:ext cx="140040" cy="149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21046800">
                  <a:off x="4392360" y="4971240"/>
                  <a:ext cx="93600" cy="892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21046800">
                  <a:off x="4435200" y="4987440"/>
                  <a:ext cx="3240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075560" y="4546440"/>
                <a:ext cx="341640" cy="334440"/>
                <a:chOff x="4075560" y="4546440"/>
                <a:chExt cx="341640" cy="334440"/>
              </a:xfrm>
            </p:grpSpPr>
            <p:sp>
              <p:nvSpPr>
                <p:cNvPr id="93" name=""/>
                <p:cNvSpPr/>
                <p:nvPr/>
              </p:nvSpPr>
              <p:spPr>
                <a:xfrm rot="21046800">
                  <a:off x="4096800" y="4568400"/>
                  <a:ext cx="299160" cy="290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rot="21046800">
                  <a:off x="4142520" y="4588560"/>
                  <a:ext cx="221400" cy="210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21046800">
                  <a:off x="4116960" y="4592520"/>
                  <a:ext cx="232560" cy="249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21046800">
                  <a:off x="4124880" y="4616640"/>
                  <a:ext cx="15228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21046800">
                  <a:off x="4145400" y="4658400"/>
                  <a:ext cx="514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155120" y="4213440"/>
                <a:ext cx="339840" cy="332280"/>
                <a:chOff x="4155120" y="4213440"/>
                <a:chExt cx="339840" cy="332280"/>
              </a:xfrm>
            </p:grpSpPr>
            <p:sp>
              <p:nvSpPr>
                <p:cNvPr id="99" name=""/>
                <p:cNvSpPr/>
                <p:nvPr/>
              </p:nvSpPr>
              <p:spPr>
                <a:xfrm rot="21046800">
                  <a:off x="4176000" y="4235400"/>
                  <a:ext cx="297720" cy="28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rot="21046800">
                  <a:off x="4207320" y="4295520"/>
                  <a:ext cx="218880" cy="209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21046800">
                  <a:off x="4219920" y="4249080"/>
                  <a:ext cx="235440" cy="249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21046800">
                  <a:off x="4294440" y="4325400"/>
                  <a:ext cx="153360" cy="1530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rot="21046800">
                  <a:off x="4372560" y="4375800"/>
                  <a:ext cx="51840" cy="61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776760" y="4327200"/>
                <a:ext cx="339840" cy="331920"/>
                <a:chOff x="3776760" y="4327200"/>
                <a:chExt cx="339840" cy="331920"/>
              </a:xfrm>
            </p:grpSpPr>
            <p:sp>
              <p:nvSpPr>
                <p:cNvPr id="105" name=""/>
                <p:cNvSpPr/>
                <p:nvPr/>
              </p:nvSpPr>
              <p:spPr>
                <a:xfrm rot="21046800">
                  <a:off x="3797640" y="4349160"/>
                  <a:ext cx="297720" cy="2876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rot="21046800">
                  <a:off x="3823200" y="4372560"/>
                  <a:ext cx="222840" cy="209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21046800">
                  <a:off x="3840840" y="4368600"/>
                  <a:ext cx="236520" cy="2473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21046800">
                  <a:off x="3906720" y="4383000"/>
                  <a:ext cx="151200" cy="1515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21046800">
                  <a:off x="3982320" y="4413600"/>
                  <a:ext cx="5292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480120" y="4545360"/>
                <a:ext cx="250920" cy="233640"/>
                <a:chOff x="3480120" y="4545360"/>
                <a:chExt cx="250920" cy="233640"/>
              </a:xfrm>
            </p:grpSpPr>
            <p:sp>
              <p:nvSpPr>
                <p:cNvPr id="111" name=""/>
                <p:cNvSpPr/>
                <p:nvPr/>
              </p:nvSpPr>
              <p:spPr>
                <a:xfrm rot="21046800">
                  <a:off x="3494520" y="4561920"/>
                  <a:ext cx="221760" cy="20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21046800">
                  <a:off x="3509280" y="4578120"/>
                  <a:ext cx="165960" cy="146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21046800">
                  <a:off x="3525840" y="4577400"/>
                  <a:ext cx="17424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21046800">
                  <a:off x="3573000" y="4586400"/>
                  <a:ext cx="115560" cy="1051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21046800">
                  <a:off x="3628800" y="4608000"/>
                  <a:ext cx="40680" cy="43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3685680" y="4605840"/>
                <a:ext cx="293040" cy="268920"/>
                <a:chOff x="3685680" y="4605840"/>
                <a:chExt cx="293040" cy="268920"/>
              </a:xfrm>
            </p:grpSpPr>
            <p:sp>
              <p:nvSpPr>
                <p:cNvPr id="117" name=""/>
                <p:cNvSpPr/>
                <p:nvPr/>
              </p:nvSpPr>
              <p:spPr>
                <a:xfrm rot="21046800">
                  <a:off x="3702240" y="4625280"/>
                  <a:ext cx="259560" cy="230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21046800">
                  <a:off x="3745440" y="4640760"/>
                  <a:ext cx="191520" cy="1659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21046800">
                  <a:off x="3719880" y="4644000"/>
                  <a:ext cx="205200" cy="19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21046800">
                  <a:off x="3728880" y="4662720"/>
                  <a:ext cx="131400" cy="1220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21046800">
                  <a:off x="3748320" y="4695480"/>
                  <a:ext cx="4608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080240" y="4443120"/>
                <a:ext cx="204480" cy="199080"/>
                <a:chOff x="4080240" y="4443120"/>
                <a:chExt cx="204480" cy="199080"/>
              </a:xfrm>
            </p:grpSpPr>
            <p:sp>
              <p:nvSpPr>
                <p:cNvPr id="123" name=""/>
                <p:cNvSpPr/>
                <p:nvPr/>
              </p:nvSpPr>
              <p:spPr>
                <a:xfrm rot="21046800">
                  <a:off x="4092840" y="4456440"/>
                  <a:ext cx="179280" cy="172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21046800">
                  <a:off x="4104360" y="4470840"/>
                  <a:ext cx="137160" cy="1260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21046800">
                  <a:off x="4117680" y="4469760"/>
                  <a:ext cx="143640" cy="146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21046800">
                  <a:off x="4155120" y="4478760"/>
                  <a:ext cx="95040" cy="914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21046800">
                  <a:off x="4203000" y="4497840"/>
                  <a:ext cx="3240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061600" y="4720680"/>
                <a:ext cx="272520" cy="262080"/>
                <a:chOff x="5061600" y="4720680"/>
                <a:chExt cx="272520" cy="262080"/>
              </a:xfrm>
            </p:grpSpPr>
            <p:sp>
              <p:nvSpPr>
                <p:cNvPr id="129" name=""/>
                <p:cNvSpPr/>
                <p:nvPr/>
              </p:nvSpPr>
              <p:spPr>
                <a:xfrm rot="21046800">
                  <a:off x="5078160" y="4738320"/>
                  <a:ext cx="239400" cy="226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21046800">
                  <a:off x="5116320" y="4755600"/>
                  <a:ext cx="178200" cy="1612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21046800">
                  <a:off x="5094720" y="4758480"/>
                  <a:ext cx="187920" cy="1929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21046800">
                  <a:off x="5099040" y="4777200"/>
                  <a:ext cx="125280" cy="1173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1046800">
                  <a:off x="5117040" y="4806360"/>
                  <a:ext cx="4500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761000" y="4472640"/>
                <a:ext cx="289440" cy="286920"/>
                <a:chOff x="4761000" y="4472640"/>
                <a:chExt cx="289440" cy="286920"/>
              </a:xfrm>
            </p:grpSpPr>
            <p:sp>
              <p:nvSpPr>
                <p:cNvPr id="135" name=""/>
                <p:cNvSpPr/>
                <p:nvPr/>
              </p:nvSpPr>
              <p:spPr>
                <a:xfrm rot="21046800">
                  <a:off x="4779360" y="4491000"/>
                  <a:ext cx="252720" cy="2498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21046800">
                  <a:off x="4797000" y="4511160"/>
                  <a:ext cx="190080" cy="1810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21046800">
                  <a:off x="4816080" y="4508640"/>
                  <a:ext cx="198360" cy="2152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21046800">
                  <a:off x="4869720" y="4520160"/>
                  <a:ext cx="127800" cy="1321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21046800">
                  <a:off x="4932360" y="4548960"/>
                  <a:ext cx="44640" cy="51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468320" y="4575240"/>
                <a:ext cx="248400" cy="233280"/>
                <a:chOff x="4468320" y="4575240"/>
                <a:chExt cx="248400" cy="233280"/>
              </a:xfrm>
            </p:grpSpPr>
            <p:sp>
              <p:nvSpPr>
                <p:cNvPr id="141" name=""/>
                <p:cNvSpPr/>
                <p:nvPr/>
              </p:nvSpPr>
              <p:spPr>
                <a:xfrm rot="21046800">
                  <a:off x="4482720" y="4591080"/>
                  <a:ext cx="218880" cy="200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21046800">
                  <a:off x="4499640" y="4606920"/>
                  <a:ext cx="164160" cy="146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21046800">
                  <a:off x="4510800" y="4604400"/>
                  <a:ext cx="178200" cy="172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21046800">
                  <a:off x="4559400" y="4616280"/>
                  <a:ext cx="113760" cy="1051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21046800">
                  <a:off x="4614840" y="4637520"/>
                  <a:ext cx="40680" cy="41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664160" y="4707360"/>
                <a:ext cx="289080" cy="267120"/>
                <a:chOff x="4664160" y="4707360"/>
                <a:chExt cx="289080" cy="267120"/>
              </a:xfrm>
            </p:grpSpPr>
            <p:sp>
              <p:nvSpPr>
                <p:cNvPr id="147" name=""/>
                <p:cNvSpPr/>
                <p:nvPr/>
              </p:nvSpPr>
              <p:spPr>
                <a:xfrm rot="21046800">
                  <a:off x="4680720" y="4726440"/>
                  <a:ext cx="255600" cy="2289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21046800">
                  <a:off x="4723200" y="4743000"/>
                  <a:ext cx="190080" cy="1648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21046800">
                  <a:off x="4696560" y="4746240"/>
                  <a:ext cx="204120" cy="195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21046800">
                  <a:off x="4705920" y="4762800"/>
                  <a:ext cx="133200" cy="123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21046800">
                  <a:off x="4723560" y="4795560"/>
                  <a:ext cx="4608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679360" y="4536360"/>
                <a:ext cx="204120" cy="196560"/>
                <a:chOff x="5679360" y="4536360"/>
                <a:chExt cx="204120" cy="196560"/>
              </a:xfrm>
            </p:grpSpPr>
            <p:sp>
              <p:nvSpPr>
                <p:cNvPr id="153" name=""/>
                <p:cNvSpPr/>
                <p:nvPr/>
              </p:nvSpPr>
              <p:spPr>
                <a:xfrm rot="21046800">
                  <a:off x="5691600" y="4549680"/>
                  <a:ext cx="17928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21046800">
                  <a:off x="5705640" y="4559040"/>
                  <a:ext cx="132840" cy="1270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21046800">
                  <a:off x="5718600" y="4558680"/>
                  <a:ext cx="142560" cy="1501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21046800">
                  <a:off x="5753520" y="4567320"/>
                  <a:ext cx="96120" cy="914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21046800">
                  <a:off x="5801040" y="4587120"/>
                  <a:ext cx="3240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647520" y="4757400"/>
                <a:ext cx="339840" cy="331920"/>
                <a:chOff x="3647520" y="4757400"/>
                <a:chExt cx="339840" cy="331920"/>
              </a:xfrm>
            </p:grpSpPr>
            <p:sp>
              <p:nvSpPr>
                <p:cNvPr id="159" name=""/>
                <p:cNvSpPr/>
                <p:nvPr/>
              </p:nvSpPr>
              <p:spPr>
                <a:xfrm rot="21046800">
                  <a:off x="3668400" y="4779360"/>
                  <a:ext cx="297720" cy="2876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21046800">
                  <a:off x="3711960" y="4797720"/>
                  <a:ext cx="222840" cy="2116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21046800">
                  <a:off x="3686400" y="4803120"/>
                  <a:ext cx="233640" cy="2473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21046800">
                  <a:off x="3694320" y="4824720"/>
                  <a:ext cx="153360" cy="1530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21046800">
                  <a:off x="3716280" y="4865760"/>
                  <a:ext cx="5292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3612600" y="4202640"/>
                <a:ext cx="341640" cy="333000"/>
                <a:chOff x="3612600" y="4202640"/>
                <a:chExt cx="341640" cy="333000"/>
              </a:xfrm>
            </p:grpSpPr>
            <p:sp>
              <p:nvSpPr>
                <p:cNvPr id="165" name=""/>
                <p:cNvSpPr/>
                <p:nvPr/>
              </p:nvSpPr>
              <p:spPr>
                <a:xfrm rot="21046800">
                  <a:off x="3633480" y="4224600"/>
                  <a:ext cx="299160" cy="2887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21046800">
                  <a:off x="3662280" y="4281120"/>
                  <a:ext cx="221760" cy="2116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21046800">
                  <a:off x="3679200" y="4239360"/>
                  <a:ext cx="233640" cy="2498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21046800">
                  <a:off x="3753000" y="4313160"/>
                  <a:ext cx="15228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21046800">
                  <a:off x="3828960" y="4363920"/>
                  <a:ext cx="5292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240360" y="4482360"/>
                <a:ext cx="340200" cy="334440"/>
                <a:chOff x="3240360" y="4482360"/>
                <a:chExt cx="340200" cy="334440"/>
              </a:xfrm>
            </p:grpSpPr>
            <p:sp>
              <p:nvSpPr>
                <p:cNvPr id="171" name=""/>
                <p:cNvSpPr/>
                <p:nvPr/>
              </p:nvSpPr>
              <p:spPr>
                <a:xfrm rot="21046800">
                  <a:off x="3261600" y="4504320"/>
                  <a:ext cx="297720" cy="290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21046800">
                  <a:off x="3283200" y="4528440"/>
                  <a:ext cx="222840" cy="209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21046800">
                  <a:off x="3305160" y="4526640"/>
                  <a:ext cx="233640" cy="2462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1046800">
                  <a:off x="3369600" y="4538520"/>
                  <a:ext cx="151920" cy="1530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21046800">
                  <a:off x="3441960" y="4571640"/>
                  <a:ext cx="5292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032640" y="4698360"/>
                <a:ext cx="249120" cy="231120"/>
                <a:chOff x="3032640" y="4698360"/>
                <a:chExt cx="249120" cy="231120"/>
              </a:xfrm>
            </p:grpSpPr>
            <p:sp>
              <p:nvSpPr>
                <p:cNvPr id="177" name=""/>
                <p:cNvSpPr/>
                <p:nvPr/>
              </p:nvSpPr>
              <p:spPr>
                <a:xfrm rot="21046800">
                  <a:off x="3047040" y="4714560"/>
                  <a:ext cx="22032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21046800">
                  <a:off x="3061080" y="4728600"/>
                  <a:ext cx="164520" cy="1468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21046800">
                  <a:off x="3076920" y="4728240"/>
                  <a:ext cx="173880" cy="173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21046800">
                  <a:off x="3124800" y="4736880"/>
                  <a:ext cx="113760" cy="1051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1046800">
                  <a:off x="3180600" y="4758840"/>
                  <a:ext cx="40680" cy="43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151160" y="5045040"/>
                <a:ext cx="290160" cy="268560"/>
                <a:chOff x="4151160" y="5045040"/>
                <a:chExt cx="290160" cy="268560"/>
              </a:xfrm>
            </p:grpSpPr>
            <p:sp>
              <p:nvSpPr>
                <p:cNvPr id="183" name=""/>
                <p:cNvSpPr/>
                <p:nvPr/>
              </p:nvSpPr>
              <p:spPr>
                <a:xfrm rot="21046800">
                  <a:off x="4167720" y="5063760"/>
                  <a:ext cx="256680" cy="2304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21046800">
                  <a:off x="4210200" y="5078880"/>
                  <a:ext cx="188640" cy="1688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21046800">
                  <a:off x="4184640" y="5083200"/>
                  <a:ext cx="204840" cy="19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21046800">
                  <a:off x="4192560" y="5100840"/>
                  <a:ext cx="130320" cy="1224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21046800">
                  <a:off x="4212360" y="5133960"/>
                  <a:ext cx="46080" cy="48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3121560" y="4123440"/>
                <a:ext cx="200520" cy="198360"/>
                <a:chOff x="3121560" y="4123440"/>
                <a:chExt cx="200520" cy="198360"/>
              </a:xfrm>
            </p:grpSpPr>
            <p:sp>
              <p:nvSpPr>
                <p:cNvPr id="189" name=""/>
                <p:cNvSpPr/>
                <p:nvPr/>
              </p:nvSpPr>
              <p:spPr>
                <a:xfrm rot="21046800">
                  <a:off x="3134160" y="4136040"/>
                  <a:ext cx="175320" cy="172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21046800">
                  <a:off x="3143880" y="4148280"/>
                  <a:ext cx="137160" cy="1274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21046800">
                  <a:off x="3158280" y="4148280"/>
                  <a:ext cx="141120" cy="1483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21046800">
                  <a:off x="3195720" y="4154040"/>
                  <a:ext cx="93960" cy="943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21046800">
                  <a:off x="3239640" y="4173840"/>
                  <a:ext cx="32400" cy="3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153040" y="5088960"/>
                <a:ext cx="216000" cy="205920"/>
                <a:chOff x="5153040" y="5088960"/>
                <a:chExt cx="216000" cy="205920"/>
              </a:xfrm>
            </p:grpSpPr>
            <p:sp>
              <p:nvSpPr>
                <p:cNvPr id="195" name=""/>
                <p:cNvSpPr/>
                <p:nvPr/>
              </p:nvSpPr>
              <p:spPr>
                <a:xfrm rot="21046800">
                  <a:off x="5166000" y="5103000"/>
                  <a:ext cx="190080" cy="177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21046800">
                  <a:off x="5194800" y="5112720"/>
                  <a:ext cx="140040" cy="1317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21046800">
                  <a:off x="5176800" y="5118480"/>
                  <a:ext cx="150840" cy="1515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1046800">
                  <a:off x="5182560" y="5130360"/>
                  <a:ext cx="97560" cy="954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1046800">
                  <a:off x="5198040" y="5154840"/>
                  <a:ext cx="33840" cy="38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233680" y="4748400"/>
                <a:ext cx="249840" cy="236880"/>
                <a:chOff x="5233680" y="4748400"/>
                <a:chExt cx="249840" cy="236880"/>
              </a:xfrm>
            </p:grpSpPr>
            <p:sp>
              <p:nvSpPr>
                <p:cNvPr id="201" name=""/>
                <p:cNvSpPr/>
                <p:nvPr/>
              </p:nvSpPr>
              <p:spPr>
                <a:xfrm rot="21046800">
                  <a:off x="5248440" y="4764600"/>
                  <a:ext cx="219960" cy="2041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21046800">
                  <a:off x="5267880" y="4805640"/>
                  <a:ext cx="163080" cy="1501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21046800">
                  <a:off x="5280840" y="4776480"/>
                  <a:ext cx="172440" cy="176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21046800">
                  <a:off x="5333760" y="4828320"/>
                  <a:ext cx="112680" cy="1062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21046800">
                  <a:off x="5391720" y="4865040"/>
                  <a:ext cx="39240" cy="40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856400" y="4863960"/>
                <a:ext cx="232560" cy="224640"/>
                <a:chOff x="4856400" y="4863960"/>
                <a:chExt cx="232560" cy="224640"/>
              </a:xfrm>
            </p:grpSpPr>
            <p:sp>
              <p:nvSpPr>
                <p:cNvPr id="207" name=""/>
                <p:cNvSpPr/>
                <p:nvPr/>
              </p:nvSpPr>
              <p:spPr>
                <a:xfrm rot="21046800">
                  <a:off x="4870440" y="4879080"/>
                  <a:ext cx="204120" cy="1944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21046800">
                  <a:off x="4884840" y="4894920"/>
                  <a:ext cx="153720" cy="1414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21046800">
                  <a:off x="4896000" y="4892760"/>
                  <a:ext cx="164520" cy="168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21046800">
                  <a:off x="4942080" y="4902840"/>
                  <a:ext cx="104760" cy="1026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21046800">
                  <a:off x="4992840" y="4923720"/>
                  <a:ext cx="36360" cy="42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335480" y="5311440"/>
                <a:ext cx="248400" cy="233280"/>
                <a:chOff x="4335480" y="5311440"/>
                <a:chExt cx="248400" cy="233280"/>
              </a:xfrm>
            </p:grpSpPr>
            <p:sp>
              <p:nvSpPr>
                <p:cNvPr id="213" name=""/>
                <p:cNvSpPr/>
                <p:nvPr/>
              </p:nvSpPr>
              <p:spPr>
                <a:xfrm rot="21046800">
                  <a:off x="4349880" y="5327280"/>
                  <a:ext cx="218880" cy="200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21046800">
                  <a:off x="4366800" y="5343120"/>
                  <a:ext cx="164160" cy="146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21046800">
                  <a:off x="4378680" y="5344200"/>
                  <a:ext cx="177840" cy="171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21046800">
                  <a:off x="4426200" y="5352120"/>
                  <a:ext cx="113760" cy="1065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21046800">
                  <a:off x="4482360" y="5373360"/>
                  <a:ext cx="42120" cy="45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765680" y="5130360"/>
                <a:ext cx="289080" cy="266760"/>
                <a:chOff x="4765680" y="5130360"/>
                <a:chExt cx="289080" cy="266760"/>
              </a:xfrm>
            </p:grpSpPr>
            <p:sp>
              <p:nvSpPr>
                <p:cNvPr id="219" name=""/>
                <p:cNvSpPr/>
                <p:nvPr/>
              </p:nvSpPr>
              <p:spPr>
                <a:xfrm rot="21046800">
                  <a:off x="4782240" y="5149440"/>
                  <a:ext cx="255600" cy="2286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21046800">
                  <a:off x="4823280" y="5165280"/>
                  <a:ext cx="191520" cy="1648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21046800">
                  <a:off x="4798800" y="5168880"/>
                  <a:ext cx="204120" cy="195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21046800">
                  <a:off x="4807800" y="5187600"/>
                  <a:ext cx="133200" cy="1209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21046800">
                  <a:off x="4825440" y="5218560"/>
                  <a:ext cx="4608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599800" y="5354280"/>
                <a:ext cx="204480" cy="198000"/>
                <a:chOff x="5599800" y="5354280"/>
                <a:chExt cx="204480" cy="198000"/>
              </a:xfrm>
            </p:grpSpPr>
            <p:sp>
              <p:nvSpPr>
                <p:cNvPr id="225" name=""/>
                <p:cNvSpPr/>
                <p:nvPr/>
              </p:nvSpPr>
              <p:spPr>
                <a:xfrm rot="21046800">
                  <a:off x="5612040" y="5367600"/>
                  <a:ext cx="179280" cy="171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1046800">
                  <a:off x="5626800" y="5382000"/>
                  <a:ext cx="131760" cy="1256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21046800">
                  <a:off x="5637960" y="5380560"/>
                  <a:ext cx="141120" cy="146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1046800">
                  <a:off x="5674680" y="5389560"/>
                  <a:ext cx="93600" cy="918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21046800">
                  <a:off x="5719680" y="5407920"/>
                  <a:ext cx="3492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366800" y="4287240"/>
                <a:ext cx="272160" cy="273240"/>
                <a:chOff x="4366800" y="4287240"/>
                <a:chExt cx="272160" cy="273240"/>
              </a:xfrm>
            </p:grpSpPr>
            <p:sp>
              <p:nvSpPr>
                <p:cNvPr id="231" name=""/>
                <p:cNvSpPr/>
                <p:nvPr/>
              </p:nvSpPr>
              <p:spPr>
                <a:xfrm rot="21046800">
                  <a:off x="4384080" y="4304520"/>
                  <a:ext cx="236880" cy="2386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1046800">
                  <a:off x="4419360" y="4320360"/>
                  <a:ext cx="178200" cy="1760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1046800">
                  <a:off x="4400640" y="4326480"/>
                  <a:ext cx="183600" cy="203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21046800">
                  <a:off x="4406400" y="4344840"/>
                  <a:ext cx="120960" cy="1245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21046800">
                  <a:off x="4421520" y="4375800"/>
                  <a:ext cx="43200" cy="4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450680" y="3969360"/>
                <a:ext cx="231120" cy="257760"/>
                <a:chOff x="4450680" y="3969360"/>
                <a:chExt cx="231120" cy="257760"/>
              </a:xfrm>
            </p:grpSpPr>
            <p:sp>
              <p:nvSpPr>
                <p:cNvPr id="237" name=""/>
                <p:cNvSpPr/>
                <p:nvPr/>
              </p:nvSpPr>
              <p:spPr>
                <a:xfrm rot="21046800">
                  <a:off x="4467600" y="3983760"/>
                  <a:ext cx="196920" cy="2289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21046800">
                  <a:off x="4483080" y="4029840"/>
                  <a:ext cx="153360" cy="1674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1046800">
                  <a:off x="4495680" y="3996720"/>
                  <a:ext cx="15624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21046800">
                  <a:off x="4543560" y="4053600"/>
                  <a:ext cx="102960" cy="123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21046800">
                  <a:off x="4595400" y="4097880"/>
                  <a:ext cx="3636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364640" y="4129200"/>
                <a:ext cx="205920" cy="198000"/>
                <a:chOff x="4364640" y="4129200"/>
                <a:chExt cx="205920" cy="198000"/>
              </a:xfrm>
            </p:grpSpPr>
            <p:sp>
              <p:nvSpPr>
                <p:cNvPr id="243" name=""/>
                <p:cNvSpPr/>
                <p:nvPr/>
              </p:nvSpPr>
              <p:spPr>
                <a:xfrm rot="21046800">
                  <a:off x="4376880" y="4142160"/>
                  <a:ext cx="180720" cy="171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21046800">
                  <a:off x="4391640" y="4154040"/>
                  <a:ext cx="135720" cy="128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21046800">
                  <a:off x="4402080" y="4151880"/>
                  <a:ext cx="142560" cy="150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21046800">
                  <a:off x="4440600" y="4163040"/>
                  <a:ext cx="96480" cy="892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21046800">
                  <a:off x="4486680" y="4180320"/>
                  <a:ext cx="32400" cy="3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126320" y="3739320"/>
                <a:ext cx="340200" cy="334440"/>
                <a:chOff x="4126320" y="3739320"/>
                <a:chExt cx="340200" cy="334440"/>
              </a:xfrm>
            </p:grpSpPr>
            <p:sp>
              <p:nvSpPr>
                <p:cNvPr id="249" name=""/>
                <p:cNvSpPr/>
                <p:nvPr/>
              </p:nvSpPr>
              <p:spPr>
                <a:xfrm rot="21046800">
                  <a:off x="4147560" y="3761280"/>
                  <a:ext cx="297720" cy="290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21046800">
                  <a:off x="4193280" y="3781440"/>
                  <a:ext cx="221400" cy="209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21046800">
                  <a:off x="4165200" y="3785760"/>
                  <a:ext cx="232200" cy="2484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21046800">
                  <a:off x="4176000" y="3808440"/>
                  <a:ext cx="150480" cy="1530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21046800">
                  <a:off x="4195440" y="3850200"/>
                  <a:ext cx="5292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131720" y="3637440"/>
                <a:ext cx="204120" cy="196560"/>
                <a:chOff x="4131720" y="3637440"/>
                <a:chExt cx="204120" cy="196560"/>
              </a:xfrm>
            </p:grpSpPr>
            <p:sp>
              <p:nvSpPr>
                <p:cNvPr id="255" name=""/>
                <p:cNvSpPr/>
                <p:nvPr/>
              </p:nvSpPr>
              <p:spPr>
                <a:xfrm rot="21046800">
                  <a:off x="4143960" y="3650760"/>
                  <a:ext cx="17928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21046800">
                  <a:off x="4154760" y="3663360"/>
                  <a:ext cx="135720" cy="128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21046800">
                  <a:off x="4168440" y="3664080"/>
                  <a:ext cx="142560" cy="146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1046800">
                  <a:off x="4206240" y="3670200"/>
                  <a:ext cx="93600" cy="943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21046800">
                  <a:off x="4250880" y="3689640"/>
                  <a:ext cx="3528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4816800" y="3696120"/>
                <a:ext cx="264240" cy="252000"/>
                <a:chOff x="4816800" y="3696120"/>
                <a:chExt cx="264240" cy="252000"/>
              </a:xfrm>
            </p:grpSpPr>
            <p:sp>
              <p:nvSpPr>
                <p:cNvPr id="261" name=""/>
                <p:cNvSpPr/>
                <p:nvPr/>
              </p:nvSpPr>
              <p:spPr>
                <a:xfrm rot="21046800">
                  <a:off x="4832640" y="3713400"/>
                  <a:ext cx="232560" cy="217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1046800">
                  <a:off x="4848840" y="3729600"/>
                  <a:ext cx="175320" cy="1616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21046800">
                  <a:off x="4865040" y="3726000"/>
                  <a:ext cx="183240" cy="1908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1046800">
                  <a:off x="4914000" y="3737520"/>
                  <a:ext cx="120600" cy="1173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21046800">
                  <a:off x="4976640" y="3763080"/>
                  <a:ext cx="40680" cy="45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4517280" y="3766320"/>
                <a:ext cx="249120" cy="233280"/>
                <a:chOff x="4517280" y="3766320"/>
                <a:chExt cx="249120" cy="233280"/>
              </a:xfrm>
            </p:grpSpPr>
            <p:sp>
              <p:nvSpPr>
                <p:cNvPr id="267" name=""/>
                <p:cNvSpPr/>
                <p:nvPr/>
              </p:nvSpPr>
              <p:spPr>
                <a:xfrm rot="21046800">
                  <a:off x="4531680" y="3782520"/>
                  <a:ext cx="219960" cy="20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21046800">
                  <a:off x="4547160" y="3798720"/>
                  <a:ext cx="165600" cy="146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21046800">
                  <a:off x="4561920" y="3795480"/>
                  <a:ext cx="174960" cy="1749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21046800">
                  <a:off x="4609800" y="3807360"/>
                  <a:ext cx="114120" cy="1051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1046800">
                  <a:off x="4665240" y="3828960"/>
                  <a:ext cx="40680" cy="41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4714920" y="3900240"/>
                <a:ext cx="289080" cy="268200"/>
                <a:chOff x="4714920" y="3900240"/>
                <a:chExt cx="289080" cy="268200"/>
              </a:xfrm>
            </p:grpSpPr>
            <p:sp>
              <p:nvSpPr>
                <p:cNvPr id="273" name=""/>
                <p:cNvSpPr/>
                <p:nvPr/>
              </p:nvSpPr>
              <p:spPr>
                <a:xfrm rot="21046800">
                  <a:off x="4731480" y="3918960"/>
                  <a:ext cx="255600" cy="230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21046800">
                  <a:off x="4772160" y="3934440"/>
                  <a:ext cx="190080" cy="165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21046800">
                  <a:off x="4748400" y="3937320"/>
                  <a:ext cx="20232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21046800">
                  <a:off x="4755240" y="3956400"/>
                  <a:ext cx="133200" cy="1209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21046800">
                  <a:off x="4772160" y="3989520"/>
                  <a:ext cx="47160" cy="45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107320" y="3739680"/>
                <a:ext cx="202680" cy="196200"/>
                <a:chOff x="5107320" y="3739680"/>
                <a:chExt cx="202680" cy="196200"/>
              </a:xfrm>
            </p:grpSpPr>
            <p:sp>
              <p:nvSpPr>
                <p:cNvPr id="279" name=""/>
                <p:cNvSpPr/>
                <p:nvPr/>
              </p:nvSpPr>
              <p:spPr>
                <a:xfrm rot="21046800">
                  <a:off x="5119560" y="3752640"/>
                  <a:ext cx="17784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1046800">
                  <a:off x="5132880" y="3764880"/>
                  <a:ext cx="134640" cy="1256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21046800">
                  <a:off x="5146920" y="3763440"/>
                  <a:ext cx="139680" cy="149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21046800">
                  <a:off x="5180400" y="3771000"/>
                  <a:ext cx="94680" cy="928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21046800">
                  <a:off x="5228640" y="3790440"/>
                  <a:ext cx="32040" cy="3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418360" y="4278600"/>
                <a:ext cx="256320" cy="252000"/>
                <a:chOff x="5418360" y="4278600"/>
                <a:chExt cx="256320" cy="252000"/>
              </a:xfrm>
            </p:grpSpPr>
            <p:sp>
              <p:nvSpPr>
                <p:cNvPr id="285" name=""/>
                <p:cNvSpPr/>
                <p:nvPr/>
              </p:nvSpPr>
              <p:spPr>
                <a:xfrm rot="21046800">
                  <a:off x="5434200" y="4295160"/>
                  <a:ext cx="224280" cy="218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1046800">
                  <a:off x="5468400" y="4308120"/>
                  <a:ext cx="167040" cy="1612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1046800">
                  <a:off x="5446440" y="4311000"/>
                  <a:ext cx="179280" cy="190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046800">
                  <a:off x="5455440" y="4329000"/>
                  <a:ext cx="114120" cy="1173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21046800">
                  <a:off x="5470920" y="4362120"/>
                  <a:ext cx="37800" cy="43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918680" y="4120920"/>
                <a:ext cx="279720" cy="250200"/>
                <a:chOff x="4918680" y="4120920"/>
                <a:chExt cx="279720" cy="250200"/>
              </a:xfrm>
            </p:grpSpPr>
            <p:sp>
              <p:nvSpPr>
                <p:cNvPr id="291" name=""/>
                <p:cNvSpPr/>
                <p:nvPr/>
              </p:nvSpPr>
              <p:spPr>
                <a:xfrm rot="21046800">
                  <a:off x="4933800" y="4139280"/>
                  <a:ext cx="248760" cy="2131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21046800">
                  <a:off x="4950720" y="4156200"/>
                  <a:ext cx="187560" cy="1566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21046800">
                  <a:off x="4969080" y="4152600"/>
                  <a:ext cx="197280" cy="1857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21046800">
                  <a:off x="5022720" y="4163400"/>
                  <a:ext cx="130680" cy="1162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21046800">
                  <a:off x="5083560" y="4185000"/>
                  <a:ext cx="4752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607280" y="4260600"/>
                <a:ext cx="249480" cy="232200"/>
                <a:chOff x="4607280" y="4260600"/>
                <a:chExt cx="249480" cy="232200"/>
              </a:xfrm>
            </p:grpSpPr>
            <p:sp>
              <p:nvSpPr>
                <p:cNvPr id="297" name=""/>
                <p:cNvSpPr/>
                <p:nvPr/>
              </p:nvSpPr>
              <p:spPr>
                <a:xfrm rot="21046800">
                  <a:off x="4621680" y="4276800"/>
                  <a:ext cx="220320" cy="199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21046800">
                  <a:off x="4640400" y="4292280"/>
                  <a:ext cx="165600" cy="146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21046800">
                  <a:off x="4653360" y="4293000"/>
                  <a:ext cx="17532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1046800">
                  <a:off x="4699440" y="4301280"/>
                  <a:ext cx="113760" cy="1065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21046800">
                  <a:off x="4755600" y="4322160"/>
                  <a:ext cx="40680" cy="46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816440" y="4322880"/>
                <a:ext cx="289080" cy="268200"/>
                <a:chOff x="4816440" y="4322880"/>
                <a:chExt cx="289080" cy="268200"/>
              </a:xfrm>
            </p:grpSpPr>
            <p:sp>
              <p:nvSpPr>
                <p:cNvPr id="303" name=""/>
                <p:cNvSpPr/>
                <p:nvPr/>
              </p:nvSpPr>
              <p:spPr>
                <a:xfrm rot="21046800">
                  <a:off x="4833000" y="4341600"/>
                  <a:ext cx="255600" cy="230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21046800">
                  <a:off x="4874400" y="4357080"/>
                  <a:ext cx="190080" cy="165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21046800">
                  <a:off x="4849920" y="4360680"/>
                  <a:ext cx="20232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21046800">
                  <a:off x="4857480" y="4379040"/>
                  <a:ext cx="133200" cy="1224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21046800">
                  <a:off x="4874040" y="4412520"/>
                  <a:ext cx="47160" cy="45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5207760" y="4159800"/>
                <a:ext cx="204480" cy="198000"/>
                <a:chOff x="5207760" y="4159800"/>
                <a:chExt cx="204480" cy="198000"/>
              </a:xfrm>
            </p:grpSpPr>
            <p:sp>
              <p:nvSpPr>
                <p:cNvPr id="309" name=""/>
                <p:cNvSpPr/>
                <p:nvPr/>
              </p:nvSpPr>
              <p:spPr>
                <a:xfrm rot="21046800">
                  <a:off x="5220000" y="4173120"/>
                  <a:ext cx="179280" cy="171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21046800">
                  <a:off x="5234400" y="4187160"/>
                  <a:ext cx="134280" cy="1263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21046800">
                  <a:off x="5248800" y="4186080"/>
                  <a:ext cx="139680" cy="146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21046800">
                  <a:off x="5282280" y="4193640"/>
                  <a:ext cx="94680" cy="928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21046800">
                  <a:off x="5329800" y="4212720"/>
                  <a:ext cx="32400" cy="3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4" name=""/>
          <p:cNvGrpSpPr/>
          <p:nvPr/>
        </p:nvGrpSpPr>
        <p:grpSpPr>
          <a:xfrm>
            <a:off x="-74160" y="5430960"/>
            <a:ext cx="4029120" cy="4247640"/>
            <a:chOff x="-74160" y="5430960"/>
            <a:chExt cx="4029120" cy="4247640"/>
          </a:xfrm>
        </p:grpSpPr>
        <p:sp>
          <p:nvSpPr>
            <p:cNvPr id="315" name=""/>
            <p:cNvSpPr/>
            <p:nvPr/>
          </p:nvSpPr>
          <p:spPr>
            <a:xfrm rot="21465600">
              <a:off x="228960" y="6652800"/>
              <a:ext cx="2202840" cy="2286000"/>
            </a:xfrm>
            <a:prstGeom prst="ellipse">
              <a:avLst/>
            </a:prstGeom>
            <a:solidFill>
              <a:srgbClr val="00a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1465600">
              <a:off x="1349280" y="7119720"/>
              <a:ext cx="1100880" cy="1113120"/>
            </a:xfrm>
            <a:custGeom>
              <a:avLst/>
              <a:gdLst/>
              <a:ahLst/>
              <a:rect l="l" t="t" r="r" b="b"/>
              <a:pathLst>
                <a:path w="833" h="786">
                  <a:moveTo>
                    <a:pt x="327" y="786"/>
                  </a:moveTo>
                  <a:lnTo>
                    <a:pt x="532" y="680"/>
                  </a:lnTo>
                  <a:lnTo>
                    <a:pt x="700" y="453"/>
                  </a:lnTo>
                  <a:lnTo>
                    <a:pt x="833" y="117"/>
                  </a:lnTo>
                  <a:lnTo>
                    <a:pt x="564" y="0"/>
                  </a:lnTo>
                  <a:lnTo>
                    <a:pt x="453" y="140"/>
                  </a:lnTo>
                  <a:lnTo>
                    <a:pt x="339" y="234"/>
                  </a:lnTo>
                  <a:lnTo>
                    <a:pt x="205" y="297"/>
                  </a:lnTo>
                  <a:lnTo>
                    <a:pt x="0" y="365"/>
                  </a:lnTo>
                  <a:lnTo>
                    <a:pt x="327" y="7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1465600">
              <a:off x="1819080" y="7468920"/>
              <a:ext cx="549720" cy="1039680"/>
            </a:xfrm>
            <a:custGeom>
              <a:avLst/>
              <a:gdLst/>
              <a:ahLst/>
              <a:rect l="l" t="t" r="r" b="b"/>
              <a:pathLst>
                <a:path w="416" h="734">
                  <a:moveTo>
                    <a:pt x="416" y="258"/>
                  </a:moveTo>
                  <a:lnTo>
                    <a:pt x="318" y="501"/>
                  </a:lnTo>
                  <a:lnTo>
                    <a:pt x="246" y="624"/>
                  </a:lnTo>
                  <a:lnTo>
                    <a:pt x="162" y="734"/>
                  </a:lnTo>
                  <a:lnTo>
                    <a:pt x="32" y="594"/>
                  </a:lnTo>
                  <a:lnTo>
                    <a:pt x="0" y="458"/>
                  </a:lnTo>
                  <a:lnTo>
                    <a:pt x="140" y="354"/>
                  </a:lnTo>
                  <a:lnTo>
                    <a:pt x="210" y="276"/>
                  </a:lnTo>
                  <a:lnTo>
                    <a:pt x="284" y="168"/>
                  </a:lnTo>
                  <a:lnTo>
                    <a:pt x="383" y="0"/>
                  </a:lnTo>
                  <a:lnTo>
                    <a:pt x="416" y="258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1465600">
              <a:off x="2023920" y="5504040"/>
              <a:ext cx="1888560" cy="1711080"/>
            </a:xfrm>
            <a:custGeom>
              <a:avLst/>
              <a:gdLst/>
              <a:ahLst/>
              <a:rect l="l" t="t" r="r" b="b"/>
              <a:pathLst>
                <a:path w="1429" h="1208">
                  <a:moveTo>
                    <a:pt x="957" y="14"/>
                  </a:moveTo>
                  <a:lnTo>
                    <a:pt x="0" y="662"/>
                  </a:lnTo>
                  <a:lnTo>
                    <a:pt x="468" y="1208"/>
                  </a:lnTo>
                  <a:lnTo>
                    <a:pt x="1403" y="495"/>
                  </a:lnTo>
                  <a:lnTo>
                    <a:pt x="1429" y="396"/>
                  </a:lnTo>
                  <a:lnTo>
                    <a:pt x="1405" y="266"/>
                  </a:lnTo>
                  <a:lnTo>
                    <a:pt x="1298" y="113"/>
                  </a:lnTo>
                  <a:lnTo>
                    <a:pt x="1085" y="0"/>
                  </a:lnTo>
                  <a:lnTo>
                    <a:pt x="957" y="14"/>
                  </a:lnTo>
                  <a:close/>
                </a:path>
              </a:pathLst>
            </a:custGeom>
            <a:solidFill>
              <a:srgbClr val="00a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1465600">
              <a:off x="2483640" y="5799600"/>
              <a:ext cx="1429920" cy="1351080"/>
            </a:xfrm>
            <a:custGeom>
              <a:avLst/>
              <a:gdLst/>
              <a:ahLst/>
              <a:rect l="l" t="t" r="r" b="b"/>
              <a:pathLst>
                <a:path w="1082" h="954">
                  <a:moveTo>
                    <a:pt x="1068" y="207"/>
                  </a:moveTo>
                  <a:lnTo>
                    <a:pt x="55" y="954"/>
                  </a:lnTo>
                  <a:lnTo>
                    <a:pt x="0" y="718"/>
                  </a:lnTo>
                  <a:lnTo>
                    <a:pt x="1035" y="0"/>
                  </a:lnTo>
                  <a:lnTo>
                    <a:pt x="1082" y="126"/>
                  </a:lnTo>
                  <a:lnTo>
                    <a:pt x="1068" y="207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1465600">
              <a:off x="2232720" y="5614920"/>
              <a:ext cx="1603080" cy="1208160"/>
            </a:xfrm>
            <a:custGeom>
              <a:avLst/>
              <a:gdLst/>
              <a:ahLst/>
              <a:rect l="l" t="t" r="r" b="b"/>
              <a:pathLst>
                <a:path w="1213" h="853">
                  <a:moveTo>
                    <a:pt x="182" y="853"/>
                  </a:moveTo>
                  <a:lnTo>
                    <a:pt x="1213" y="142"/>
                  </a:lnTo>
                  <a:lnTo>
                    <a:pt x="1166" y="57"/>
                  </a:lnTo>
                  <a:lnTo>
                    <a:pt x="1091" y="0"/>
                  </a:lnTo>
                  <a:lnTo>
                    <a:pt x="0" y="709"/>
                  </a:lnTo>
                  <a:lnTo>
                    <a:pt x="182" y="85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1465600">
              <a:off x="3223800" y="5444640"/>
              <a:ext cx="716400" cy="769320"/>
            </a:xfrm>
            <a:custGeom>
              <a:avLst/>
              <a:gdLst/>
              <a:ahLst/>
              <a:rect l="l" t="t" r="r" b="b"/>
              <a:pathLst>
                <a:path w="542" h="543">
                  <a:moveTo>
                    <a:pt x="40" y="1"/>
                  </a:moveTo>
                  <a:lnTo>
                    <a:pt x="73" y="0"/>
                  </a:lnTo>
                  <a:lnTo>
                    <a:pt x="117" y="0"/>
                  </a:lnTo>
                  <a:lnTo>
                    <a:pt x="163" y="3"/>
                  </a:lnTo>
                  <a:lnTo>
                    <a:pt x="210" y="10"/>
                  </a:lnTo>
                  <a:lnTo>
                    <a:pt x="246" y="25"/>
                  </a:lnTo>
                  <a:lnTo>
                    <a:pt x="284" y="39"/>
                  </a:lnTo>
                  <a:lnTo>
                    <a:pt x="318" y="57"/>
                  </a:lnTo>
                  <a:lnTo>
                    <a:pt x="353" y="76"/>
                  </a:lnTo>
                  <a:lnTo>
                    <a:pt x="387" y="106"/>
                  </a:lnTo>
                  <a:lnTo>
                    <a:pt x="408" y="126"/>
                  </a:lnTo>
                  <a:lnTo>
                    <a:pt x="432" y="150"/>
                  </a:lnTo>
                  <a:lnTo>
                    <a:pt x="459" y="183"/>
                  </a:lnTo>
                  <a:lnTo>
                    <a:pt x="482" y="222"/>
                  </a:lnTo>
                  <a:lnTo>
                    <a:pt x="503" y="253"/>
                  </a:lnTo>
                  <a:lnTo>
                    <a:pt x="515" y="282"/>
                  </a:lnTo>
                  <a:lnTo>
                    <a:pt x="528" y="325"/>
                  </a:lnTo>
                  <a:lnTo>
                    <a:pt x="539" y="361"/>
                  </a:lnTo>
                  <a:lnTo>
                    <a:pt x="542" y="399"/>
                  </a:lnTo>
                  <a:lnTo>
                    <a:pt x="542" y="430"/>
                  </a:lnTo>
                  <a:lnTo>
                    <a:pt x="542" y="463"/>
                  </a:lnTo>
                  <a:lnTo>
                    <a:pt x="536" y="492"/>
                  </a:lnTo>
                  <a:lnTo>
                    <a:pt x="527" y="520"/>
                  </a:lnTo>
                  <a:lnTo>
                    <a:pt x="510" y="537"/>
                  </a:lnTo>
                  <a:lnTo>
                    <a:pt x="492" y="543"/>
                  </a:lnTo>
                  <a:lnTo>
                    <a:pt x="473" y="543"/>
                  </a:lnTo>
                  <a:lnTo>
                    <a:pt x="474" y="513"/>
                  </a:lnTo>
                  <a:lnTo>
                    <a:pt x="479" y="474"/>
                  </a:lnTo>
                  <a:lnTo>
                    <a:pt x="479" y="439"/>
                  </a:lnTo>
                  <a:lnTo>
                    <a:pt x="473" y="400"/>
                  </a:lnTo>
                  <a:lnTo>
                    <a:pt x="468" y="367"/>
                  </a:lnTo>
                  <a:lnTo>
                    <a:pt x="459" y="330"/>
                  </a:lnTo>
                  <a:lnTo>
                    <a:pt x="450" y="300"/>
                  </a:lnTo>
                  <a:lnTo>
                    <a:pt x="437" y="268"/>
                  </a:lnTo>
                  <a:lnTo>
                    <a:pt x="417" y="232"/>
                  </a:lnTo>
                  <a:lnTo>
                    <a:pt x="399" y="205"/>
                  </a:lnTo>
                  <a:lnTo>
                    <a:pt x="377" y="178"/>
                  </a:lnTo>
                  <a:lnTo>
                    <a:pt x="347" y="150"/>
                  </a:lnTo>
                  <a:lnTo>
                    <a:pt x="326" y="132"/>
                  </a:lnTo>
                  <a:lnTo>
                    <a:pt x="297" y="114"/>
                  </a:lnTo>
                  <a:lnTo>
                    <a:pt x="264" y="96"/>
                  </a:lnTo>
                  <a:lnTo>
                    <a:pt x="233" y="82"/>
                  </a:lnTo>
                  <a:lnTo>
                    <a:pt x="193" y="64"/>
                  </a:lnTo>
                  <a:lnTo>
                    <a:pt x="154" y="55"/>
                  </a:lnTo>
                  <a:lnTo>
                    <a:pt x="114" y="51"/>
                  </a:lnTo>
                  <a:lnTo>
                    <a:pt x="73" y="46"/>
                  </a:lnTo>
                  <a:lnTo>
                    <a:pt x="28" y="52"/>
                  </a:lnTo>
                  <a:lnTo>
                    <a:pt x="0" y="57"/>
                  </a:lnTo>
                  <a:lnTo>
                    <a:pt x="3" y="33"/>
                  </a:lnTo>
                  <a:lnTo>
                    <a:pt x="16" y="15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1465600">
              <a:off x="2778120" y="5811840"/>
              <a:ext cx="710640" cy="773280"/>
            </a:xfrm>
            <a:custGeom>
              <a:avLst/>
              <a:gdLst/>
              <a:ahLst/>
              <a:rect l="l" t="t" r="r" b="b"/>
              <a:pathLst>
                <a:path w="538" h="546">
                  <a:moveTo>
                    <a:pt x="160" y="15"/>
                  </a:moveTo>
                  <a:lnTo>
                    <a:pt x="246" y="41"/>
                  </a:lnTo>
                  <a:lnTo>
                    <a:pt x="321" y="80"/>
                  </a:lnTo>
                  <a:lnTo>
                    <a:pt x="376" y="119"/>
                  </a:lnTo>
                  <a:lnTo>
                    <a:pt x="432" y="176"/>
                  </a:lnTo>
                  <a:lnTo>
                    <a:pt x="472" y="230"/>
                  </a:lnTo>
                  <a:lnTo>
                    <a:pt x="501" y="290"/>
                  </a:lnTo>
                  <a:lnTo>
                    <a:pt x="523" y="351"/>
                  </a:lnTo>
                  <a:lnTo>
                    <a:pt x="534" y="410"/>
                  </a:lnTo>
                  <a:lnTo>
                    <a:pt x="538" y="468"/>
                  </a:lnTo>
                  <a:lnTo>
                    <a:pt x="532" y="510"/>
                  </a:lnTo>
                  <a:lnTo>
                    <a:pt x="514" y="534"/>
                  </a:lnTo>
                  <a:lnTo>
                    <a:pt x="496" y="546"/>
                  </a:lnTo>
                  <a:lnTo>
                    <a:pt x="477" y="546"/>
                  </a:lnTo>
                  <a:lnTo>
                    <a:pt x="477" y="468"/>
                  </a:lnTo>
                  <a:lnTo>
                    <a:pt x="465" y="402"/>
                  </a:lnTo>
                  <a:lnTo>
                    <a:pt x="444" y="339"/>
                  </a:lnTo>
                  <a:lnTo>
                    <a:pt x="412" y="281"/>
                  </a:lnTo>
                  <a:lnTo>
                    <a:pt x="375" y="225"/>
                  </a:lnTo>
                  <a:lnTo>
                    <a:pt x="324" y="174"/>
                  </a:lnTo>
                  <a:lnTo>
                    <a:pt x="270" y="132"/>
                  </a:lnTo>
                  <a:lnTo>
                    <a:pt x="199" y="95"/>
                  </a:lnTo>
                  <a:lnTo>
                    <a:pt x="112" y="65"/>
                  </a:lnTo>
                  <a:lnTo>
                    <a:pt x="55" y="54"/>
                  </a:lnTo>
                  <a:lnTo>
                    <a:pt x="0" y="50"/>
                  </a:lnTo>
                  <a:lnTo>
                    <a:pt x="7" y="29"/>
                  </a:lnTo>
                  <a:lnTo>
                    <a:pt x="21" y="11"/>
                  </a:lnTo>
                  <a:lnTo>
                    <a:pt x="55" y="0"/>
                  </a:lnTo>
                  <a:lnTo>
                    <a:pt x="91" y="0"/>
                  </a:lnTo>
                  <a:lnTo>
                    <a:pt x="160" y="15"/>
                  </a:lnTo>
                  <a:close/>
                </a:path>
              </a:pathLst>
            </a:custGeom>
            <a:solidFill>
              <a:srgbClr val="006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1465600">
              <a:off x="1201320" y="6486840"/>
              <a:ext cx="1497240" cy="1627560"/>
            </a:xfrm>
            <a:custGeom>
              <a:avLst/>
              <a:gdLst/>
              <a:ahLst/>
              <a:rect l="l" t="t" r="r" b="b"/>
              <a:pathLst>
                <a:path w="1133" h="1149">
                  <a:moveTo>
                    <a:pt x="762" y="36"/>
                  </a:moveTo>
                  <a:lnTo>
                    <a:pt x="812" y="52"/>
                  </a:lnTo>
                  <a:lnTo>
                    <a:pt x="874" y="88"/>
                  </a:lnTo>
                  <a:lnTo>
                    <a:pt x="931" y="127"/>
                  </a:lnTo>
                  <a:lnTo>
                    <a:pt x="994" y="180"/>
                  </a:lnTo>
                  <a:lnTo>
                    <a:pt x="1028" y="220"/>
                  </a:lnTo>
                  <a:lnTo>
                    <a:pt x="1063" y="286"/>
                  </a:lnTo>
                  <a:lnTo>
                    <a:pt x="1085" y="336"/>
                  </a:lnTo>
                  <a:lnTo>
                    <a:pt x="1105" y="390"/>
                  </a:lnTo>
                  <a:lnTo>
                    <a:pt x="1118" y="448"/>
                  </a:lnTo>
                  <a:lnTo>
                    <a:pt x="1133" y="543"/>
                  </a:lnTo>
                  <a:lnTo>
                    <a:pt x="1063" y="646"/>
                  </a:lnTo>
                  <a:lnTo>
                    <a:pt x="1028" y="726"/>
                  </a:lnTo>
                  <a:lnTo>
                    <a:pt x="989" y="817"/>
                  </a:lnTo>
                  <a:lnTo>
                    <a:pt x="958" y="916"/>
                  </a:lnTo>
                  <a:lnTo>
                    <a:pt x="874" y="1149"/>
                  </a:lnTo>
                  <a:lnTo>
                    <a:pt x="842" y="979"/>
                  </a:lnTo>
                  <a:lnTo>
                    <a:pt x="810" y="867"/>
                  </a:lnTo>
                  <a:lnTo>
                    <a:pt x="773" y="774"/>
                  </a:lnTo>
                  <a:lnTo>
                    <a:pt x="726" y="678"/>
                  </a:lnTo>
                  <a:lnTo>
                    <a:pt x="657" y="570"/>
                  </a:lnTo>
                  <a:lnTo>
                    <a:pt x="576" y="460"/>
                  </a:lnTo>
                  <a:lnTo>
                    <a:pt x="488" y="372"/>
                  </a:lnTo>
                  <a:lnTo>
                    <a:pt x="392" y="298"/>
                  </a:lnTo>
                  <a:lnTo>
                    <a:pt x="288" y="235"/>
                  </a:lnTo>
                  <a:lnTo>
                    <a:pt x="162" y="168"/>
                  </a:lnTo>
                  <a:lnTo>
                    <a:pt x="0" y="100"/>
                  </a:lnTo>
                  <a:lnTo>
                    <a:pt x="215" y="79"/>
                  </a:lnTo>
                  <a:lnTo>
                    <a:pt x="339" y="64"/>
                  </a:lnTo>
                  <a:lnTo>
                    <a:pt x="468" y="48"/>
                  </a:lnTo>
                  <a:lnTo>
                    <a:pt x="561" y="30"/>
                  </a:lnTo>
                  <a:lnTo>
                    <a:pt x="650" y="0"/>
                  </a:lnTo>
                  <a:lnTo>
                    <a:pt x="701" y="12"/>
                  </a:lnTo>
                  <a:lnTo>
                    <a:pt x="762" y="36"/>
                  </a:lnTo>
                  <a:close/>
                </a:path>
              </a:pathLst>
            </a:custGeom>
            <a:solidFill>
              <a:srgbClr val="80008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21465600">
              <a:off x="-21600" y="6920640"/>
              <a:ext cx="2089440" cy="2718000"/>
            </a:xfrm>
            <a:custGeom>
              <a:avLst/>
              <a:gdLst/>
              <a:ahLst/>
              <a:rect l="l" t="t" r="r" b="b"/>
              <a:pathLst>
                <a:path w="1581" h="1919">
                  <a:moveTo>
                    <a:pt x="511" y="0"/>
                  </a:moveTo>
                  <a:lnTo>
                    <a:pt x="0" y="419"/>
                  </a:lnTo>
                  <a:lnTo>
                    <a:pt x="0" y="1919"/>
                  </a:lnTo>
                  <a:lnTo>
                    <a:pt x="655" y="1919"/>
                  </a:lnTo>
                  <a:lnTo>
                    <a:pt x="1581" y="1229"/>
                  </a:lnTo>
                  <a:lnTo>
                    <a:pt x="1548" y="1107"/>
                  </a:lnTo>
                  <a:lnTo>
                    <a:pt x="1499" y="978"/>
                  </a:lnTo>
                  <a:lnTo>
                    <a:pt x="1415" y="825"/>
                  </a:lnTo>
                  <a:lnTo>
                    <a:pt x="1298" y="659"/>
                  </a:lnTo>
                  <a:lnTo>
                    <a:pt x="1154" y="495"/>
                  </a:lnTo>
                  <a:lnTo>
                    <a:pt x="992" y="324"/>
                  </a:lnTo>
                  <a:lnTo>
                    <a:pt x="828" y="185"/>
                  </a:lnTo>
                  <a:lnTo>
                    <a:pt x="657" y="68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80008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144160" y="7764120"/>
              <a:ext cx="130320" cy="165600"/>
              <a:chOff x="2144160" y="7764120"/>
              <a:chExt cx="130320" cy="165600"/>
            </a:xfrm>
          </p:grpSpPr>
          <p:sp>
            <p:nvSpPr>
              <p:cNvPr id="326" name=""/>
              <p:cNvSpPr/>
              <p:nvPr/>
            </p:nvSpPr>
            <p:spPr>
              <a:xfrm rot="21465600">
                <a:off x="2146680" y="7777800"/>
                <a:ext cx="110880" cy="1494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21465600">
                <a:off x="2154600" y="7766280"/>
                <a:ext cx="117000" cy="15084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1465600">
                <a:off x="2188800" y="7777440"/>
                <a:ext cx="51120" cy="7308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1779120" y="7700400"/>
              <a:ext cx="123840" cy="165600"/>
              <a:chOff x="1779120" y="7700400"/>
              <a:chExt cx="123840" cy="165600"/>
            </a:xfrm>
          </p:grpSpPr>
          <p:sp>
            <p:nvSpPr>
              <p:cNvPr id="330" name=""/>
              <p:cNvSpPr/>
              <p:nvPr/>
            </p:nvSpPr>
            <p:spPr>
              <a:xfrm rot="21465600">
                <a:off x="1782000" y="7712280"/>
                <a:ext cx="108360" cy="1512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1465600">
                <a:off x="1782720" y="7702560"/>
                <a:ext cx="117360" cy="14976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465600">
                <a:off x="1819800" y="7712280"/>
                <a:ext cx="52920" cy="7488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1951560" y="7959960"/>
              <a:ext cx="94320" cy="116280"/>
              <a:chOff x="1951560" y="7959960"/>
              <a:chExt cx="94320" cy="116280"/>
            </a:xfrm>
          </p:grpSpPr>
          <p:sp>
            <p:nvSpPr>
              <p:cNvPr id="334" name=""/>
              <p:cNvSpPr/>
              <p:nvPr/>
            </p:nvSpPr>
            <p:spPr>
              <a:xfrm rot="21465600">
                <a:off x="1953360" y="7970040"/>
                <a:ext cx="82800" cy="1044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465600">
                <a:off x="1956960" y="7961400"/>
                <a:ext cx="86760" cy="10584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465600">
                <a:off x="1981080" y="7969680"/>
                <a:ext cx="42120" cy="5364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264760" y="8013240"/>
              <a:ext cx="50760" cy="93600"/>
              <a:chOff x="2264760" y="8013240"/>
              <a:chExt cx="50760" cy="93600"/>
            </a:xfrm>
          </p:grpSpPr>
          <p:sp>
            <p:nvSpPr>
              <p:cNvPr id="338" name=""/>
              <p:cNvSpPr/>
              <p:nvPr/>
            </p:nvSpPr>
            <p:spPr>
              <a:xfrm rot="21465600">
                <a:off x="2266200" y="8020800"/>
                <a:ext cx="43200" cy="849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465600">
                <a:off x="2266200" y="8013960"/>
                <a:ext cx="47520" cy="8496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1465600">
                <a:off x="2277000" y="8020800"/>
                <a:ext cx="23760" cy="4392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109960" y="7542720"/>
              <a:ext cx="51840" cy="89640"/>
              <a:chOff x="2109960" y="7542720"/>
              <a:chExt cx="51840" cy="89640"/>
            </a:xfrm>
          </p:grpSpPr>
          <p:sp>
            <p:nvSpPr>
              <p:cNvPr id="342" name=""/>
              <p:cNvSpPr/>
              <p:nvPr/>
            </p:nvSpPr>
            <p:spPr>
              <a:xfrm rot="21465600">
                <a:off x="2111400" y="7546320"/>
                <a:ext cx="44280" cy="849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1465600">
                <a:off x="2111400" y="7543440"/>
                <a:ext cx="48600" cy="8352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1465600">
                <a:off x="2126160" y="7545960"/>
                <a:ext cx="23760" cy="4680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3143520" y="6402600"/>
              <a:ext cx="125280" cy="164160"/>
              <a:chOff x="3143520" y="6402600"/>
              <a:chExt cx="125280" cy="164160"/>
            </a:xfrm>
          </p:grpSpPr>
          <p:sp>
            <p:nvSpPr>
              <p:cNvPr id="346" name=""/>
              <p:cNvSpPr/>
              <p:nvPr/>
            </p:nvSpPr>
            <p:spPr>
              <a:xfrm rot="21465600">
                <a:off x="3146040" y="6415920"/>
                <a:ext cx="110880" cy="148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465600">
                <a:off x="3151080" y="6404400"/>
                <a:ext cx="114840" cy="15156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465600">
                <a:off x="3185280" y="6415560"/>
                <a:ext cx="54000" cy="7344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633760" y="6620760"/>
              <a:ext cx="126000" cy="162720"/>
              <a:chOff x="2633760" y="6620760"/>
              <a:chExt cx="126000" cy="162720"/>
            </a:xfrm>
          </p:grpSpPr>
          <p:sp>
            <p:nvSpPr>
              <p:cNvPr id="350" name=""/>
              <p:cNvSpPr/>
              <p:nvPr/>
            </p:nvSpPr>
            <p:spPr>
              <a:xfrm rot="21465600">
                <a:off x="2636280" y="6632640"/>
                <a:ext cx="110520" cy="148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1465600">
                <a:off x="2638440" y="6622920"/>
                <a:ext cx="118440" cy="14976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465600">
                <a:off x="2673720" y="6632280"/>
                <a:ext cx="54000" cy="7452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2949840" y="6598440"/>
              <a:ext cx="91080" cy="116280"/>
              <a:chOff x="2949840" y="6598440"/>
              <a:chExt cx="91080" cy="116280"/>
            </a:xfrm>
          </p:grpSpPr>
          <p:sp>
            <p:nvSpPr>
              <p:cNvPr id="354" name=""/>
              <p:cNvSpPr/>
              <p:nvPr/>
            </p:nvSpPr>
            <p:spPr>
              <a:xfrm rot="21465600">
                <a:off x="2951640" y="6608520"/>
                <a:ext cx="79200" cy="1044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1465600">
                <a:off x="2951640" y="6599880"/>
                <a:ext cx="87120" cy="10584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1465600">
                <a:off x="2980800" y="6607800"/>
                <a:ext cx="39240" cy="5328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748240" y="6852960"/>
              <a:ext cx="50400" cy="92520"/>
              <a:chOff x="2748240" y="6852960"/>
              <a:chExt cx="50400" cy="92520"/>
            </a:xfrm>
          </p:grpSpPr>
          <p:sp>
            <p:nvSpPr>
              <p:cNvPr id="358" name=""/>
              <p:cNvSpPr/>
              <p:nvPr/>
            </p:nvSpPr>
            <p:spPr>
              <a:xfrm rot="21465600">
                <a:off x="2749680" y="6859440"/>
                <a:ext cx="40320" cy="849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1465600">
                <a:off x="2749680" y="6853680"/>
                <a:ext cx="47160" cy="8496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1465600">
                <a:off x="2760480" y="6859440"/>
                <a:ext cx="24840" cy="4212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3107520" y="6180840"/>
              <a:ext cx="50760" cy="89280"/>
              <a:chOff x="3107520" y="6180840"/>
              <a:chExt cx="50760" cy="89280"/>
            </a:xfrm>
          </p:grpSpPr>
          <p:sp>
            <p:nvSpPr>
              <p:cNvPr id="362" name=""/>
              <p:cNvSpPr/>
              <p:nvPr/>
            </p:nvSpPr>
            <p:spPr>
              <a:xfrm rot="21465600">
                <a:off x="3109320" y="6188400"/>
                <a:ext cx="43560" cy="8064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1465600">
                <a:off x="3108960" y="6181560"/>
                <a:ext cx="47520" cy="8496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1465600">
                <a:off x="3120480" y="6188400"/>
                <a:ext cx="26280" cy="4248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650760" y="5872320"/>
              <a:ext cx="126000" cy="164160"/>
              <a:chOff x="3650760" y="5872320"/>
              <a:chExt cx="126000" cy="164160"/>
            </a:xfrm>
          </p:grpSpPr>
          <p:sp>
            <p:nvSpPr>
              <p:cNvPr id="366" name=""/>
              <p:cNvSpPr/>
              <p:nvPr/>
            </p:nvSpPr>
            <p:spPr>
              <a:xfrm rot="21465600">
                <a:off x="3653280" y="5885640"/>
                <a:ext cx="110520" cy="148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21465600">
                <a:off x="3659040" y="5874120"/>
                <a:ext cx="114480" cy="14688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1465600">
                <a:off x="3693600" y="5885280"/>
                <a:ext cx="52560" cy="7344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294560" y="7085520"/>
              <a:ext cx="163800" cy="140400"/>
              <a:chOff x="1294560" y="7085520"/>
              <a:chExt cx="163800" cy="140400"/>
            </a:xfrm>
          </p:grpSpPr>
          <p:sp>
            <p:nvSpPr>
              <p:cNvPr id="370" name=""/>
              <p:cNvSpPr/>
              <p:nvPr/>
            </p:nvSpPr>
            <p:spPr>
              <a:xfrm rot="21465600">
                <a:off x="1296720" y="7097400"/>
                <a:ext cx="144000" cy="12564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1465600">
                <a:off x="1301400" y="7088400"/>
                <a:ext cx="154440" cy="12564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1465600">
                <a:off x="1351080" y="7096680"/>
                <a:ext cx="68400" cy="6192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1065240" y="6733440"/>
              <a:ext cx="108360" cy="102960"/>
              <a:chOff x="1065240" y="6733440"/>
              <a:chExt cx="108360" cy="102960"/>
            </a:xfrm>
          </p:grpSpPr>
          <p:sp>
            <p:nvSpPr>
              <p:cNvPr id="374" name=""/>
              <p:cNvSpPr/>
              <p:nvPr/>
            </p:nvSpPr>
            <p:spPr>
              <a:xfrm rot="21465600">
                <a:off x="1066680" y="6743880"/>
                <a:ext cx="96480" cy="903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1465600">
                <a:off x="1069920" y="6735240"/>
                <a:ext cx="101520" cy="9324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1465600">
                <a:off x="1101600" y="6743880"/>
                <a:ext cx="46080" cy="4356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2787120" y="5983200"/>
              <a:ext cx="104400" cy="96840"/>
              <a:chOff x="2787120" y="5983200"/>
              <a:chExt cx="104400" cy="96840"/>
            </a:xfrm>
          </p:grpSpPr>
          <p:sp>
            <p:nvSpPr>
              <p:cNvPr id="378" name=""/>
              <p:cNvSpPr/>
              <p:nvPr/>
            </p:nvSpPr>
            <p:spPr>
              <a:xfrm rot="21465600">
                <a:off x="2788560" y="5992200"/>
                <a:ext cx="89640" cy="8604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1465600">
                <a:off x="2794680" y="5984640"/>
                <a:ext cx="95040" cy="8748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21465600">
                <a:off x="2822040" y="5991480"/>
                <a:ext cx="43200" cy="4356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rot="21465600">
              <a:off x="2229120" y="6795720"/>
              <a:ext cx="450720" cy="1053720"/>
            </a:xfrm>
            <a:custGeom>
              <a:avLst/>
              <a:gdLst/>
              <a:ahLst/>
              <a:rect l="l" t="t" r="r" b="b"/>
              <a:pathLst>
                <a:path w="341" h="744">
                  <a:moveTo>
                    <a:pt x="69" y="744"/>
                  </a:moveTo>
                  <a:lnTo>
                    <a:pt x="56" y="695"/>
                  </a:lnTo>
                  <a:lnTo>
                    <a:pt x="41" y="650"/>
                  </a:lnTo>
                  <a:lnTo>
                    <a:pt x="27" y="608"/>
                  </a:lnTo>
                  <a:lnTo>
                    <a:pt x="17" y="576"/>
                  </a:lnTo>
                  <a:lnTo>
                    <a:pt x="0" y="534"/>
                  </a:lnTo>
                  <a:lnTo>
                    <a:pt x="0" y="447"/>
                  </a:lnTo>
                  <a:lnTo>
                    <a:pt x="98" y="228"/>
                  </a:lnTo>
                  <a:lnTo>
                    <a:pt x="214" y="48"/>
                  </a:lnTo>
                  <a:lnTo>
                    <a:pt x="247" y="0"/>
                  </a:lnTo>
                  <a:lnTo>
                    <a:pt x="268" y="30"/>
                  </a:lnTo>
                  <a:lnTo>
                    <a:pt x="283" y="60"/>
                  </a:lnTo>
                  <a:lnTo>
                    <a:pt x="295" y="87"/>
                  </a:lnTo>
                  <a:lnTo>
                    <a:pt x="311" y="116"/>
                  </a:lnTo>
                  <a:lnTo>
                    <a:pt x="323" y="158"/>
                  </a:lnTo>
                  <a:lnTo>
                    <a:pt x="331" y="188"/>
                  </a:lnTo>
                  <a:lnTo>
                    <a:pt x="341" y="221"/>
                  </a:lnTo>
                  <a:lnTo>
                    <a:pt x="310" y="270"/>
                  </a:lnTo>
                  <a:lnTo>
                    <a:pt x="277" y="324"/>
                  </a:lnTo>
                  <a:lnTo>
                    <a:pt x="242" y="374"/>
                  </a:lnTo>
                  <a:lnTo>
                    <a:pt x="206" y="452"/>
                  </a:lnTo>
                  <a:lnTo>
                    <a:pt x="175" y="522"/>
                  </a:lnTo>
                  <a:lnTo>
                    <a:pt x="134" y="608"/>
                  </a:lnTo>
                  <a:lnTo>
                    <a:pt x="104" y="675"/>
                  </a:lnTo>
                  <a:lnTo>
                    <a:pt x="69" y="744"/>
                  </a:lnTo>
                  <a:close/>
                </a:path>
              </a:pathLst>
            </a:cu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1465600">
              <a:off x="2004840" y="6611040"/>
              <a:ext cx="553320" cy="964440"/>
            </a:xfrm>
            <a:custGeom>
              <a:avLst/>
              <a:gdLst/>
              <a:ahLst/>
              <a:rect l="l" t="t" r="r" b="b"/>
              <a:pathLst>
                <a:path w="419" h="681">
                  <a:moveTo>
                    <a:pt x="254" y="0"/>
                  </a:moveTo>
                  <a:lnTo>
                    <a:pt x="211" y="51"/>
                  </a:lnTo>
                  <a:lnTo>
                    <a:pt x="162" y="110"/>
                  </a:lnTo>
                  <a:lnTo>
                    <a:pt x="126" y="156"/>
                  </a:lnTo>
                  <a:lnTo>
                    <a:pt x="85" y="218"/>
                  </a:lnTo>
                  <a:lnTo>
                    <a:pt x="49" y="303"/>
                  </a:lnTo>
                  <a:lnTo>
                    <a:pt x="0" y="405"/>
                  </a:lnTo>
                  <a:lnTo>
                    <a:pt x="60" y="485"/>
                  </a:lnTo>
                  <a:lnTo>
                    <a:pt x="100" y="549"/>
                  </a:lnTo>
                  <a:lnTo>
                    <a:pt x="135" y="609"/>
                  </a:lnTo>
                  <a:lnTo>
                    <a:pt x="168" y="681"/>
                  </a:lnTo>
                  <a:lnTo>
                    <a:pt x="199" y="605"/>
                  </a:lnTo>
                  <a:lnTo>
                    <a:pt x="229" y="513"/>
                  </a:lnTo>
                  <a:lnTo>
                    <a:pt x="266" y="423"/>
                  </a:lnTo>
                  <a:lnTo>
                    <a:pt x="303" y="338"/>
                  </a:lnTo>
                  <a:lnTo>
                    <a:pt x="347" y="270"/>
                  </a:lnTo>
                  <a:lnTo>
                    <a:pt x="383" y="210"/>
                  </a:lnTo>
                  <a:lnTo>
                    <a:pt x="419" y="149"/>
                  </a:lnTo>
                  <a:lnTo>
                    <a:pt x="402" y="122"/>
                  </a:lnTo>
                  <a:lnTo>
                    <a:pt x="378" y="92"/>
                  </a:lnTo>
                  <a:lnTo>
                    <a:pt x="347" y="62"/>
                  </a:lnTo>
                  <a:lnTo>
                    <a:pt x="308" y="33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1465600">
              <a:off x="74160" y="8137080"/>
              <a:ext cx="1984680" cy="1492920"/>
            </a:xfrm>
            <a:custGeom>
              <a:avLst/>
              <a:gdLst/>
              <a:ahLst/>
              <a:rect l="l" t="t" r="r" b="b"/>
              <a:pathLst>
                <a:path w="1502" h="1054">
                  <a:moveTo>
                    <a:pt x="1502" y="295"/>
                  </a:moveTo>
                  <a:lnTo>
                    <a:pt x="1492" y="256"/>
                  </a:lnTo>
                  <a:lnTo>
                    <a:pt x="1478" y="216"/>
                  </a:lnTo>
                  <a:lnTo>
                    <a:pt x="1460" y="177"/>
                  </a:lnTo>
                  <a:lnTo>
                    <a:pt x="1447" y="135"/>
                  </a:lnTo>
                  <a:lnTo>
                    <a:pt x="1423" y="91"/>
                  </a:lnTo>
                  <a:lnTo>
                    <a:pt x="1405" y="57"/>
                  </a:lnTo>
                  <a:lnTo>
                    <a:pt x="1387" y="22"/>
                  </a:lnTo>
                  <a:lnTo>
                    <a:pt x="1370" y="0"/>
                  </a:lnTo>
                  <a:lnTo>
                    <a:pt x="0" y="1054"/>
                  </a:lnTo>
                  <a:lnTo>
                    <a:pt x="509" y="1054"/>
                  </a:lnTo>
                  <a:lnTo>
                    <a:pt x="1502" y="295"/>
                  </a:lnTo>
                  <a:close/>
                </a:path>
              </a:pathLst>
            </a:cu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1465600">
              <a:off x="4680" y="7644960"/>
              <a:ext cx="1875240" cy="1990080"/>
            </a:xfrm>
            <a:custGeom>
              <a:avLst/>
              <a:gdLst/>
              <a:ahLst/>
              <a:rect l="l" t="t" r="r" b="b"/>
              <a:pathLst>
                <a:path w="1419" h="1405">
                  <a:moveTo>
                    <a:pt x="0" y="1405"/>
                  </a:moveTo>
                  <a:lnTo>
                    <a:pt x="52" y="1405"/>
                  </a:lnTo>
                  <a:lnTo>
                    <a:pt x="1419" y="355"/>
                  </a:lnTo>
                  <a:lnTo>
                    <a:pt x="1395" y="310"/>
                  </a:lnTo>
                  <a:lnTo>
                    <a:pt x="1371" y="274"/>
                  </a:lnTo>
                  <a:lnTo>
                    <a:pt x="1340" y="232"/>
                  </a:lnTo>
                  <a:lnTo>
                    <a:pt x="1310" y="189"/>
                  </a:lnTo>
                  <a:lnTo>
                    <a:pt x="1281" y="150"/>
                  </a:lnTo>
                  <a:lnTo>
                    <a:pt x="1248" y="111"/>
                  </a:lnTo>
                  <a:lnTo>
                    <a:pt x="1220" y="79"/>
                  </a:lnTo>
                  <a:lnTo>
                    <a:pt x="1193" y="48"/>
                  </a:lnTo>
                  <a:lnTo>
                    <a:pt x="1166" y="22"/>
                  </a:lnTo>
                  <a:lnTo>
                    <a:pt x="1148" y="0"/>
                  </a:lnTo>
                  <a:lnTo>
                    <a:pt x="0" y="913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1794960" y="8375400"/>
              <a:ext cx="134640" cy="176040"/>
              <a:chOff x="1794960" y="8375400"/>
              <a:chExt cx="134640" cy="176040"/>
            </a:xfrm>
          </p:grpSpPr>
          <p:sp>
            <p:nvSpPr>
              <p:cNvPr id="386" name=""/>
              <p:cNvSpPr/>
              <p:nvPr/>
            </p:nvSpPr>
            <p:spPr>
              <a:xfrm rot="21465600">
                <a:off x="1797840" y="8387640"/>
                <a:ext cx="118800" cy="16128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1465600">
                <a:off x="1800000" y="8377560"/>
                <a:ext cx="126360" cy="16092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1465600">
                <a:off x="1838520" y="8386920"/>
                <a:ext cx="56520" cy="835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416960" y="8382960"/>
              <a:ext cx="108360" cy="139680"/>
              <a:chOff x="1416960" y="8382960"/>
              <a:chExt cx="108360" cy="139680"/>
            </a:xfrm>
          </p:grpSpPr>
          <p:sp>
            <p:nvSpPr>
              <p:cNvPr id="390" name=""/>
              <p:cNvSpPr/>
              <p:nvPr/>
            </p:nvSpPr>
            <p:spPr>
              <a:xfrm rot="21465600">
                <a:off x="1419120" y="8393400"/>
                <a:ext cx="96120" cy="12708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1465600">
                <a:off x="1419840" y="8384760"/>
                <a:ext cx="102600" cy="12708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21465600">
                <a:off x="1454760" y="8393040"/>
                <a:ext cx="43560" cy="6480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740600" y="8142840"/>
              <a:ext cx="86400" cy="99000"/>
              <a:chOff x="1740600" y="8142840"/>
              <a:chExt cx="86400" cy="99000"/>
            </a:xfrm>
          </p:grpSpPr>
          <p:sp>
            <p:nvSpPr>
              <p:cNvPr id="394" name=""/>
              <p:cNvSpPr/>
              <p:nvPr/>
            </p:nvSpPr>
            <p:spPr>
              <a:xfrm rot="21465600">
                <a:off x="1742040" y="8148240"/>
                <a:ext cx="76320" cy="9180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65600">
                <a:off x="1745640" y="8144280"/>
                <a:ext cx="79200" cy="9180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65600">
                <a:off x="1766160" y="8147880"/>
                <a:ext cx="42120" cy="4968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1661040" y="8718120"/>
              <a:ext cx="111600" cy="173520"/>
              <a:chOff x="1661040" y="8718120"/>
              <a:chExt cx="111600" cy="173520"/>
            </a:xfrm>
          </p:grpSpPr>
          <p:sp>
            <p:nvSpPr>
              <p:cNvPr id="398" name=""/>
              <p:cNvSpPr/>
              <p:nvPr/>
            </p:nvSpPr>
            <p:spPr>
              <a:xfrm rot="21465600">
                <a:off x="1664280" y="8729640"/>
                <a:ext cx="97560" cy="15984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21465600">
                <a:off x="1663920" y="8719920"/>
                <a:ext cx="105480" cy="15840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1465600">
                <a:off x="1697040" y="8729280"/>
                <a:ext cx="47520" cy="8064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66960" y="8265960"/>
              <a:ext cx="178560" cy="185760"/>
              <a:chOff x="966960" y="8265960"/>
              <a:chExt cx="178560" cy="185760"/>
            </a:xfrm>
          </p:grpSpPr>
          <p:sp>
            <p:nvSpPr>
              <p:cNvPr id="402" name=""/>
              <p:cNvSpPr/>
              <p:nvPr/>
            </p:nvSpPr>
            <p:spPr>
              <a:xfrm rot="21465600">
                <a:off x="969840" y="8283240"/>
                <a:ext cx="160920" cy="16524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21465600">
                <a:off x="972000" y="8268840"/>
                <a:ext cx="170280" cy="16956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21465600">
                <a:off x="1026360" y="8282520"/>
                <a:ext cx="76320" cy="8496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118880" y="7795800"/>
              <a:ext cx="120600" cy="140760"/>
              <a:chOff x="1118880" y="7795800"/>
              <a:chExt cx="120600" cy="140760"/>
            </a:xfrm>
          </p:grpSpPr>
          <p:sp>
            <p:nvSpPr>
              <p:cNvPr id="406" name=""/>
              <p:cNvSpPr/>
              <p:nvPr/>
            </p:nvSpPr>
            <p:spPr>
              <a:xfrm rot="21465600">
                <a:off x="1121040" y="7806600"/>
                <a:ext cx="108360" cy="12744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65600">
                <a:off x="1124640" y="7797600"/>
                <a:ext cx="111960" cy="12744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1465600">
                <a:off x="1158120" y="7806600"/>
                <a:ext cx="50040" cy="6624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742320" y="8950680"/>
              <a:ext cx="183600" cy="182160"/>
              <a:chOff x="742320" y="8950680"/>
              <a:chExt cx="183600" cy="182160"/>
            </a:xfrm>
          </p:grpSpPr>
          <p:sp>
            <p:nvSpPr>
              <p:cNvPr id="410" name=""/>
              <p:cNvSpPr/>
              <p:nvPr/>
            </p:nvSpPr>
            <p:spPr>
              <a:xfrm rot="21465600">
                <a:off x="745200" y="8963640"/>
                <a:ext cx="167760" cy="16560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1465600">
                <a:off x="745920" y="8953920"/>
                <a:ext cx="176760" cy="16308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465600">
                <a:off x="802800" y="8963280"/>
                <a:ext cx="79200" cy="835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337480" y="7540920"/>
              <a:ext cx="94320" cy="138600"/>
              <a:chOff x="2337480" y="7540920"/>
              <a:chExt cx="94320" cy="138600"/>
            </a:xfrm>
          </p:grpSpPr>
          <p:sp>
            <p:nvSpPr>
              <p:cNvPr id="414" name=""/>
              <p:cNvSpPr/>
              <p:nvPr/>
            </p:nvSpPr>
            <p:spPr>
              <a:xfrm rot="21465600">
                <a:off x="2339640" y="7550640"/>
                <a:ext cx="85680" cy="12708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21465600">
                <a:off x="2342160" y="7542360"/>
                <a:ext cx="86760" cy="12708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1465600">
                <a:off x="2367360" y="7550280"/>
                <a:ext cx="40680" cy="619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2302200" y="7238520"/>
              <a:ext cx="134640" cy="174600"/>
              <a:chOff x="2302200" y="7238520"/>
              <a:chExt cx="134640" cy="174600"/>
            </a:xfrm>
          </p:grpSpPr>
          <p:sp>
            <p:nvSpPr>
              <p:cNvPr id="418" name=""/>
              <p:cNvSpPr/>
              <p:nvPr/>
            </p:nvSpPr>
            <p:spPr>
              <a:xfrm rot="21465600">
                <a:off x="2305080" y="7252200"/>
                <a:ext cx="120960" cy="15840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1465600">
                <a:off x="2306880" y="7240680"/>
                <a:ext cx="126720" cy="16128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1465600">
                <a:off x="2345760" y="7251840"/>
                <a:ext cx="59040" cy="8064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2485800" y="7016400"/>
              <a:ext cx="92160" cy="128520"/>
              <a:chOff x="2485800" y="7016400"/>
              <a:chExt cx="92160" cy="128520"/>
            </a:xfrm>
          </p:grpSpPr>
          <p:sp>
            <p:nvSpPr>
              <p:cNvPr id="422" name=""/>
              <p:cNvSpPr/>
              <p:nvPr/>
            </p:nvSpPr>
            <p:spPr>
              <a:xfrm rot="21465600">
                <a:off x="2488320" y="7026120"/>
                <a:ext cx="82080" cy="11700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1465600">
                <a:off x="2487960" y="7017840"/>
                <a:ext cx="87480" cy="11700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1465600">
                <a:off x="2513880" y="7025760"/>
                <a:ext cx="39240" cy="5940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174760" y="6631560"/>
              <a:ext cx="125640" cy="96480"/>
              <a:chOff x="2174760" y="6631560"/>
              <a:chExt cx="125640" cy="96480"/>
            </a:xfrm>
          </p:grpSpPr>
          <p:sp>
            <p:nvSpPr>
              <p:cNvPr id="426" name=""/>
              <p:cNvSpPr/>
              <p:nvPr/>
            </p:nvSpPr>
            <p:spPr>
              <a:xfrm rot="21465600">
                <a:off x="2176200" y="6640920"/>
                <a:ext cx="114480" cy="8460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1465600">
                <a:off x="2179800" y="6633720"/>
                <a:ext cx="118800" cy="8460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21465600">
                <a:off x="2214720" y="6640200"/>
                <a:ext cx="55080" cy="4356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1617120" y="6672960"/>
              <a:ext cx="168840" cy="127800"/>
              <a:chOff x="1617120" y="6672960"/>
              <a:chExt cx="168840" cy="127800"/>
            </a:xfrm>
          </p:grpSpPr>
          <p:sp>
            <p:nvSpPr>
              <p:cNvPr id="430" name=""/>
              <p:cNvSpPr/>
              <p:nvPr/>
            </p:nvSpPr>
            <p:spPr>
              <a:xfrm rot="21465600">
                <a:off x="1619280" y="6680160"/>
                <a:ext cx="153000" cy="11736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21465600">
                <a:off x="1621080" y="6676200"/>
                <a:ext cx="162360" cy="11304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21465600">
                <a:off x="1673640" y="6679800"/>
                <a:ext cx="70920" cy="5940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528480" y="7244640"/>
              <a:ext cx="196920" cy="173160"/>
              <a:chOff x="528480" y="7244640"/>
              <a:chExt cx="196920" cy="173160"/>
            </a:xfrm>
          </p:grpSpPr>
          <p:sp>
            <p:nvSpPr>
              <p:cNvPr id="434" name=""/>
              <p:cNvSpPr/>
              <p:nvPr/>
            </p:nvSpPr>
            <p:spPr>
              <a:xfrm rot="21465600">
                <a:off x="531360" y="7257240"/>
                <a:ext cx="178200" cy="15696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1465600">
                <a:off x="532440" y="7248240"/>
                <a:ext cx="190080" cy="15408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1465600">
                <a:off x="590400" y="7256520"/>
                <a:ext cx="85680" cy="7740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431280" y="3214440"/>
            <a:ext cx="5728320" cy="6084360"/>
            <a:chOff x="431280" y="3214440"/>
            <a:chExt cx="5728320" cy="6084360"/>
          </a:xfrm>
        </p:grpSpPr>
        <p:grpSp>
          <p:nvGrpSpPr>
            <p:cNvPr id="438" name=""/>
            <p:cNvGrpSpPr/>
            <p:nvPr/>
          </p:nvGrpSpPr>
          <p:grpSpPr>
            <a:xfrm>
              <a:off x="3490560" y="5530680"/>
              <a:ext cx="2669040" cy="3768120"/>
              <a:chOff x="3490560" y="5530680"/>
              <a:chExt cx="2669040" cy="376812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3544200" y="8941320"/>
                <a:ext cx="364320" cy="357480"/>
                <a:chOff x="3544200" y="8941320"/>
                <a:chExt cx="364320" cy="357480"/>
              </a:xfrm>
            </p:grpSpPr>
            <p:sp>
              <p:nvSpPr>
                <p:cNvPr id="440" name=""/>
                <p:cNvSpPr/>
                <p:nvPr/>
              </p:nvSpPr>
              <p:spPr>
                <a:xfrm rot="20710200">
                  <a:off x="3576240" y="8974440"/>
                  <a:ext cx="299880" cy="29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20710200">
                  <a:off x="3622320" y="8994240"/>
                  <a:ext cx="221400" cy="209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20710200">
                  <a:off x="3597480" y="9001080"/>
                  <a:ext cx="234720" cy="2491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20710200">
                  <a:off x="3605400" y="9027360"/>
                  <a:ext cx="15084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20710200">
                  <a:off x="3624120" y="9071280"/>
                  <a:ext cx="5292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813480" y="7162920"/>
                <a:ext cx="362520" cy="357120"/>
                <a:chOff x="3813480" y="7162920"/>
                <a:chExt cx="362520" cy="357120"/>
              </a:xfrm>
            </p:grpSpPr>
            <p:sp>
              <p:nvSpPr>
                <p:cNvPr id="446" name=""/>
                <p:cNvSpPr/>
                <p:nvPr/>
              </p:nvSpPr>
              <p:spPr>
                <a:xfrm rot="20710200">
                  <a:off x="3845520" y="7196040"/>
                  <a:ext cx="298080" cy="29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20710200">
                  <a:off x="3875400" y="7257600"/>
                  <a:ext cx="222840" cy="209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20710200">
                  <a:off x="3888000" y="7211160"/>
                  <a:ext cx="232920" cy="2476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20710200">
                  <a:off x="3961440" y="7281720"/>
                  <a:ext cx="154800" cy="1508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20710200">
                  <a:off x="4043160" y="7329600"/>
                  <a:ext cx="50040" cy="58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622760" y="8832600"/>
                <a:ext cx="362520" cy="357120"/>
                <a:chOff x="4622760" y="8832600"/>
                <a:chExt cx="362520" cy="357120"/>
              </a:xfrm>
            </p:grpSpPr>
            <p:sp>
              <p:nvSpPr>
                <p:cNvPr id="452" name=""/>
                <p:cNvSpPr/>
                <p:nvPr/>
              </p:nvSpPr>
              <p:spPr>
                <a:xfrm rot="20710200">
                  <a:off x="4654800" y="8865720"/>
                  <a:ext cx="298080" cy="29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20710200">
                  <a:off x="4674960" y="8891640"/>
                  <a:ext cx="223200" cy="210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20710200">
                  <a:off x="4698360" y="8884800"/>
                  <a:ext cx="232920" cy="249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20710200">
                  <a:off x="4756680" y="8898120"/>
                  <a:ext cx="154800" cy="1508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rot="20710200">
                  <a:off x="4833720" y="8928720"/>
                  <a:ext cx="50040" cy="58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5635800" y="7984080"/>
                <a:ext cx="267120" cy="250560"/>
                <a:chOff x="5635800" y="7984080"/>
                <a:chExt cx="267120" cy="250560"/>
              </a:xfrm>
            </p:grpSpPr>
            <p:sp>
              <p:nvSpPr>
                <p:cNvPr id="458" name=""/>
                <p:cNvSpPr/>
                <p:nvPr/>
              </p:nvSpPr>
              <p:spPr>
                <a:xfrm rot="20710200">
                  <a:off x="5657400" y="8009280"/>
                  <a:ext cx="223560" cy="1998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rot="20710200">
                  <a:off x="5674680" y="8025840"/>
                  <a:ext cx="166320" cy="1468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20710200">
                  <a:off x="5690160" y="8021160"/>
                  <a:ext cx="177120" cy="1728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20710200">
                  <a:off x="5738040" y="8026920"/>
                  <a:ext cx="114480" cy="1076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rot="20710200">
                  <a:off x="5790960" y="8049600"/>
                  <a:ext cx="39240" cy="42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3997440" y="8184960"/>
                <a:ext cx="307080" cy="288360"/>
                <a:chOff x="3997440" y="8184960"/>
                <a:chExt cx="307080" cy="288360"/>
              </a:xfrm>
            </p:grpSpPr>
            <p:sp>
              <p:nvSpPr>
                <p:cNvPr id="464" name=""/>
                <p:cNvSpPr/>
                <p:nvPr/>
              </p:nvSpPr>
              <p:spPr>
                <a:xfrm rot="20710200">
                  <a:off x="4022640" y="8213760"/>
                  <a:ext cx="256680" cy="2304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20710200">
                  <a:off x="4060440" y="8228520"/>
                  <a:ext cx="191520" cy="1692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20710200">
                  <a:off x="4039920" y="8234280"/>
                  <a:ext cx="20340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20710200">
                  <a:off x="4043520" y="8256600"/>
                  <a:ext cx="133200" cy="1213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20710200">
                  <a:off x="4065480" y="8290800"/>
                  <a:ext cx="42120" cy="48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355360" y="7517160"/>
                <a:ext cx="266400" cy="251640"/>
                <a:chOff x="5355360" y="7517160"/>
                <a:chExt cx="266400" cy="251640"/>
              </a:xfrm>
            </p:grpSpPr>
            <p:sp>
              <p:nvSpPr>
                <p:cNvPr id="470" name=""/>
                <p:cNvSpPr/>
                <p:nvPr/>
              </p:nvSpPr>
              <p:spPr>
                <a:xfrm rot="20710200">
                  <a:off x="5377320" y="7542000"/>
                  <a:ext cx="222120" cy="2016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20710200">
                  <a:off x="5390640" y="7560360"/>
                  <a:ext cx="165960" cy="147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20710200">
                  <a:off x="5408280" y="7557480"/>
                  <a:ext cx="174240" cy="1706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rot="20710200">
                  <a:off x="5453280" y="7565400"/>
                  <a:ext cx="115560" cy="105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20710200">
                  <a:off x="5508360" y="7584840"/>
                  <a:ext cx="40680" cy="43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5018400" y="8346960"/>
                <a:ext cx="310320" cy="289080"/>
                <a:chOff x="5018400" y="8346960"/>
                <a:chExt cx="310320" cy="289080"/>
              </a:xfrm>
            </p:grpSpPr>
            <p:sp>
              <p:nvSpPr>
                <p:cNvPr id="476" name=""/>
                <p:cNvSpPr/>
                <p:nvPr/>
              </p:nvSpPr>
              <p:spPr>
                <a:xfrm rot="20710200">
                  <a:off x="5043240" y="8376120"/>
                  <a:ext cx="259920" cy="230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20710200">
                  <a:off x="5084640" y="8390520"/>
                  <a:ext cx="191880" cy="1659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20710200">
                  <a:off x="5060520" y="8395560"/>
                  <a:ext cx="205560" cy="19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20710200">
                  <a:off x="5068440" y="8417160"/>
                  <a:ext cx="131760" cy="1220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20710200">
                  <a:off x="5087520" y="8452440"/>
                  <a:ext cx="4608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5942160" y="7362000"/>
                <a:ext cx="217440" cy="212760"/>
                <a:chOff x="5942160" y="7362000"/>
                <a:chExt cx="217440" cy="212760"/>
              </a:xfrm>
            </p:grpSpPr>
            <p:sp>
              <p:nvSpPr>
                <p:cNvPr id="482" name=""/>
                <p:cNvSpPr/>
                <p:nvPr/>
              </p:nvSpPr>
              <p:spPr>
                <a:xfrm rot="20710200">
                  <a:off x="5961240" y="7381800"/>
                  <a:ext cx="179280" cy="1728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20710200">
                  <a:off x="5972400" y="7397640"/>
                  <a:ext cx="137160" cy="1263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20710200">
                  <a:off x="5985720" y="7394760"/>
                  <a:ext cx="143640" cy="146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20710200">
                  <a:off x="6021720" y="7401960"/>
                  <a:ext cx="95040" cy="914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20710200">
                  <a:off x="6068520" y="7419600"/>
                  <a:ext cx="3240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033160" y="5540400"/>
                <a:ext cx="289440" cy="280800"/>
                <a:chOff x="5033160" y="5540400"/>
                <a:chExt cx="289440" cy="280800"/>
              </a:xfrm>
            </p:grpSpPr>
            <p:sp>
              <p:nvSpPr>
                <p:cNvPr id="488" name=""/>
                <p:cNvSpPr/>
                <p:nvPr/>
              </p:nvSpPr>
              <p:spPr>
                <a:xfrm rot="20710200">
                  <a:off x="5058000" y="5567040"/>
                  <a:ext cx="239400" cy="227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20710200">
                  <a:off x="5095080" y="5583240"/>
                  <a:ext cx="178200" cy="1620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20710200">
                  <a:off x="5074920" y="5587560"/>
                  <a:ext cx="187920" cy="1936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20710200">
                  <a:off x="5077800" y="5609520"/>
                  <a:ext cx="125280" cy="1177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rot="20710200">
                  <a:off x="5094720" y="5640480"/>
                  <a:ext cx="45000" cy="47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586400" y="6450480"/>
                <a:ext cx="216360" cy="209880"/>
                <a:chOff x="4586400" y="6450480"/>
                <a:chExt cx="216360" cy="209880"/>
              </a:xfrm>
            </p:grpSpPr>
            <p:sp>
              <p:nvSpPr>
                <p:cNvPr id="494" name=""/>
                <p:cNvSpPr/>
                <p:nvPr/>
              </p:nvSpPr>
              <p:spPr>
                <a:xfrm rot="20710200">
                  <a:off x="4605120" y="6470280"/>
                  <a:ext cx="17892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20710200">
                  <a:off x="4618440" y="6480720"/>
                  <a:ext cx="132840" cy="1270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20710200">
                  <a:off x="4632120" y="6478920"/>
                  <a:ext cx="142200" cy="1501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20710200">
                  <a:off x="4665240" y="6486840"/>
                  <a:ext cx="96120" cy="914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20710200">
                  <a:off x="4711680" y="6504840"/>
                  <a:ext cx="3240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3490560" y="8133120"/>
                <a:ext cx="362160" cy="355680"/>
                <a:chOff x="3490560" y="8133120"/>
                <a:chExt cx="362160" cy="355680"/>
              </a:xfrm>
            </p:grpSpPr>
            <p:sp>
              <p:nvSpPr>
                <p:cNvPr id="500" name=""/>
                <p:cNvSpPr/>
                <p:nvPr/>
              </p:nvSpPr>
              <p:spPr>
                <a:xfrm rot="20710200">
                  <a:off x="3522240" y="8166240"/>
                  <a:ext cx="298080" cy="2890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20710200">
                  <a:off x="3552840" y="8223840"/>
                  <a:ext cx="220680" cy="2120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20710200">
                  <a:off x="3567600" y="8179920"/>
                  <a:ext cx="232920" cy="2502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20710200">
                  <a:off x="3642840" y="8250480"/>
                  <a:ext cx="15156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20710200">
                  <a:off x="3718800" y="8298720"/>
                  <a:ext cx="5256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159880" y="6569640"/>
                <a:ext cx="362160" cy="355320"/>
                <a:chOff x="5159880" y="6569640"/>
                <a:chExt cx="362160" cy="355320"/>
              </a:xfrm>
            </p:grpSpPr>
            <p:sp>
              <p:nvSpPr>
                <p:cNvPr id="506" name=""/>
                <p:cNvSpPr/>
                <p:nvPr/>
              </p:nvSpPr>
              <p:spPr>
                <a:xfrm rot="20710200">
                  <a:off x="5191560" y="6602760"/>
                  <a:ext cx="298080" cy="2887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rot="20710200">
                  <a:off x="5211720" y="6629040"/>
                  <a:ext cx="222840" cy="2080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710200">
                  <a:off x="5235120" y="6624000"/>
                  <a:ext cx="233640" cy="2448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20710200">
                  <a:off x="5295600" y="6633720"/>
                  <a:ext cx="152280" cy="1519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20710200">
                  <a:off x="5367600" y="6663960"/>
                  <a:ext cx="52920" cy="60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4924440" y="7713000"/>
                <a:ext cx="263880" cy="248400"/>
                <a:chOff x="4924440" y="7713000"/>
                <a:chExt cx="263880" cy="248400"/>
              </a:xfrm>
            </p:grpSpPr>
            <p:sp>
              <p:nvSpPr>
                <p:cNvPr id="512" name=""/>
                <p:cNvSpPr/>
                <p:nvPr/>
              </p:nvSpPr>
              <p:spPr>
                <a:xfrm rot="20710200">
                  <a:off x="4946040" y="7737840"/>
                  <a:ext cx="22032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20710200">
                  <a:off x="4959360" y="7753680"/>
                  <a:ext cx="164520" cy="1468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20710200">
                  <a:off x="4976640" y="7750800"/>
                  <a:ext cx="173880" cy="173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20710200">
                  <a:off x="5021640" y="7758000"/>
                  <a:ext cx="113760" cy="1051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20710200">
                  <a:off x="5076720" y="7777800"/>
                  <a:ext cx="40680" cy="43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4956120" y="7136280"/>
                <a:ext cx="214200" cy="212400"/>
                <a:chOff x="4956120" y="7136280"/>
                <a:chExt cx="214200" cy="212400"/>
              </a:xfrm>
            </p:grpSpPr>
            <p:sp>
              <p:nvSpPr>
                <p:cNvPr id="518" name=""/>
                <p:cNvSpPr/>
                <p:nvPr/>
              </p:nvSpPr>
              <p:spPr>
                <a:xfrm rot="20710200">
                  <a:off x="4975200" y="7155720"/>
                  <a:ext cx="175680" cy="173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20710200">
                  <a:off x="4983840" y="7169040"/>
                  <a:ext cx="137520" cy="1278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20710200">
                  <a:off x="4999320" y="7167240"/>
                  <a:ext cx="141480" cy="1486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20710200">
                  <a:off x="5034960" y="7172280"/>
                  <a:ext cx="93960" cy="946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20710200">
                  <a:off x="5077440" y="7190640"/>
                  <a:ext cx="32400" cy="37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5607720" y="5530680"/>
                <a:ext cx="248400" cy="271440"/>
                <a:chOff x="5607720" y="5530680"/>
                <a:chExt cx="248400" cy="271440"/>
              </a:xfrm>
            </p:grpSpPr>
            <p:sp>
              <p:nvSpPr>
                <p:cNvPr id="524" name=""/>
                <p:cNvSpPr/>
                <p:nvPr/>
              </p:nvSpPr>
              <p:spPr>
                <a:xfrm rot="20710200">
                  <a:off x="5633640" y="5551920"/>
                  <a:ext cx="196560" cy="2286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20710200">
                  <a:off x="5650560" y="5598720"/>
                  <a:ext cx="153000" cy="1674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20710200">
                  <a:off x="5661360" y="5564160"/>
                  <a:ext cx="155880" cy="19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20710200">
                  <a:off x="5711400" y="5618880"/>
                  <a:ext cx="102960" cy="123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20710200">
                  <a:off x="5762880" y="5660640"/>
                  <a:ext cx="3636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5914080" y="6554160"/>
                <a:ext cx="216360" cy="209880"/>
                <a:chOff x="5914080" y="6554160"/>
                <a:chExt cx="216360" cy="209880"/>
              </a:xfrm>
            </p:grpSpPr>
            <p:sp>
              <p:nvSpPr>
                <p:cNvPr id="530" name=""/>
                <p:cNvSpPr/>
                <p:nvPr/>
              </p:nvSpPr>
              <p:spPr>
                <a:xfrm rot="20710200">
                  <a:off x="5932800" y="6573960"/>
                  <a:ext cx="17892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20710200">
                  <a:off x="5942880" y="6587280"/>
                  <a:ext cx="135360" cy="128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20710200">
                  <a:off x="5958000" y="6586560"/>
                  <a:ext cx="142200" cy="146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20710200">
                  <a:off x="5994000" y="6591600"/>
                  <a:ext cx="93240" cy="943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20710200">
                  <a:off x="6037560" y="6609240"/>
                  <a:ext cx="3528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5528160" y="6131880"/>
                <a:ext cx="264600" cy="251280"/>
                <a:chOff x="5528160" y="6131880"/>
                <a:chExt cx="264600" cy="251280"/>
              </a:xfrm>
            </p:grpSpPr>
            <p:sp>
              <p:nvSpPr>
                <p:cNvPr id="536" name=""/>
                <p:cNvSpPr/>
                <p:nvPr/>
              </p:nvSpPr>
              <p:spPr>
                <a:xfrm rot="20710200">
                  <a:off x="5550120" y="6156720"/>
                  <a:ext cx="220320" cy="2016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710200">
                  <a:off x="5564880" y="6174720"/>
                  <a:ext cx="165960" cy="147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20710200">
                  <a:off x="5580720" y="6169320"/>
                  <a:ext cx="174960" cy="1756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20710200">
                  <a:off x="5626080" y="6179760"/>
                  <a:ext cx="114480" cy="105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20710200">
                  <a:off x="5680080" y="6199200"/>
                  <a:ext cx="41040" cy="4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1" name=""/>
            <p:cNvGrpSpPr/>
            <p:nvPr/>
          </p:nvGrpSpPr>
          <p:grpSpPr>
            <a:xfrm>
              <a:off x="431280" y="3214440"/>
              <a:ext cx="2654280" cy="2088000"/>
              <a:chOff x="431280" y="3214440"/>
              <a:chExt cx="2654280" cy="20880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730800" y="4945320"/>
                <a:ext cx="362520" cy="357120"/>
                <a:chOff x="730800" y="4945320"/>
                <a:chExt cx="362520" cy="357120"/>
              </a:xfrm>
            </p:grpSpPr>
            <p:sp>
              <p:nvSpPr>
                <p:cNvPr id="543" name=""/>
                <p:cNvSpPr/>
                <p:nvPr/>
              </p:nvSpPr>
              <p:spPr>
                <a:xfrm rot="20710200">
                  <a:off x="762840" y="4978440"/>
                  <a:ext cx="298080" cy="29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rot="20710200">
                  <a:off x="806400" y="4998600"/>
                  <a:ext cx="220320" cy="2106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20710200">
                  <a:off x="784080" y="5003640"/>
                  <a:ext cx="231480" cy="2498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20710200">
                  <a:off x="789480" y="5031360"/>
                  <a:ext cx="15156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20710200">
                  <a:off x="809280" y="5075640"/>
                  <a:ext cx="514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915560" y="4837320"/>
                <a:ext cx="361800" cy="353880"/>
                <a:chOff x="1915560" y="4837320"/>
                <a:chExt cx="361800" cy="353880"/>
              </a:xfrm>
            </p:grpSpPr>
            <p:sp>
              <p:nvSpPr>
                <p:cNvPr id="549" name=""/>
                <p:cNvSpPr/>
                <p:nvPr/>
              </p:nvSpPr>
              <p:spPr>
                <a:xfrm rot="20710200">
                  <a:off x="1947240" y="4870440"/>
                  <a:ext cx="298080" cy="2872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rot="20710200">
                  <a:off x="1971000" y="4894920"/>
                  <a:ext cx="223200" cy="2088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rot="20710200">
                  <a:off x="1990800" y="4888800"/>
                  <a:ext cx="236880" cy="2469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20710200">
                  <a:off x="2052720" y="4901040"/>
                  <a:ext cx="151200" cy="1515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20710200">
                  <a:off x="2126880" y="4928400"/>
                  <a:ext cx="5292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2723760" y="4459680"/>
                <a:ext cx="361800" cy="353880"/>
                <a:chOff x="2723760" y="4459680"/>
                <a:chExt cx="361800" cy="353880"/>
              </a:xfrm>
            </p:grpSpPr>
            <p:sp>
              <p:nvSpPr>
                <p:cNvPr id="555" name=""/>
                <p:cNvSpPr/>
                <p:nvPr/>
              </p:nvSpPr>
              <p:spPr>
                <a:xfrm rot="20710200">
                  <a:off x="2755440" y="4492800"/>
                  <a:ext cx="298080" cy="2872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710200">
                  <a:off x="2796120" y="4510080"/>
                  <a:ext cx="223200" cy="2113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rot="20710200">
                  <a:off x="2773080" y="4518360"/>
                  <a:ext cx="234000" cy="2469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20710200">
                  <a:off x="2779200" y="4542480"/>
                  <a:ext cx="153720" cy="1526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710200">
                  <a:off x="2800440" y="4586760"/>
                  <a:ext cx="5292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1182960" y="4512600"/>
                <a:ext cx="307080" cy="288360"/>
                <a:chOff x="1182960" y="4512600"/>
                <a:chExt cx="307080" cy="288360"/>
              </a:xfrm>
            </p:grpSpPr>
            <p:sp>
              <p:nvSpPr>
                <p:cNvPr id="561" name=""/>
                <p:cNvSpPr/>
                <p:nvPr/>
              </p:nvSpPr>
              <p:spPr>
                <a:xfrm rot="20710200">
                  <a:off x="1208160" y="4541400"/>
                  <a:ext cx="256680" cy="2304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20710200">
                  <a:off x="1248840" y="4555800"/>
                  <a:ext cx="188640" cy="1688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rot="20710200">
                  <a:off x="1225080" y="4561920"/>
                  <a:ext cx="204840" cy="19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rot="20710200">
                  <a:off x="1231560" y="4583160"/>
                  <a:ext cx="130320" cy="1224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20710200">
                  <a:off x="1251000" y="4618080"/>
                  <a:ext cx="46080" cy="48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1271160" y="3974760"/>
                <a:ext cx="360720" cy="356760"/>
                <a:chOff x="1271160" y="3974760"/>
                <a:chExt cx="360720" cy="356760"/>
              </a:xfrm>
            </p:grpSpPr>
            <p:sp>
              <p:nvSpPr>
                <p:cNvPr id="567" name=""/>
                <p:cNvSpPr/>
                <p:nvPr/>
              </p:nvSpPr>
              <p:spPr>
                <a:xfrm rot="20710200">
                  <a:off x="1303200" y="4007880"/>
                  <a:ext cx="296280" cy="29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20710200">
                  <a:off x="1346760" y="4027320"/>
                  <a:ext cx="220320" cy="209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20710200">
                  <a:off x="1320840" y="4033800"/>
                  <a:ext cx="231120" cy="2487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0710200">
                  <a:off x="1329480" y="4059360"/>
                  <a:ext cx="149760" cy="1530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rot="20710200">
                  <a:off x="1347840" y="4103640"/>
                  <a:ext cx="5256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2491920" y="3214440"/>
                <a:ext cx="280800" cy="270000"/>
                <a:chOff x="2491920" y="3214440"/>
                <a:chExt cx="280800" cy="270000"/>
              </a:xfrm>
            </p:grpSpPr>
            <p:sp>
              <p:nvSpPr>
                <p:cNvPr id="573" name=""/>
                <p:cNvSpPr/>
                <p:nvPr/>
              </p:nvSpPr>
              <p:spPr>
                <a:xfrm rot="20710200">
                  <a:off x="2515680" y="3240720"/>
                  <a:ext cx="232920" cy="217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20710200">
                  <a:off x="2531520" y="3258360"/>
                  <a:ext cx="175680" cy="1616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20710200">
                  <a:off x="2548080" y="3253320"/>
                  <a:ext cx="183600" cy="1908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rot="20710200">
                  <a:off x="2594880" y="3262680"/>
                  <a:ext cx="120960" cy="1173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20710200">
                  <a:off x="2656800" y="3286440"/>
                  <a:ext cx="40680" cy="45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431280" y="4082400"/>
                <a:ext cx="295200" cy="270720"/>
                <a:chOff x="431280" y="4082400"/>
                <a:chExt cx="295200" cy="270720"/>
              </a:xfrm>
            </p:grpSpPr>
            <p:sp>
              <p:nvSpPr>
                <p:cNvPr id="579" name=""/>
                <p:cNvSpPr/>
                <p:nvPr/>
              </p:nvSpPr>
              <p:spPr>
                <a:xfrm rot="20710200">
                  <a:off x="454320" y="4110480"/>
                  <a:ext cx="248760" cy="2142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20710200">
                  <a:off x="470160" y="4128480"/>
                  <a:ext cx="187560" cy="1573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20710200">
                  <a:off x="489240" y="4123080"/>
                  <a:ext cx="197280" cy="1868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20710200">
                  <a:off x="540360" y="4132080"/>
                  <a:ext cx="130680" cy="1166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20710200">
                  <a:off x="599760" y="4151160"/>
                  <a:ext cx="47520" cy="49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2068200" y="3968640"/>
                <a:ext cx="264240" cy="249840"/>
                <a:chOff x="2068200" y="3968640"/>
                <a:chExt cx="264240" cy="249840"/>
              </a:xfrm>
            </p:grpSpPr>
            <p:sp>
              <p:nvSpPr>
                <p:cNvPr id="585" name=""/>
                <p:cNvSpPr/>
                <p:nvPr/>
              </p:nvSpPr>
              <p:spPr>
                <a:xfrm rot="20710200">
                  <a:off x="2089800" y="3993480"/>
                  <a:ext cx="220320" cy="200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20710200">
                  <a:off x="2107440" y="4010400"/>
                  <a:ext cx="165600" cy="147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20710200">
                  <a:off x="2121840" y="4009320"/>
                  <a:ext cx="175320" cy="1706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rot="20710200">
                  <a:off x="2165760" y="4016520"/>
                  <a:ext cx="113760" cy="1069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0710200">
                  <a:off x="2220840" y="4034520"/>
                  <a:ext cx="40680" cy="46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1183680" y="3326760"/>
                <a:ext cx="305640" cy="287640"/>
                <a:chOff x="1183680" y="3326760"/>
                <a:chExt cx="305640" cy="287640"/>
              </a:xfrm>
            </p:grpSpPr>
            <p:sp>
              <p:nvSpPr>
                <p:cNvPr id="591" name=""/>
                <p:cNvSpPr/>
                <p:nvPr/>
              </p:nvSpPr>
              <p:spPr>
                <a:xfrm rot="20710200">
                  <a:off x="1208520" y="3355200"/>
                  <a:ext cx="255240" cy="230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0710200">
                  <a:off x="1247760" y="3369960"/>
                  <a:ext cx="189720" cy="165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20710200">
                  <a:off x="1225440" y="3374640"/>
                  <a:ext cx="20232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rot="20710200">
                  <a:off x="1231200" y="3396240"/>
                  <a:ext cx="132840" cy="1224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20710200">
                  <a:off x="1247040" y="3432600"/>
                  <a:ext cx="47160" cy="45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6" name=""/>
          <p:cNvSpPr txBox="1"/>
          <p:nvPr/>
        </p:nvSpPr>
        <p:spPr>
          <a:xfrm>
            <a:off x="1324080" y="266760"/>
            <a:ext cx="556236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50000">
                      <a:srgbClr val="ffff99"/>
                    </a:gs>
                    <a:gs pos="100000">
                      <a:srgbClr val="80008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ndesite"/>
              </a:rPr>
              <a:t>Félicitation 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50000">
                    <a:srgbClr val="ffff99"/>
                  </a:gs>
                  <a:gs pos="100000">
                    <a:srgbClr val="80008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ndesite"/>
              <a:ea typeface="Andesit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1653840" y="2154240"/>
            <a:ext cx="4847040" cy="4650840"/>
            <a:chOff x="1653840" y="2154240"/>
            <a:chExt cx="4847040" cy="4650840"/>
          </a:xfrm>
        </p:grpSpPr>
        <p:sp>
          <p:nvSpPr>
            <p:cNvPr id="598" name=""/>
            <p:cNvSpPr/>
            <p:nvPr/>
          </p:nvSpPr>
          <p:spPr>
            <a:xfrm rot="3688800">
              <a:off x="2438640" y="2971800"/>
              <a:ext cx="2133360" cy="4572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535200">
              <a:off x="1676160" y="3961800"/>
              <a:ext cx="2133720" cy="45684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617400">
              <a:off x="4343760" y="4419360"/>
              <a:ext cx="2133360" cy="45684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773000">
              <a:off x="3352680" y="5486040"/>
              <a:ext cx="2133360" cy="4572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274200">
              <a:off x="3810240" y="3123360"/>
              <a:ext cx="2133000" cy="4572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873200">
              <a:off x="2133720" y="5105160"/>
              <a:ext cx="2133360" cy="4572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654200" y="2033640"/>
            <a:ext cx="4797000" cy="4673160"/>
            <a:chOff x="1654200" y="2033640"/>
            <a:chExt cx="4797000" cy="4673160"/>
          </a:xfrm>
        </p:grpSpPr>
        <p:sp>
          <p:nvSpPr>
            <p:cNvPr id="605" name=""/>
            <p:cNvSpPr/>
            <p:nvPr/>
          </p:nvSpPr>
          <p:spPr>
            <a:xfrm rot="2226600">
              <a:off x="1961640" y="3321000"/>
              <a:ext cx="213336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674200">
              <a:off x="1676520" y="4538160"/>
              <a:ext cx="213336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0755800">
              <a:off x="4294080" y="3854160"/>
              <a:ext cx="213336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3263400">
              <a:off x="3859920" y="5168880"/>
              <a:ext cx="2133360" cy="456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812600">
              <a:off x="3274560" y="2895480"/>
              <a:ext cx="2133720" cy="456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6411600">
              <a:off x="2699280" y="5391000"/>
              <a:ext cx="2133720" cy="456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690560" y="2008440"/>
            <a:ext cx="4505760" cy="4713120"/>
            <a:chOff x="1690560" y="2008440"/>
            <a:chExt cx="4505760" cy="4713120"/>
          </a:xfrm>
        </p:grpSpPr>
        <p:sp>
          <p:nvSpPr>
            <p:cNvPr id="612" name=""/>
            <p:cNvSpPr/>
            <p:nvPr/>
          </p:nvSpPr>
          <p:spPr>
            <a:xfrm rot="1281600">
              <a:off x="1700640" y="3629520"/>
              <a:ext cx="2133360" cy="45720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9729200">
              <a:off x="1756440" y="4878720"/>
              <a:ext cx="2133360" cy="45720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9810800">
              <a:off x="4090320" y="3509640"/>
              <a:ext cx="2133360" cy="45720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2318400">
              <a:off x="4029120" y="4893120"/>
              <a:ext cx="2133360" cy="45684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5867600">
              <a:off x="2848320" y="2863800"/>
              <a:ext cx="2133720" cy="45684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5466600">
              <a:off x="2972520" y="5421960"/>
              <a:ext cx="2133720" cy="45684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227680" y="2649960"/>
            <a:ext cx="3386880" cy="3549960"/>
            <a:chOff x="2227680" y="2649960"/>
            <a:chExt cx="3386880" cy="3549960"/>
          </a:xfrm>
        </p:grpSpPr>
        <p:sp>
          <p:nvSpPr>
            <p:cNvPr id="619" name=""/>
            <p:cNvSpPr/>
            <p:nvPr/>
          </p:nvSpPr>
          <p:spPr>
            <a:xfrm rot="1162800">
              <a:off x="2239200" y="3904560"/>
              <a:ext cx="1608120" cy="3445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9611000">
              <a:off x="2314080" y="4843800"/>
              <a:ext cx="1607760" cy="344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9692000">
              <a:off x="4035960" y="3751920"/>
              <a:ext cx="1608120" cy="3445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2199600">
              <a:off x="4026240" y="4794840"/>
              <a:ext cx="1608120" cy="3445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5748800">
              <a:off x="3084480" y="3297240"/>
              <a:ext cx="1608120" cy="3445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5347800">
              <a:off x="3243960" y="5221080"/>
              <a:ext cx="1608120" cy="3445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2171160" y="2669040"/>
            <a:ext cx="3651840" cy="3474720"/>
            <a:chOff x="2171160" y="2669040"/>
            <a:chExt cx="3651840" cy="3474720"/>
          </a:xfrm>
        </p:grpSpPr>
        <p:sp>
          <p:nvSpPr>
            <p:cNvPr id="626" name=""/>
            <p:cNvSpPr/>
            <p:nvPr/>
          </p:nvSpPr>
          <p:spPr>
            <a:xfrm rot="2496600">
              <a:off x="2475000" y="3560400"/>
              <a:ext cx="1608480" cy="3445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944200">
              <a:off x="2189160" y="4458960"/>
              <a:ext cx="1608120" cy="34452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1025800">
              <a:off x="4196880" y="4098960"/>
              <a:ext cx="1608480" cy="34452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3532800">
              <a:off x="3793320" y="5061240"/>
              <a:ext cx="1608120" cy="34452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7082000">
              <a:off x="3487680" y="3318120"/>
              <a:ext cx="1608120" cy="3445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6681600">
              <a:off x="2907360" y="5159880"/>
              <a:ext cx="1608120" cy="3445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557440" y="2905200"/>
            <a:ext cx="2810160" cy="2946600"/>
            <a:chOff x="2557440" y="2905200"/>
            <a:chExt cx="2810160" cy="2946600"/>
          </a:xfrm>
        </p:grpSpPr>
        <p:sp>
          <p:nvSpPr>
            <p:cNvPr id="633" name=""/>
            <p:cNvSpPr/>
            <p:nvPr/>
          </p:nvSpPr>
          <p:spPr>
            <a:xfrm rot="1162800">
              <a:off x="2566800" y="394632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9611000">
              <a:off x="2628720" y="4726080"/>
              <a:ext cx="133416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9692000">
              <a:off x="4057560" y="381960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2199600">
              <a:off x="4050000" y="468576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5748800">
              <a:off x="3268080" y="344232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347800">
              <a:off x="3400560" y="503928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478960" y="3097800"/>
            <a:ext cx="3035160" cy="2868120"/>
            <a:chOff x="2478960" y="3097800"/>
            <a:chExt cx="3035160" cy="2868120"/>
          </a:xfrm>
        </p:grpSpPr>
        <p:sp>
          <p:nvSpPr>
            <p:cNvPr id="640" name=""/>
            <p:cNvSpPr/>
            <p:nvPr/>
          </p:nvSpPr>
          <p:spPr>
            <a:xfrm rot="2578200">
              <a:off x="2748960" y="381672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1025800">
              <a:off x="2493360" y="4556520"/>
              <a:ext cx="133416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21107400">
              <a:off x="4165920" y="429696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3614400">
              <a:off x="3812400" y="508788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7163600">
              <a:off x="3593160" y="363528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6763200">
              <a:off x="3075840" y="515196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510640" y="3020040"/>
            <a:ext cx="2974320" cy="2797200"/>
            <a:chOff x="2510640" y="3020040"/>
            <a:chExt cx="2974320" cy="2797200"/>
          </a:xfrm>
        </p:grpSpPr>
        <p:sp>
          <p:nvSpPr>
            <p:cNvPr id="647" name=""/>
            <p:cNvSpPr/>
            <p:nvPr/>
          </p:nvSpPr>
          <p:spPr>
            <a:xfrm rot="54000">
              <a:off x="2512440" y="4232880"/>
              <a:ext cx="1328040" cy="28440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8501600">
              <a:off x="2817000" y="4950000"/>
              <a:ext cx="1327680" cy="28440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8583200">
              <a:off x="3879720" y="3643560"/>
              <a:ext cx="1328040" cy="28440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090800">
              <a:off x="4145400" y="4462920"/>
              <a:ext cx="1328040" cy="28440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4640000">
              <a:off x="3015360" y="3537000"/>
              <a:ext cx="1328040" cy="28440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4239600">
              <a:off x="3644280" y="5001480"/>
              <a:ext cx="1328040" cy="28440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2763360" y="3261600"/>
            <a:ext cx="2493360" cy="2252160"/>
            <a:chOff x="2763360" y="3261600"/>
            <a:chExt cx="2493360" cy="2252160"/>
          </a:xfrm>
        </p:grpSpPr>
        <p:sp>
          <p:nvSpPr>
            <p:cNvPr id="654" name=""/>
            <p:cNvSpPr/>
            <p:nvPr/>
          </p:nvSpPr>
          <p:spPr>
            <a:xfrm rot="21202800">
              <a:off x="2773080" y="4305960"/>
              <a:ext cx="1101960" cy="235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8049800">
              <a:off x="3102120" y="4862160"/>
              <a:ext cx="1101960" cy="235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8131400">
              <a:off x="3834000" y="3672360"/>
              <a:ext cx="1101960" cy="235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639000">
              <a:off x="4142520" y="4317120"/>
              <a:ext cx="1101960" cy="236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4188200">
              <a:off x="3111840" y="3678120"/>
              <a:ext cx="1101960" cy="236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3787200">
              <a:off x="3788280" y="4814640"/>
              <a:ext cx="1101960" cy="236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117240" y="3643560"/>
            <a:ext cx="1703160" cy="1539000"/>
            <a:chOff x="3117240" y="3643560"/>
            <a:chExt cx="1703160" cy="1539000"/>
          </a:xfrm>
        </p:grpSpPr>
        <p:sp>
          <p:nvSpPr>
            <p:cNvPr id="661" name=""/>
            <p:cNvSpPr/>
            <p:nvPr/>
          </p:nvSpPr>
          <p:spPr>
            <a:xfrm rot="21202800">
              <a:off x="3123720" y="4357080"/>
              <a:ext cx="752760" cy="16128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8049800">
              <a:off x="3348360" y="4737240"/>
              <a:ext cx="752760" cy="161280"/>
            </a:xfrm>
            <a:prstGeom prst="ellipse">
              <a:avLst/>
            </a:pr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8131400">
              <a:off x="3848760" y="3924360"/>
              <a:ext cx="752760" cy="161280"/>
            </a:xfrm>
            <a:prstGeom prst="ellipse">
              <a:avLst/>
            </a:pr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639000">
              <a:off x="4059000" y="4365000"/>
              <a:ext cx="752760" cy="161280"/>
            </a:xfrm>
            <a:prstGeom prst="ellipse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4188200">
              <a:off x="3354480" y="3928320"/>
              <a:ext cx="752760" cy="161280"/>
            </a:xfrm>
            <a:prstGeom prst="ellipse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3787200">
              <a:off x="3817080" y="4704840"/>
              <a:ext cx="752760" cy="161280"/>
            </a:xfrm>
            <a:prstGeom prst="ellipse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141720" y="3564000"/>
            <a:ext cx="1587600" cy="1662480"/>
            <a:chOff x="3141720" y="3564000"/>
            <a:chExt cx="1587600" cy="1662480"/>
          </a:xfrm>
        </p:grpSpPr>
        <p:sp>
          <p:nvSpPr>
            <p:cNvPr id="668" name=""/>
            <p:cNvSpPr/>
            <p:nvPr/>
          </p:nvSpPr>
          <p:spPr>
            <a:xfrm rot="1054200">
              <a:off x="3148200" y="4164480"/>
              <a:ext cx="752760" cy="161280"/>
            </a:xfrm>
            <a:prstGeom prst="ellipse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9501800">
              <a:off x="3197160" y="4602960"/>
              <a:ext cx="752760" cy="161280"/>
            </a:xfrm>
            <a:prstGeom prst="ellips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9583400">
              <a:off x="3986640" y="4066560"/>
              <a:ext cx="752760" cy="161280"/>
            </a:xfrm>
            <a:prstGeom prst="ellipse">
              <a:avLst/>
            </a:pr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2091000">
              <a:off x="3997800" y="4554720"/>
              <a:ext cx="752760" cy="161280"/>
            </a:xfrm>
            <a:prstGeom prst="ellipse">
              <a:avLst/>
            </a:pr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5640200">
              <a:off x="3534480" y="3867840"/>
              <a:ext cx="752760" cy="161280"/>
            </a:xfrm>
            <a:prstGeom prst="ellipse">
              <a:avLst/>
            </a:pr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5239200">
              <a:off x="3637800" y="4765680"/>
              <a:ext cx="752760" cy="161280"/>
            </a:xfrm>
            <a:prstGeom prst="ellipse">
              <a:avLst/>
            </a:pr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4" name="" descr=""/>
          <p:cNvPicPr/>
          <p:nvPr/>
        </p:nvPicPr>
        <p:blipFill>
          <a:blip r:embed="rId31"/>
          <a:stretch/>
        </p:blipFill>
        <p:spPr>
          <a:xfrm>
            <a:off x="-99072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1019160" y="7392960"/>
            <a:ext cx="6477120" cy="17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Monotype Corsiva"/>
              </a:rPr>
              <a:t>Bon voyage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Monotype Corsiva"/>
              <a:ea typeface="Monotype Corsiva"/>
            </a:endParaRPr>
          </a:p>
        </p:txBody>
      </p:sp>
      <p:sp>
        <p:nvSpPr>
          <p:cNvPr id="676" name=""/>
          <p:cNvSpPr txBox="1"/>
          <p:nvPr/>
        </p:nvSpPr>
        <p:spPr>
          <a:xfrm rot="21420000">
            <a:off x="450360" y="120240"/>
            <a:ext cx="6400800" cy="21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2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Monotype Corsiva"/>
              </a:rPr>
              <a:t>Austral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Monotype Corsiva"/>
              <a:ea typeface="Monotype Corsiv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5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04:29:58Z</dcterms:created>
  <dc:creator>Jasmine Petitclerc</dc:creator>
  <dc:description/>
  <dc:language>en-US</dc:language>
  <cp:lastModifiedBy>dmdfor1</cp:lastModifiedBy>
  <dcterms:modified xsi:type="dcterms:W3CDTF">2002-01-16T18:27:24Z</dcterms:modified>
  <cp:revision>20</cp:revision>
  <dc:subject/>
  <dc:title>Aucun titre de diapositive</dc:title>
</cp:coreProperties>
</file>