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E8C-0A0A-4093-8468-E1293729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767-CB10-48CB-9C0F-E43AB487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FA5-472D-4CB7-9D9B-930FE53D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0AB-BC51-40AB-9CE0-5F1D3AD1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DC5F-9A20-4265-BFAE-94D4240A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9E23-571A-4E3B-87E7-542CD7F5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E058-E2FD-42DC-B807-AAC38A81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91C2-8DEB-4813-9F30-5A60EBD4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FB6C-A5FA-4609-A27A-9F2352EA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E9B3-7283-4484-BA4F-B05353A6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0097-5F10-416F-BC0A-61012ABD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2C9-8085-4BB9-9F1B-4FD2CBA9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45EC-537D-4E3A-8BAE-5FD8E437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9A32-79D4-40B4-AA45-72928C95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ED23-CF91-4334-BAE0-C216E9AF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B325-896B-4197-B645-4DCF4BAB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7B5C-EF93-4556-B5A1-1F1947BD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080-06DC-4BE0-A2A0-C57B61AA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56B-D39B-46A1-A1D2-AA0118FE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8AB-E9A6-4858-979A-944C56F9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ACF-B0E7-43B1-8566-CD483D8E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C93-AFE5-49A7-9A93-87230D5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096-17E3-4732-B9A5-6D0FE8DA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D04-9910-4294-868C-03CC25B3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7120" y="632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32E0-87C5-4626-8B9F-6C01434240FE}" type="datetime3">
              <a:rPr b="1" lang="fr-FR" sz="1400" spc="-1" strike="noStrike">
                <a:solidFill>
                  <a:srgbClr val="000000"/>
                </a:solidFill>
                <a:latin typeface="Book Antiqua"/>
              </a:rPr>
              <a:t>31 juillet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57880" y="6329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255F-3ED2-44C1-8B4B-622E5A962961}" type="slidenum">
              <a:rPr b="1" lang="fr-FR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7251840" y="0"/>
            <a:ext cx="1892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6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127A-DAC9-4A2B-AB36-69A904F2EA9C}" type="datetime3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1 juillet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3D7F-86A2-469D-8DBA-F5458B5F5FD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C3C-C93C-464A-800B-2EB343523D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FA533-054A-4EAC-B36F-AF2160F61A7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77880" y="2021040"/>
          <a:ext cx="8205840" cy="46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7880" y="2021040"/>
                    <a:ext cx="820584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05F-E23B-4855-8EEA-4580BAE05F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4A41F-7848-46FE-BCCE-CF815459A7E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17:01:43Z</dcterms:created>
  <dc:creator>Julien</dc:creator>
  <dc:description/>
  <dc:language>en-US</dc:language>
  <cp:lastModifiedBy>Caroline Lavoie</cp:lastModifiedBy>
  <dcterms:modified xsi:type="dcterms:W3CDTF">2006-02-23T02:28:18Z</dcterms:modified>
  <cp:revision>19</cp:revision>
  <dc:subject/>
  <dc:title>Maisons vendues pendant 1 mois</dc:title>
</cp:coreProperties>
</file>