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22F-FBB7-464F-BF40-29204A4D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7D6-A83F-4E7A-9FC1-C60AA1D3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AA7-4805-4721-9CEF-BF47428A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6BE-4760-4C0C-BAEB-BA78875C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F6F2-B12E-4ABA-97A9-F9DB0E47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10E7-20AC-4576-9C48-E790C6FF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41B3-5D9C-4D86-930C-147B21D4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B9D9-FA5D-4F3C-909D-2AE67EAB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0268-8F4D-478F-8290-089B2915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63FD-7428-4736-8FB7-CFE13F79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69BE-5447-42CD-A0B5-37B71315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C96-3F5F-4BC5-A0AD-A548623F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871E-C781-4858-B5FD-4413E33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34DA-D970-46ED-98C8-1D323848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E37F-C7AD-409F-9B61-F600DDB6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CD88-8634-4F23-B08F-3711F8B5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C844-41E1-47A3-829E-4DA11303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AA2B-D0E1-4CE2-8910-D1464FD4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406B-FC8F-4128-AE5A-20A7387F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B445-A6FB-45DE-B73E-5B079E43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3FD43-8AEF-46F1-AC0A-9DB761DA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F390-9142-472C-9120-BB875506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5B2-3973-4C19-8ED0-DF1BF372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6C52-2810-47C5-8E0E-E3A48A0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1845-B8DA-4023-8072-3A6EA17B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C6FC7-8CE3-4337-A201-F0B79C2E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528A-24A5-4E4D-B45F-05C20107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454F-053C-4EFA-8808-E31BFE14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2D69-7481-4BFC-8B69-236A6AA7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273F-2799-4B3B-8F2A-EF9A2708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9D04-D9DC-44C1-A15D-BAC7297A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7CB5-7D4B-4CEE-B01A-C88C0B1D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53D05-95E7-4EBD-8B2D-03E61E34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52C-C50E-49B3-B671-D1305374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0DA0-EF63-4F9D-942C-835EBF4D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5D6B2-55B6-4B02-83ED-3FD5D06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7A09B-55DB-4F5A-9CCE-D3D564A1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7159-63CB-4B6D-A038-6FDCD69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51F6-399F-4BFD-8884-4F907937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4AED0-ABE9-4F6E-8CC6-C4CFA57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0B4A-1FB3-4A70-9B8C-2AC2E88C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0AA16-1A87-48F4-92E8-D0B77A3A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446B-4470-407E-924F-486E7DF7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B01-E905-49B9-9664-1E53742A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4C7-02D9-4E9A-BB96-44B5731E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078-49BC-4D16-AABB-082A22C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A26-E4A5-4EC0-93A5-5EB022A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72E-C4CF-4849-BC97-9FDF5016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B184-20BE-4B35-BE2D-B99D6F364AE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792D-C83A-466B-A510-86BD943366D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94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2B83-DC5A-423B-8681-F789CEFA8DB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7A62-F907-4A73-A7BE-47E7F1D6DBD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../Participant/CouperColler.ppt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10280" y="365760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Bu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8726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Service à la clientè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2133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5562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3819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38098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t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8726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ponsables par rég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7640" y="2277000"/>
            <a:ext cx="8496000" cy="2507040"/>
            <a:chOff x="647640" y="2277000"/>
            <a:chExt cx="8496000" cy="2507040"/>
          </a:xfrm>
        </p:grpSpPr>
        <p:cxnSp>
          <p:nvCxnSpPr>
            <p:cNvPr id="276" name="_s25605"/>
            <p:cNvCxnSpPr>
              <a:stCxn id="277" idx="2"/>
              <a:endCxn id="278" idx="3"/>
            </p:cNvCxnSpPr>
            <p:nvPr/>
          </p:nvCxnSpPr>
          <p:spPr>
            <a:xfrm rot="10800000">
              <a:off x="7068600" y="3238920"/>
              <a:ext cx="317880" cy="139284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79" name="_s25606"/>
            <p:cNvCxnSpPr>
              <a:stCxn id="280" idx="2"/>
              <a:endCxn id="278" idx="3"/>
            </p:cNvCxnSpPr>
            <p:nvPr/>
          </p:nvCxnSpPr>
          <p:spPr>
            <a:xfrm rot="10800000">
              <a:off x="7068600" y="3238920"/>
              <a:ext cx="317880" cy="87768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81" name="_s25607"/>
            <p:cNvCxnSpPr>
              <a:stCxn id="282" idx="2"/>
              <a:endCxn id="278" idx="3"/>
            </p:cNvCxnSpPr>
            <p:nvPr/>
          </p:nvCxnSpPr>
          <p:spPr>
            <a:xfrm rot="10800000">
              <a:off x="7068600" y="3238920"/>
              <a:ext cx="317880" cy="36324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83" name="_s25608"/>
            <p:cNvCxnSpPr>
              <a:stCxn id="284" idx="4"/>
              <a:endCxn id="285" idx="3"/>
            </p:cNvCxnSpPr>
            <p:nvPr/>
          </p:nvCxnSpPr>
          <p:spPr>
            <a:xfrm flipV="1">
              <a:off x="4711320" y="3238920"/>
              <a:ext cx="308160" cy="139284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86" name="_s25609"/>
            <p:cNvCxnSpPr>
              <a:stCxn id="287" idx="4"/>
              <a:endCxn id="285" idx="3"/>
            </p:cNvCxnSpPr>
            <p:nvPr/>
          </p:nvCxnSpPr>
          <p:spPr>
            <a:xfrm flipV="1">
              <a:off x="4711320" y="3239280"/>
              <a:ext cx="308160" cy="87768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88" name="_s25610"/>
            <p:cNvCxnSpPr>
              <a:stCxn id="289" idx="4"/>
              <a:endCxn id="285" idx="3"/>
            </p:cNvCxnSpPr>
            <p:nvPr/>
          </p:nvCxnSpPr>
          <p:spPr>
            <a:xfrm flipV="1">
              <a:off x="4711320" y="3238920"/>
              <a:ext cx="308160" cy="36324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90" name="_s25611"/>
            <p:cNvCxnSpPr>
              <a:stCxn id="291" idx="4"/>
              <a:endCxn id="292" idx="3"/>
            </p:cNvCxnSpPr>
            <p:nvPr/>
          </p:nvCxnSpPr>
          <p:spPr>
            <a:xfrm flipV="1">
              <a:off x="2367720" y="3239280"/>
              <a:ext cx="305640" cy="87768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93" name="_s25612"/>
            <p:cNvCxnSpPr>
              <a:stCxn id="294" idx="4"/>
              <a:endCxn id="292" idx="3"/>
            </p:cNvCxnSpPr>
            <p:nvPr/>
          </p:nvCxnSpPr>
          <p:spPr>
            <a:xfrm flipV="1">
              <a:off x="2367720" y="3238920"/>
              <a:ext cx="305640" cy="36324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95" name="_s25613"/>
            <p:cNvCxnSpPr>
              <a:stCxn id="278" idx="0"/>
              <a:endCxn id="296" idx="3"/>
            </p:cNvCxnSpPr>
            <p:nvPr/>
          </p:nvCxnSpPr>
          <p:spPr>
            <a:xfrm flipV="1" rot="16200000">
              <a:off x="5909040" y="1585800"/>
              <a:ext cx="173520" cy="224388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97" name="_s25614"/>
            <p:cNvCxnSpPr>
              <a:stCxn id="285" idx="0"/>
              <a:endCxn id="296" idx="3"/>
            </p:cNvCxnSpPr>
            <p:nvPr/>
          </p:nvCxnSpPr>
          <p:spPr>
            <a:xfrm flipV="1" rot="16200000">
              <a:off x="4883040" y="2611800"/>
              <a:ext cx="173520" cy="19152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98" name="_s25615"/>
            <p:cNvCxnSpPr>
              <a:stCxn id="292" idx="0"/>
              <a:endCxn id="296" idx="3"/>
            </p:cNvCxnSpPr>
            <p:nvPr/>
          </p:nvCxnSpPr>
          <p:spPr>
            <a:xfrm flipH="1" flipV="1" rot="5400000">
              <a:off x="3711240" y="1631520"/>
              <a:ext cx="173520" cy="215244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777777"/>
              </a:solidFill>
              <a:miter/>
            </a:ln>
          </p:spPr>
        </p:cxnSp>
        <p:sp>
          <p:nvSpPr>
            <p:cNvPr id="296" name="_s25616"/>
            <p:cNvSpPr/>
            <p:nvPr/>
          </p:nvSpPr>
          <p:spPr>
            <a:xfrm>
              <a:off x="4015080" y="2277000"/>
              <a:ext cx="1758960" cy="34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nte des mai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25617"/>
            <p:cNvSpPr/>
            <p:nvPr/>
          </p:nvSpPr>
          <p:spPr>
            <a:xfrm>
              <a:off x="181836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822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82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uy Co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ntré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5618"/>
            <p:cNvSpPr/>
            <p:nvPr/>
          </p:nvSpPr>
          <p:spPr>
            <a:xfrm>
              <a:off x="4161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822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82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Colombe Dub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S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25619"/>
            <p:cNvSpPr/>
            <p:nvPr/>
          </p:nvSpPr>
          <p:spPr>
            <a:xfrm>
              <a:off x="6213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822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82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Armand Duquet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N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25620"/>
            <p:cNvSpPr/>
            <p:nvPr/>
          </p:nvSpPr>
          <p:spPr>
            <a:xfrm>
              <a:off x="64764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difices à burea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25621"/>
            <p:cNvSpPr/>
            <p:nvPr/>
          </p:nvSpPr>
          <p:spPr>
            <a:xfrm>
              <a:off x="64764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me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25622"/>
            <p:cNvSpPr/>
            <p:nvPr/>
          </p:nvSpPr>
          <p:spPr>
            <a:xfrm>
              <a:off x="2991240" y="34124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tt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25623"/>
            <p:cNvSpPr/>
            <p:nvPr/>
          </p:nvSpPr>
          <p:spPr>
            <a:xfrm>
              <a:off x="2991240" y="3927240"/>
              <a:ext cx="175644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dominiu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25624"/>
            <p:cNvSpPr/>
            <p:nvPr/>
          </p:nvSpPr>
          <p:spPr>
            <a:xfrm>
              <a:off x="2991240" y="44420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u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25625"/>
            <p:cNvSpPr/>
            <p:nvPr/>
          </p:nvSpPr>
          <p:spPr>
            <a:xfrm>
              <a:off x="738648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mmer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5626"/>
            <p:cNvSpPr/>
            <p:nvPr/>
          </p:nvSpPr>
          <p:spPr>
            <a:xfrm>
              <a:off x="738648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ndomin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25627"/>
            <p:cNvSpPr/>
            <p:nvPr/>
          </p:nvSpPr>
          <p:spPr>
            <a:xfrm>
              <a:off x="7386480" y="44420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résidenti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8726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ésentations inséré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3527280" cy="411480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rId2"/>
          </p:cNvPr>
          <p:cNvSpPr/>
          <p:nvPr/>
        </p:nvSpPr>
        <p:spPr>
          <a:xfrm>
            <a:off x="1332000" y="2565360"/>
            <a:ext cx="2663640" cy="2664000"/>
          </a:xfrm>
          <a:prstGeom prst="sun">
            <a:avLst>
              <a:gd name="adj" fmla="val 25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Les vagues modèlent les côt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n combat entre la mer et la ter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La puissance du déferlement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Les forces de l’espac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a résistance du ro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e roche sertie de cristaux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es composants varié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La mer a ses jardi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n envahisseu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ne bonne récol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n signe d’été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Le régime de l’épong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es algues pigmentée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On les appelle coquillag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es mollusques brouteu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e splendeur nacré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es bibelots de mer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 herbivore côtier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n carnivore côti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e allure trompeus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 mollusque venimeux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02080" y="228600"/>
            <a:ext cx="3943080" cy="838080"/>
          </a:xfrm>
          <a:prstGeom prst="flowChartProcess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ur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680" y="1981080"/>
            <a:ext cx="199872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e D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1981080"/>
            <a:ext cx="247320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ank D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 des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115200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211" name=""/>
          <p:cNvCxnSpPr>
            <a:stCxn id="209" idx="3"/>
            <a:endCxn id="209" idx="3"/>
          </p:cNvCxnSpPr>
          <p:nvPr/>
        </p:nvCxnSpPr>
        <p:spPr>
          <a:xfrm>
            <a:off x="8873640" y="24109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212" name=""/>
          <p:cNvCxnSpPr>
            <a:stCxn id="209" idx="0"/>
            <a:endCxn id="207" idx="2"/>
          </p:cNvCxnSpPr>
          <p:nvPr/>
        </p:nvCxnSpPr>
        <p:spPr>
          <a:xfrm flipV="1" rot="16200000">
            <a:off x="5647680" y="-8640"/>
            <a:ext cx="915120" cy="306468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3117960" y="1981080"/>
            <a:ext cx="2361960" cy="83844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le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rice des v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3" idx="0"/>
            <a:endCxn id="213" idx="0"/>
          </p:cNvCxnSpPr>
          <p:nvPr/>
        </p:nvCxnSpPr>
        <p:spPr>
          <a:xfrm>
            <a:off x="429876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215" name=""/>
          <p:cNvCxnSpPr>
            <a:stCxn id="213" idx="0"/>
            <a:endCxn id="207" idx="2"/>
          </p:cNvCxnSpPr>
          <p:nvPr/>
        </p:nvCxnSpPr>
        <p:spPr>
          <a:xfrm flipH="1" flipV="1" rot="5400000">
            <a:off x="3978720" y="1386360"/>
            <a:ext cx="915120" cy="27504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390600" y="4533840"/>
            <a:ext cx="1828800" cy="60984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ie Meil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onn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08" idx="0"/>
            <a:endCxn id="207" idx="2"/>
          </p:cNvCxnSpPr>
          <p:nvPr/>
        </p:nvCxnSpPr>
        <p:spPr>
          <a:xfrm flipH="1" flipV="1" rot="5400000">
            <a:off x="2439360" y="-153000"/>
            <a:ext cx="915120" cy="33534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390600" y="3505320"/>
            <a:ext cx="1828800" cy="60948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ain Ter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4640" y="3505320"/>
            <a:ext cx="1685880" cy="102852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an C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7960" y="32004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o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17960" y="4229280"/>
            <a:ext cx="2252520" cy="80784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Jeanne Da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end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7960" y="52578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3" idx="2"/>
            <a:endCxn id="220" idx="3"/>
          </p:cNvCxnSpPr>
          <p:nvPr/>
        </p:nvCxnSpPr>
        <p:spPr>
          <a:xfrm flipH="1" rot="16200000">
            <a:off x="4442040" y="2676240"/>
            <a:ext cx="786240" cy="1072080"/>
          </a:xfrm>
          <a:prstGeom prst="bentConnector4">
            <a:avLst>
              <a:gd name="adj1" fmla="val 33898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3" idx="2"/>
            <a:endCxn id="221" idx="3"/>
          </p:cNvCxnSpPr>
          <p:nvPr/>
        </p:nvCxnSpPr>
        <p:spPr>
          <a:xfrm flipH="1" rot="16200000">
            <a:off x="3927600" y="3190680"/>
            <a:ext cx="1815120" cy="1072080"/>
          </a:xfrm>
          <a:prstGeom prst="bentConnector4">
            <a:avLst>
              <a:gd name="adj1" fmla="val 14520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3" idx="2"/>
            <a:endCxn id="222" idx="3"/>
          </p:cNvCxnSpPr>
          <p:nvPr/>
        </p:nvCxnSpPr>
        <p:spPr>
          <a:xfrm flipH="1" rot="16200000">
            <a:off x="3413160" y="3704760"/>
            <a:ext cx="2843640" cy="1072080"/>
          </a:xfrm>
          <a:prstGeom prst="bentConnector4">
            <a:avLst>
              <a:gd name="adj1" fmla="val 9369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08" idx="2"/>
            <a:endCxn id="218" idx="1"/>
          </p:cNvCxnSpPr>
          <p:nvPr/>
        </p:nvCxnSpPr>
        <p:spPr>
          <a:xfrm rot="5400000">
            <a:off x="320760" y="2910600"/>
            <a:ext cx="969120" cy="830880"/>
          </a:xfrm>
          <a:prstGeom prst="bentConnector4">
            <a:avLst>
              <a:gd name="adj1" fmla="val 31438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08" idx="2"/>
            <a:endCxn id="216" idx="1"/>
          </p:cNvCxnSpPr>
          <p:nvPr/>
        </p:nvCxnSpPr>
        <p:spPr>
          <a:xfrm rot="5400000">
            <a:off x="-193680" y="3425040"/>
            <a:ext cx="1998000" cy="830880"/>
          </a:xfrm>
          <a:prstGeom prst="bentConnector4">
            <a:avLst>
              <a:gd name="adj1" fmla="val 15245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09" idx="2"/>
            <a:endCxn id="219" idx="0"/>
          </p:cNvCxnSpPr>
          <p:nvPr/>
        </p:nvCxnSpPr>
        <p:spPr>
          <a:xfrm>
            <a:off x="7637040" y="2841480"/>
            <a:ext cx="10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1520" y="181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lackChancery"/>
              </a:rPr>
              <a:t>Informat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077920"/>
            <a:ext cx="2135160" cy="2452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1520" y="320040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1520" y="501804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1" idx="4"/>
            <a:endCxn id="230" idx="1"/>
          </p:cNvCxnSpPr>
          <p:nvPr/>
        </p:nvCxnSpPr>
        <p:spPr>
          <a:xfrm flipV="1">
            <a:off x="1904760" y="3304800"/>
            <a:ext cx="1905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2" idx="4"/>
            <a:endCxn id="230" idx="1"/>
          </p:cNvCxnSpPr>
          <p:nvPr/>
        </p:nvCxnSpPr>
        <p:spPr>
          <a:xfrm flipV="1">
            <a:off x="1904760" y="3304800"/>
            <a:ext cx="1905480" cy="22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371520" y="1324080"/>
            <a:ext cx="1533600" cy="112212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5" idx="3"/>
            <a:endCxn id="231" idx="1"/>
          </p:cNvCxnSpPr>
          <p:nvPr/>
        </p:nvCxnSpPr>
        <p:spPr>
          <a:xfrm>
            <a:off x="1137960" y="244584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1066680" y="243828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426888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316224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5040" y="5181480"/>
            <a:ext cx="2590920" cy="1255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on-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40" idx="0"/>
            <a:endCxn id="230" idx="3"/>
          </p:cNvCxnSpPr>
          <p:nvPr/>
        </p:nvCxnSpPr>
        <p:spPr>
          <a:xfrm flipH="1" flipV="1">
            <a:off x="5944320" y="3304800"/>
            <a:ext cx="1296360" cy="18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95880" y="396252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1324080"/>
            <a:ext cx="273384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1324080"/>
            <a:ext cx="244008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no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28920" y="5994360"/>
            <a:ext cx="955800" cy="76824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1"/>
            <a:endCxn id="245" idx="3"/>
          </p:cNvCxnSpPr>
          <p:nvPr/>
        </p:nvCxnSpPr>
        <p:spPr>
          <a:xfrm flipH="1">
            <a:off x="4284360" y="5810400"/>
            <a:ext cx="166104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332160" y="5018040"/>
            <a:ext cx="1095480" cy="88128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0" idx="1"/>
            <a:endCxn id="247" idx="3"/>
          </p:cNvCxnSpPr>
          <p:nvPr/>
        </p:nvCxnSpPr>
        <p:spPr>
          <a:xfrm flipH="1" flipV="1">
            <a:off x="4426920" y="5459040"/>
            <a:ext cx="15181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inséré avec lien 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044800" y="2057400"/>
            <a:ext cx="581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</a:t>
            </a: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inséré sans lien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76360" y="2349360"/>
          <a:ext cx="5657760" cy="349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49360"/>
                    <a:ext cx="565776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7236000" y="2708280"/>
          <a:ext cx="1728720" cy="936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2708280"/>
                    <a:ext cx="1728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Choix musicau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Orches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la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Tables tour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ip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&amp;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443640" y="3610080"/>
            <a:ext cx="225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16:50Z</dcterms:created>
  <dc:creator>dmdfor1</dc:creator>
  <dc:description/>
  <dc:language>en-US</dc:language>
  <cp:lastModifiedBy>Carole Gagnon</cp:lastModifiedBy>
  <dcterms:modified xsi:type="dcterms:W3CDTF">2006-02-23T17:17:09Z</dcterms:modified>
  <cp:revision>12</cp:revision>
  <dc:subject/>
  <dc:title>Tableau inséré avec lien </dc:title>
</cp:coreProperties>
</file>