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E07-D193-49E2-89CE-6E212EF1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A79-ABB0-4AB3-B839-22AF4D70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E14-F99B-492D-905B-A085C39E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B18-55ED-483E-B88B-46AEF40C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1B95-64BD-4F21-817D-99472011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E3CE-8220-4558-9CD8-90955AF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DA9-6B8C-4CDF-8129-AE272AFB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1D75-6328-40DC-AA60-DDFDFD4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D42-9F4A-4885-AAC0-FAF93CBD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099-6AED-4FB6-822A-8C65B72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3A16-506F-4800-A901-4983252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BB2-23BE-4534-BEA9-95E0FB76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3397-23C5-49EB-BCCD-91BE06F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8B74-4885-4748-AA20-75FEE0C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DBE5-C205-41E0-BC44-72D93AD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525C-FD70-449B-BC3C-94033536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51AF-3FE2-4A95-95C0-10BE1241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EE87-8140-4235-9767-CB3F1728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1763-5C18-402B-A73C-A45E98A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673E-7D0D-4D0C-B3FC-105A0B0B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5BE2-9D53-4BEF-977C-C543579A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383E-7434-4668-839B-CC76F90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18D-71A2-499C-8CA0-B6343D76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7017-F8E4-44B9-942B-05989E41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BD2A-5BAB-4F3D-87F3-2539D55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21B2-8A32-4F01-A8EB-8A3BB02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95AE-ACB1-4FD9-80A8-DB74F196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B268-7A67-4319-817C-439D27B1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AAA0-15BC-48F4-9DC7-18F01167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15DA-2AA9-4D45-920B-4168B9C2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F06F-3F29-43CA-A36A-5E2040A8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538C-F158-44CD-949F-3CC2269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A517-F53A-4356-ADBD-8C62727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929-DC66-43D5-BAF5-B1F3D5FC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3EFD-269F-404D-8ADF-862BBDA3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1C78-79C2-4810-AA14-5F14CB2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0481-EAC6-4F41-B8B1-1420B5AC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ED37D-4CBE-4531-9326-684AA2D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6ECF-D6DA-4DA9-8680-650CF94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6EDE-08F1-49FE-A0B9-684A14C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53B9C-5FFA-4DE2-91C2-9BC1C7E2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D9DD-EE1C-4610-ACF2-4B8BD4CB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DFA8-D1BD-41C0-87BA-4DE6B94A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DFCD-D4ED-4539-A448-B11CCC0B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285-DC9E-425C-9A2C-07E2A2E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4F00-A7DF-40FD-B981-79972E3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3EB4-51C0-47C4-9595-1FCA097B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4533-2E10-460B-84F4-247A4178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E61C-8882-49B0-81D5-7DFB0418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5DDE2-4462-4296-B1F9-872B7A7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EF26-4FDF-4AE0-8DF3-B1AEA665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463C-021B-408D-8BA5-28A5F5D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68C2-B308-43DB-9F3A-6F445A1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2C026-E117-444B-86EC-4097C1E2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99BF0-12E4-4031-9F29-4662CB15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968-CFEF-42DC-ACA3-6CB251C5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170F-FB90-4831-9C88-CDC30A7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D61DD-FEA7-43F6-A9C6-56CB3B76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D0502-F492-4B02-93E1-6B7E5081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DDAA0-5619-4268-BC94-B3BC73EE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FCCB8-B90C-41A8-8D40-932E8ACA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71ABB-5548-400E-AD8F-83242406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9BACE-A501-4886-9034-1E6A0172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3F16F-1362-4B51-BBF5-540C35C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C9AE2-9612-4AB5-B572-FC63A59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3CBA3-3EA7-42E6-8EC6-B02CE4A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060-3F03-4698-B7D6-68FA8E7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C7C92-0C59-4229-BEBD-BC600A4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6FE72-E04F-48F7-9F60-B79EBBFA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8258A-8218-4151-BEC8-3E92AF19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756-D89A-4718-8495-E152B07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3F1-5FA5-4B2E-8293-44CA7A9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65E0-2C71-4D46-BED4-42FFAAF7304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F4F-18E1-4F48-AE7B-EC666A1AEC9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4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F2B8-4BB0-4F6A-B7CB-45E3E14C590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C758-5AAF-4E8E-8FD1-13450216B0B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1C7-755C-41A2-AA98-44775CAC2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D69-FF5B-4ACC-91E1-368176F49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hyperlink" Target="file:///../Participant/CouperColler.ppt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Service à la clientèl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Responsable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397" name="_s25605"/>
            <p:cNvCxnSpPr>
              <a:stCxn id="398" idx="2"/>
              <a:endCxn id="399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0" name="_s25606"/>
            <p:cNvCxnSpPr>
              <a:stCxn id="401" idx="2"/>
              <a:endCxn id="399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2" name="_s25607"/>
            <p:cNvCxnSpPr>
              <a:stCxn id="403" idx="2"/>
              <a:endCxn id="399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4" name="_s25608"/>
            <p:cNvCxnSpPr>
              <a:stCxn id="405" idx="4"/>
              <a:endCxn id="406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7" name="_s25609"/>
            <p:cNvCxnSpPr>
              <a:stCxn id="408" idx="4"/>
              <a:endCxn id="406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9" name="_s25610"/>
            <p:cNvCxnSpPr>
              <a:stCxn id="410" idx="4"/>
              <a:endCxn id="406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1" name="_s25611"/>
            <p:cNvCxnSpPr>
              <a:stCxn id="412" idx="4"/>
              <a:endCxn id="413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4" name="_s25612"/>
            <p:cNvCxnSpPr>
              <a:stCxn id="415" idx="4"/>
              <a:endCxn id="413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6" name="_s25613"/>
            <p:cNvCxnSpPr>
              <a:stCxn id="399" idx="0"/>
              <a:endCxn id="417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8" name="_s25614"/>
            <p:cNvCxnSpPr>
              <a:stCxn id="406" idx="0"/>
              <a:endCxn id="417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9" name="_s25615"/>
            <p:cNvCxnSpPr>
              <a:stCxn id="413" idx="0"/>
              <a:endCxn id="417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sp>
          <p:nvSpPr>
            <p:cNvPr id="417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b1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25617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25618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25619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25620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25621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25622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25623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25624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25625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2562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25627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Présentations inséré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3527280" cy="411480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rId3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 vagues modèlent les cô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ombat entre la mer et la t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uissance du défer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forces de l’e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 résistance du r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oche sertie de crist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mposants vari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er a ses jard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envahiss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e bonne réco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signe d’é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régime de l’épo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algues pigment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 les appelle coquilla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 mollusques brout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plendeur nacr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bibelots de 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herbivore cô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arnivore cô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allure tromp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mollusque venim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32" name=""/>
          <p:cNvCxnSpPr>
            <a:stCxn id="330" idx="3"/>
            <a:endCxn id="330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33" name=""/>
          <p:cNvCxnSpPr>
            <a:stCxn id="330" idx="0"/>
            <a:endCxn id="328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4" idx="0"/>
            <a:endCxn id="334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36" name=""/>
          <p:cNvCxnSpPr>
            <a:stCxn id="334" idx="0"/>
            <a:endCxn id="328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29" idx="0"/>
            <a:endCxn id="328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34" idx="2"/>
            <a:endCxn id="341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4" idx="2"/>
            <a:endCxn id="342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34" idx="2"/>
            <a:endCxn id="343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9" idx="2"/>
            <a:endCxn id="339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9" idx="2"/>
            <a:endCxn id="337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0" idx="2"/>
            <a:endCxn id="340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2" idx="4"/>
            <a:endCxn id="351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53" idx="4"/>
            <a:endCxn id="351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6" idx="3"/>
            <a:endCxn id="352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1" idx="0"/>
            <a:endCxn id="351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61" idx="1"/>
            <a:endCxn id="366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1" idx="1"/>
            <a:endCxn id="368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e Gagnon</cp:lastModifiedBy>
  <dcterms:modified xsi:type="dcterms:W3CDTF">2006-02-23T17:16:36Z</dcterms:modified>
  <cp:revision>14</cp:revision>
  <dc:subject/>
  <dc:title>Tableau inséré avec lien </dc:title>
</cp:coreProperties>
</file>