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E94-3A3C-468D-9A71-3E21E49A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AB5-FC39-49A1-8D14-F813FCB2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B8C3-5C4A-4D1F-BD4A-0E24ADB5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BB91-38E0-45D0-8FC4-56223DCC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A7A0-FC05-4650-AB68-7B06038F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D47B-9D53-4CEA-897E-E5DD25AB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A857-EFBC-4A11-A90F-A33B7060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9CB2-1B4D-4096-A50C-54BEF652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A0A2-6E6F-4974-8334-2BD89CE4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17680" y="297000"/>
            <a:ext cx="859608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593F-DE73-4D7F-A95C-14B42CB3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CF91-A3BF-46F0-8F24-18C008CD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CA3-6B11-4CA4-9330-D05EEAE3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C8EE-79C1-4770-92E4-8F9FFA44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14C7-7627-4200-9C7B-CB8AA798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E1A1-5E71-461F-B16A-0F544BF8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32E1-16A7-4B2A-BADF-7EB947D3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5459-9EEA-40D4-BF1A-54409D55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5F17-A037-40E2-BF14-FAE31219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BDF5-B16F-4689-B7EC-7B0C219B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9A3-B929-42BB-AEF7-8E6CF90C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7680" y="297000"/>
            <a:ext cx="859608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F931-5354-4B3A-A6E5-346B2381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CE0-2B97-4A34-A398-21E0C6EC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7641-4F8F-4A76-AC20-0E03AB8E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BB6-A266-406A-AEF5-3C60AA5C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7120" y="632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7D4D-026E-4C2B-B63C-27385B9C8C8D}" type="datetime3">
              <a:rPr b="1" lang="fr-FR" sz="1400" spc="-1" strike="noStrike">
                <a:solidFill>
                  <a:srgbClr val="000000"/>
                </a:solidFill>
                <a:latin typeface="Book Antiqua"/>
              </a:rPr>
              <a:t>31 juillet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57880" y="6329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3D5C-614E-45FB-8E46-6533D4D92A4A}" type="slidenum">
              <a:rPr b="1" lang="fr-FR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10"/>
          <a:stretch/>
        </p:blipFill>
        <p:spPr>
          <a:xfrm>
            <a:off x="7251840" y="0"/>
            <a:ext cx="189216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6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681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160B-7E06-4867-9BD8-14174A73F1E8}" type="datetime3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1 juillet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4B55-D2D7-4555-A443-68FF56B0E8CC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Maisons vendues pendant 1 moi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38240" y="2065320"/>
          <a:ext cx="7732800" cy="409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8240" y="2065320"/>
                    <a:ext cx="77328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68C-45FE-4D1E-B2DB-FB29B87999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DC3F8-AD64-4DBF-9F42-7E1FFF832A8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Bilan des ventes de mais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89B-5FF3-44B3-B191-089BC34254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49B76-6D7C-427A-8651-03CB8ED33FA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7680" y="58572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Types de maison vendu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12960" y="1996920"/>
          <a:ext cx="819612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2960" y="1996920"/>
                    <a:ext cx="819612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D44-B23F-4537-8D5B-66028BEBBAD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59A85-3BA0-4F9A-B499-478D6BF5CC6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Ventes de maisons par régi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1256-9D71-49A6-A60A-465A8B07D97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70C0F-86AD-453E-A590-BF5E1E5B834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17:01:43Z</dcterms:created>
  <dc:creator>Julien</dc:creator>
  <dc:description/>
  <dc:language>en-US</dc:language>
  <cp:lastModifiedBy>Caroline Lavoie</cp:lastModifiedBy>
  <dcterms:modified xsi:type="dcterms:W3CDTF">2006-02-23T03:11:25Z</dcterms:modified>
  <cp:revision>38</cp:revision>
  <dc:subject/>
  <dc:title>Maisons vendues pendant 1 mois</dc:title>
</cp:coreProperties>
</file>