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  <p:custShowLst>
    <p:custShow name="Plan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6AE-F907-4860-B00A-A7AFFDA1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926-F08B-4925-BCC7-55D218BA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BF7-452E-42F1-9157-F149E345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FBC-6FB8-4D70-9857-F9DE91E2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99D1-83A0-43E1-81D4-97F9ABE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830A-521A-4235-9A0B-E901335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1620-2EE8-4B4D-B7BA-4301E34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415F-5640-47B0-BE4C-BB2BF3C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05DD-92A6-45A6-9678-9C5B516F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B2B-6EDB-4DC7-ADF5-131E5E6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198-0DA8-404D-ADD8-8A444D9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27E-F17E-47C1-B015-1458A83A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6BD5-C460-4B26-96D8-7EA6305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F51-9F5D-4505-9667-F779C93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7A55-DE96-4460-9973-574E063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1EC-BC95-4F4D-89A3-395B474E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EE3-767E-496C-94B7-7A47D144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799-038D-425E-8DCE-C3CCCAB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EFC-107E-447C-BEFD-6BB0FDA0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F37-6436-4F78-91C1-45A9113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F82-648F-46FF-BA10-5856166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F07-0F93-4242-A1F6-ED4BA75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E8E-A794-459D-9D83-2F84094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D8E-AF5B-49BC-A5E3-CC10BC2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62240" indent="-462240">
              <a:spcBef>
                <a:spcPts val="1001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1" marL="828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02320" indent="-18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3" marL="1376640" indent="-1828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4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5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6" marL="1650960" indent="-1828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76360" y="5134680"/>
            <a:ext cx="2106000" cy="1687320"/>
            <a:chOff x="6876360" y="5134680"/>
            <a:chExt cx="2106000" cy="1687320"/>
          </a:xfrm>
        </p:grpSpPr>
        <p:sp>
          <p:nvSpPr>
            <p:cNvPr id="4" name=""/>
            <p:cNvSpPr/>
            <p:nvPr/>
          </p:nvSpPr>
          <p:spPr>
            <a:xfrm rot="18874200">
              <a:off x="8384040" y="5563800"/>
              <a:ext cx="400680" cy="507240"/>
            </a:xfrm>
            <a:custGeom>
              <a:avLst/>
              <a:gdLst/>
              <a:ahLst/>
              <a:rect l="l" t="t" r="r" b="b"/>
              <a:pathLst>
                <a:path w="915" h="1161">
                  <a:moveTo>
                    <a:pt x="0" y="0"/>
                  </a:moveTo>
                  <a:lnTo>
                    <a:pt x="915" y="1036"/>
                  </a:lnTo>
                  <a:lnTo>
                    <a:pt x="862" y="116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18874200">
              <a:off x="8264160" y="5264280"/>
              <a:ext cx="603720" cy="573480"/>
            </a:xfrm>
            <a:custGeom>
              <a:avLst/>
              <a:gdLst/>
              <a:ahLst/>
              <a:rect l="l" t="t" r="r" b="b"/>
              <a:pathLst>
                <a:path w="1380" h="1311">
                  <a:moveTo>
                    <a:pt x="1024" y="120"/>
                  </a:moveTo>
                  <a:lnTo>
                    <a:pt x="1088" y="146"/>
                  </a:lnTo>
                  <a:lnTo>
                    <a:pt x="1115" y="162"/>
                  </a:lnTo>
                  <a:lnTo>
                    <a:pt x="1145" y="151"/>
                  </a:lnTo>
                  <a:lnTo>
                    <a:pt x="1141" y="128"/>
                  </a:lnTo>
                  <a:lnTo>
                    <a:pt x="1141" y="104"/>
                  </a:lnTo>
                  <a:lnTo>
                    <a:pt x="1146" y="79"/>
                  </a:lnTo>
                  <a:lnTo>
                    <a:pt x="1157" y="58"/>
                  </a:lnTo>
                  <a:lnTo>
                    <a:pt x="1170" y="41"/>
                  </a:lnTo>
                  <a:lnTo>
                    <a:pt x="1187" y="24"/>
                  </a:lnTo>
                  <a:lnTo>
                    <a:pt x="1204" y="13"/>
                  </a:lnTo>
                  <a:lnTo>
                    <a:pt x="1228" y="4"/>
                  </a:lnTo>
                  <a:lnTo>
                    <a:pt x="1249" y="0"/>
                  </a:lnTo>
                  <a:lnTo>
                    <a:pt x="1270" y="0"/>
                  </a:lnTo>
                  <a:lnTo>
                    <a:pt x="1287" y="3"/>
                  </a:lnTo>
                  <a:lnTo>
                    <a:pt x="1305" y="8"/>
                  </a:lnTo>
                  <a:lnTo>
                    <a:pt x="1318" y="14"/>
                  </a:lnTo>
                  <a:lnTo>
                    <a:pt x="1334" y="25"/>
                  </a:lnTo>
                  <a:lnTo>
                    <a:pt x="1346" y="36"/>
                  </a:lnTo>
                  <a:lnTo>
                    <a:pt x="1360" y="53"/>
                  </a:lnTo>
                  <a:lnTo>
                    <a:pt x="1370" y="72"/>
                  </a:lnTo>
                  <a:lnTo>
                    <a:pt x="1376" y="90"/>
                  </a:lnTo>
                  <a:lnTo>
                    <a:pt x="1380" y="111"/>
                  </a:lnTo>
                  <a:lnTo>
                    <a:pt x="1380" y="129"/>
                  </a:lnTo>
                  <a:lnTo>
                    <a:pt x="1377" y="149"/>
                  </a:lnTo>
                  <a:lnTo>
                    <a:pt x="1370" y="166"/>
                  </a:lnTo>
                  <a:lnTo>
                    <a:pt x="1363" y="182"/>
                  </a:lnTo>
                  <a:lnTo>
                    <a:pt x="1353" y="194"/>
                  </a:lnTo>
                  <a:lnTo>
                    <a:pt x="1341" y="208"/>
                  </a:lnTo>
                  <a:lnTo>
                    <a:pt x="1328" y="220"/>
                  </a:lnTo>
                  <a:lnTo>
                    <a:pt x="1311" y="229"/>
                  </a:lnTo>
                  <a:lnTo>
                    <a:pt x="1295" y="235"/>
                  </a:lnTo>
                  <a:lnTo>
                    <a:pt x="1279" y="239"/>
                  </a:lnTo>
                  <a:lnTo>
                    <a:pt x="1262" y="239"/>
                  </a:lnTo>
                  <a:lnTo>
                    <a:pt x="1248" y="239"/>
                  </a:lnTo>
                  <a:lnTo>
                    <a:pt x="1232" y="236"/>
                  </a:lnTo>
                  <a:lnTo>
                    <a:pt x="1219" y="262"/>
                  </a:lnTo>
                  <a:lnTo>
                    <a:pt x="1231" y="296"/>
                  </a:lnTo>
                  <a:lnTo>
                    <a:pt x="1255" y="336"/>
                  </a:lnTo>
                  <a:lnTo>
                    <a:pt x="1269" y="394"/>
                  </a:lnTo>
                  <a:lnTo>
                    <a:pt x="1253" y="441"/>
                  </a:lnTo>
                  <a:lnTo>
                    <a:pt x="1219" y="503"/>
                  </a:lnTo>
                  <a:lnTo>
                    <a:pt x="1176" y="569"/>
                  </a:lnTo>
                  <a:lnTo>
                    <a:pt x="1135" y="644"/>
                  </a:lnTo>
                  <a:lnTo>
                    <a:pt x="1114" y="708"/>
                  </a:lnTo>
                  <a:lnTo>
                    <a:pt x="1097" y="780"/>
                  </a:lnTo>
                  <a:lnTo>
                    <a:pt x="1101" y="799"/>
                  </a:lnTo>
                  <a:lnTo>
                    <a:pt x="1101" y="817"/>
                  </a:lnTo>
                  <a:lnTo>
                    <a:pt x="1098" y="834"/>
                  </a:lnTo>
                  <a:lnTo>
                    <a:pt x="1090" y="848"/>
                  </a:lnTo>
                  <a:lnTo>
                    <a:pt x="1080" y="862"/>
                  </a:lnTo>
                  <a:lnTo>
                    <a:pt x="1067" y="876"/>
                  </a:lnTo>
                  <a:lnTo>
                    <a:pt x="1052" y="890"/>
                  </a:lnTo>
                  <a:lnTo>
                    <a:pt x="1032" y="901"/>
                  </a:lnTo>
                  <a:lnTo>
                    <a:pt x="1012" y="907"/>
                  </a:lnTo>
                  <a:lnTo>
                    <a:pt x="997" y="908"/>
                  </a:lnTo>
                  <a:lnTo>
                    <a:pt x="983" y="907"/>
                  </a:lnTo>
                  <a:lnTo>
                    <a:pt x="969" y="900"/>
                  </a:lnTo>
                  <a:lnTo>
                    <a:pt x="959" y="889"/>
                  </a:lnTo>
                  <a:lnTo>
                    <a:pt x="955" y="872"/>
                  </a:lnTo>
                  <a:lnTo>
                    <a:pt x="955" y="853"/>
                  </a:lnTo>
                  <a:lnTo>
                    <a:pt x="956" y="832"/>
                  </a:lnTo>
                  <a:lnTo>
                    <a:pt x="962" y="814"/>
                  </a:lnTo>
                  <a:lnTo>
                    <a:pt x="970" y="794"/>
                  </a:lnTo>
                  <a:lnTo>
                    <a:pt x="977" y="779"/>
                  </a:lnTo>
                  <a:lnTo>
                    <a:pt x="984" y="766"/>
                  </a:lnTo>
                  <a:lnTo>
                    <a:pt x="994" y="759"/>
                  </a:lnTo>
                  <a:lnTo>
                    <a:pt x="1005" y="756"/>
                  </a:lnTo>
                  <a:lnTo>
                    <a:pt x="1025" y="749"/>
                  </a:lnTo>
                  <a:lnTo>
                    <a:pt x="1042" y="737"/>
                  </a:lnTo>
                  <a:lnTo>
                    <a:pt x="1053" y="722"/>
                  </a:lnTo>
                  <a:lnTo>
                    <a:pt x="1101" y="515"/>
                  </a:lnTo>
                  <a:lnTo>
                    <a:pt x="1088" y="510"/>
                  </a:lnTo>
                  <a:lnTo>
                    <a:pt x="884" y="620"/>
                  </a:lnTo>
                  <a:lnTo>
                    <a:pt x="822" y="693"/>
                  </a:lnTo>
                  <a:lnTo>
                    <a:pt x="719" y="831"/>
                  </a:lnTo>
                  <a:lnTo>
                    <a:pt x="608" y="976"/>
                  </a:lnTo>
                  <a:lnTo>
                    <a:pt x="498" y="1120"/>
                  </a:lnTo>
                  <a:lnTo>
                    <a:pt x="498" y="1142"/>
                  </a:lnTo>
                  <a:lnTo>
                    <a:pt x="514" y="1156"/>
                  </a:lnTo>
                  <a:lnTo>
                    <a:pt x="527" y="1173"/>
                  </a:lnTo>
                  <a:lnTo>
                    <a:pt x="534" y="1193"/>
                  </a:lnTo>
                  <a:lnTo>
                    <a:pt x="538" y="1211"/>
                  </a:lnTo>
                  <a:lnTo>
                    <a:pt x="541" y="1234"/>
                  </a:lnTo>
                  <a:lnTo>
                    <a:pt x="539" y="1256"/>
                  </a:lnTo>
                  <a:lnTo>
                    <a:pt x="534" y="1277"/>
                  </a:lnTo>
                  <a:lnTo>
                    <a:pt x="525" y="1296"/>
                  </a:lnTo>
                  <a:lnTo>
                    <a:pt x="514" y="1311"/>
                  </a:lnTo>
                  <a:lnTo>
                    <a:pt x="311" y="1099"/>
                  </a:lnTo>
                  <a:lnTo>
                    <a:pt x="590" y="727"/>
                  </a:lnTo>
                  <a:lnTo>
                    <a:pt x="207" y="965"/>
                  </a:lnTo>
                  <a:lnTo>
                    <a:pt x="0" y="728"/>
                  </a:lnTo>
                  <a:lnTo>
                    <a:pt x="24" y="717"/>
                  </a:lnTo>
                  <a:lnTo>
                    <a:pt x="48" y="711"/>
                  </a:lnTo>
                  <a:lnTo>
                    <a:pt x="66" y="710"/>
                  </a:lnTo>
                  <a:lnTo>
                    <a:pt x="86" y="713"/>
                  </a:lnTo>
                  <a:lnTo>
                    <a:pt x="108" y="721"/>
                  </a:lnTo>
                  <a:lnTo>
                    <a:pt x="129" y="731"/>
                  </a:lnTo>
                  <a:lnTo>
                    <a:pt x="153" y="745"/>
                  </a:lnTo>
                  <a:lnTo>
                    <a:pt x="176" y="762"/>
                  </a:lnTo>
                  <a:lnTo>
                    <a:pt x="203" y="762"/>
                  </a:lnTo>
                  <a:lnTo>
                    <a:pt x="366" y="669"/>
                  </a:lnTo>
                  <a:lnTo>
                    <a:pt x="490" y="596"/>
                  </a:lnTo>
                  <a:lnTo>
                    <a:pt x="646" y="507"/>
                  </a:lnTo>
                  <a:lnTo>
                    <a:pt x="718" y="452"/>
                  </a:lnTo>
                  <a:lnTo>
                    <a:pt x="848" y="239"/>
                  </a:lnTo>
                  <a:lnTo>
                    <a:pt x="653" y="266"/>
                  </a:lnTo>
                  <a:lnTo>
                    <a:pt x="636" y="279"/>
                  </a:lnTo>
                  <a:lnTo>
                    <a:pt x="621" y="293"/>
                  </a:lnTo>
                  <a:lnTo>
                    <a:pt x="608" y="308"/>
                  </a:lnTo>
                  <a:lnTo>
                    <a:pt x="593" y="321"/>
                  </a:lnTo>
                  <a:lnTo>
                    <a:pt x="574" y="332"/>
                  </a:lnTo>
                  <a:lnTo>
                    <a:pt x="555" y="342"/>
                  </a:lnTo>
                  <a:lnTo>
                    <a:pt x="535" y="349"/>
                  </a:lnTo>
                  <a:lnTo>
                    <a:pt x="517" y="353"/>
                  </a:lnTo>
                  <a:lnTo>
                    <a:pt x="497" y="355"/>
                  </a:lnTo>
                  <a:lnTo>
                    <a:pt x="476" y="352"/>
                  </a:lnTo>
                  <a:lnTo>
                    <a:pt x="463" y="346"/>
                  </a:lnTo>
                  <a:lnTo>
                    <a:pt x="455" y="339"/>
                  </a:lnTo>
                  <a:lnTo>
                    <a:pt x="453" y="331"/>
                  </a:lnTo>
                  <a:lnTo>
                    <a:pt x="459" y="321"/>
                  </a:lnTo>
                  <a:lnTo>
                    <a:pt x="460" y="308"/>
                  </a:lnTo>
                  <a:lnTo>
                    <a:pt x="462" y="293"/>
                  </a:lnTo>
                  <a:lnTo>
                    <a:pt x="466" y="277"/>
                  </a:lnTo>
                  <a:lnTo>
                    <a:pt x="476" y="259"/>
                  </a:lnTo>
                  <a:lnTo>
                    <a:pt x="488" y="245"/>
                  </a:lnTo>
                  <a:lnTo>
                    <a:pt x="504" y="232"/>
                  </a:lnTo>
                  <a:lnTo>
                    <a:pt x="522" y="221"/>
                  </a:lnTo>
                  <a:lnTo>
                    <a:pt x="541" y="211"/>
                  </a:lnTo>
                  <a:lnTo>
                    <a:pt x="560" y="208"/>
                  </a:lnTo>
                  <a:lnTo>
                    <a:pt x="580" y="213"/>
                  </a:lnTo>
                  <a:lnTo>
                    <a:pt x="598" y="218"/>
                  </a:lnTo>
                  <a:lnTo>
                    <a:pt x="663" y="211"/>
                  </a:lnTo>
                  <a:lnTo>
                    <a:pt x="742" y="190"/>
                  </a:lnTo>
                  <a:lnTo>
                    <a:pt x="834" y="153"/>
                  </a:lnTo>
                  <a:lnTo>
                    <a:pt x="911" y="115"/>
                  </a:lnTo>
                  <a:lnTo>
                    <a:pt x="974" y="98"/>
                  </a:lnTo>
                  <a:lnTo>
                    <a:pt x="1024" y="12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7768440" y="5304240"/>
              <a:ext cx="644760" cy="658080"/>
              <a:chOff x="7768440" y="5304240"/>
              <a:chExt cx="644760" cy="658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7881840" y="5429520"/>
                <a:ext cx="531360" cy="532800"/>
                <a:chOff x="7881840" y="5429520"/>
                <a:chExt cx="531360" cy="532800"/>
              </a:xfrm>
            </p:grpSpPr>
            <p:sp>
              <p:nvSpPr>
                <p:cNvPr id="8" name=""/>
                <p:cNvSpPr/>
                <p:nvPr/>
              </p:nvSpPr>
              <p:spPr>
                <a:xfrm rot="18874200">
                  <a:off x="8048160" y="5433480"/>
                  <a:ext cx="130320" cy="521640"/>
                </a:xfrm>
                <a:custGeom>
                  <a:avLst/>
                  <a:gdLst/>
                  <a:ahLst/>
                  <a:rect l="l" t="t" r="r" b="b"/>
                  <a:pathLst>
                    <a:path w="299" h="1193">
                      <a:moveTo>
                        <a:pt x="0" y="1193"/>
                      </a:moveTo>
                      <a:lnTo>
                        <a:pt x="108" y="850"/>
                      </a:lnTo>
                      <a:lnTo>
                        <a:pt x="261" y="269"/>
                      </a:lnTo>
                      <a:lnTo>
                        <a:pt x="299" y="86"/>
                      </a:lnTo>
                      <a:lnTo>
                        <a:pt x="265" y="0"/>
                      </a:lnTo>
                      <a:lnTo>
                        <a:pt x="240" y="106"/>
                      </a:lnTo>
                      <a:lnTo>
                        <a:pt x="206" y="172"/>
                      </a:lnTo>
                      <a:lnTo>
                        <a:pt x="160" y="236"/>
                      </a:lnTo>
                      <a:lnTo>
                        <a:pt x="65" y="648"/>
                      </a:lnTo>
                      <a:lnTo>
                        <a:pt x="10" y="964"/>
                      </a:lnTo>
                      <a:lnTo>
                        <a:pt x="0" y="119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8874200">
                  <a:off x="8061840" y="5438880"/>
                  <a:ext cx="145080" cy="554040"/>
                </a:xfrm>
                <a:custGeom>
                  <a:avLst/>
                  <a:gdLst/>
                  <a:ahLst/>
                  <a:rect l="l" t="t" r="r" b="b"/>
                  <a:pathLst>
                    <a:path w="332" h="1269">
                      <a:moveTo>
                        <a:pt x="0" y="1269"/>
                      </a:moveTo>
                      <a:lnTo>
                        <a:pt x="140" y="840"/>
                      </a:lnTo>
                      <a:lnTo>
                        <a:pt x="294" y="261"/>
                      </a:lnTo>
                      <a:lnTo>
                        <a:pt x="332" y="85"/>
                      </a:lnTo>
                      <a:lnTo>
                        <a:pt x="264" y="0"/>
                      </a:lnTo>
                      <a:lnTo>
                        <a:pt x="270" y="102"/>
                      </a:lnTo>
                      <a:lnTo>
                        <a:pt x="240" y="162"/>
                      </a:lnTo>
                      <a:lnTo>
                        <a:pt x="176" y="227"/>
                      </a:lnTo>
                      <a:lnTo>
                        <a:pt x="86" y="644"/>
                      </a:lnTo>
                      <a:lnTo>
                        <a:pt x="26" y="962"/>
                      </a:lnTo>
                      <a:lnTo>
                        <a:pt x="5" y="1162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7908840" y="5429520"/>
                  <a:ext cx="504360" cy="503640"/>
                  <a:chOff x="7908840" y="5429520"/>
                  <a:chExt cx="504360" cy="503640"/>
                </a:xfrm>
              </p:grpSpPr>
              <p:grpSp>
                <p:nvGrpSpPr>
                  <p:cNvPr id="11" name=""/>
                  <p:cNvGrpSpPr/>
                  <p:nvPr/>
                </p:nvGrpSpPr>
                <p:grpSpPr>
                  <a:xfrm>
                    <a:off x="7908840" y="5429520"/>
                    <a:ext cx="504360" cy="503640"/>
                    <a:chOff x="7908840" y="5429520"/>
                    <a:chExt cx="504360" cy="503640"/>
                  </a:xfrm>
                </p:grpSpPr>
                <p:grpSp>
                  <p:nvGrpSpPr>
                    <p:cNvPr id="12" name=""/>
                    <p:cNvGrpSpPr/>
                    <p:nvPr/>
                  </p:nvGrpSpPr>
                  <p:grpSpPr>
                    <a:xfrm>
                      <a:off x="7908840" y="5429520"/>
                      <a:ext cx="504360" cy="503640"/>
                      <a:chOff x="7908840" y="5429520"/>
                      <a:chExt cx="504360" cy="503640"/>
                    </a:xfrm>
                  </p:grpSpPr>
                  <p:sp>
                    <p:nvSpPr>
                      <p:cNvPr id="13" name=""/>
                      <p:cNvSpPr/>
                      <p:nvPr/>
                    </p:nvSpPr>
                    <p:spPr>
                      <a:xfrm rot="18874200">
                        <a:off x="8093520" y="5385600"/>
                        <a:ext cx="114480" cy="56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299">
                            <a:moveTo>
                              <a:pt x="4" y="120"/>
                            </a:moveTo>
                            <a:lnTo>
                              <a:pt x="234" y="1299"/>
                            </a:lnTo>
                            <a:lnTo>
                              <a:pt x="264" y="1203"/>
                            </a:lnTo>
                            <a:lnTo>
                              <a:pt x="259" y="1052"/>
                            </a:lnTo>
                            <a:lnTo>
                              <a:pt x="240" y="868"/>
                            </a:lnTo>
                            <a:lnTo>
                              <a:pt x="180" y="545"/>
                            </a:lnTo>
                            <a:lnTo>
                              <a:pt x="131" y="241"/>
                            </a:lnTo>
                            <a:lnTo>
                              <a:pt x="104" y="215"/>
                            </a:lnTo>
                            <a:lnTo>
                              <a:pt x="64" y="180"/>
                            </a:lnTo>
                            <a:lnTo>
                              <a:pt x="0" y="0"/>
                            </a:lnTo>
                            <a:lnTo>
                              <a:pt x="4" y="12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" name=""/>
                      <p:cNvSpPr/>
                      <p:nvPr/>
                    </p:nvSpPr>
                    <p:spPr>
                      <a:xfrm rot="18874200">
                        <a:off x="8105040" y="5387400"/>
                        <a:ext cx="113400" cy="59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1356">
                            <a:moveTo>
                              <a:pt x="0" y="124"/>
                            </a:moveTo>
                            <a:lnTo>
                              <a:pt x="218" y="1356"/>
                            </a:lnTo>
                            <a:lnTo>
                              <a:pt x="260" y="1205"/>
                            </a:lnTo>
                            <a:lnTo>
                              <a:pt x="256" y="1056"/>
                            </a:lnTo>
                            <a:lnTo>
                              <a:pt x="236" y="872"/>
                            </a:lnTo>
                            <a:lnTo>
                              <a:pt x="177" y="549"/>
                            </a:lnTo>
                            <a:lnTo>
                              <a:pt x="128" y="245"/>
                            </a:lnTo>
                            <a:lnTo>
                              <a:pt x="100" y="219"/>
                            </a:lnTo>
                            <a:lnTo>
                              <a:pt x="60" y="187"/>
                            </a:lnTo>
                            <a:lnTo>
                              <a:pt x="11" y="0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" name=""/>
                      <p:cNvSpPr/>
                      <p:nvPr/>
                    </p:nvSpPr>
                    <p:spPr>
                      <a:xfrm rot="18874200">
                        <a:off x="8118360" y="5463360"/>
                        <a:ext cx="103680" cy="44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1019">
                            <a:moveTo>
                              <a:pt x="0" y="71"/>
                            </a:moveTo>
                            <a:lnTo>
                              <a:pt x="27" y="214"/>
                            </a:lnTo>
                            <a:lnTo>
                              <a:pt x="110" y="192"/>
                            </a:lnTo>
                            <a:lnTo>
                              <a:pt x="140" y="393"/>
                            </a:lnTo>
                            <a:lnTo>
                              <a:pt x="169" y="601"/>
                            </a:lnTo>
                            <a:lnTo>
                              <a:pt x="207" y="807"/>
                            </a:lnTo>
                            <a:lnTo>
                              <a:pt x="238" y="1019"/>
                            </a:lnTo>
                            <a:lnTo>
                              <a:pt x="234" y="869"/>
                            </a:lnTo>
                            <a:lnTo>
                              <a:pt x="214" y="686"/>
                            </a:lnTo>
                            <a:lnTo>
                              <a:pt x="155" y="363"/>
                            </a:lnTo>
                            <a:lnTo>
                              <a:pt x="106" y="59"/>
                            </a:lnTo>
                            <a:lnTo>
                              <a:pt x="78" y="33"/>
                            </a:lnTo>
                            <a:lnTo>
                              <a:pt x="38" y="0"/>
                            </a:lnTo>
                            <a:lnTo>
                              <a:pt x="13" y="35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" name=""/>
                    <p:cNvSpPr/>
                    <p:nvPr/>
                  </p:nvSpPr>
                  <p:spPr>
                    <a:xfrm rot="18874200">
                      <a:off x="8055000" y="5591160"/>
                      <a:ext cx="4608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2">
                          <a:moveTo>
                            <a:pt x="105" y="131"/>
                          </a:moveTo>
                          <a:lnTo>
                            <a:pt x="85" y="7"/>
                          </a:lnTo>
                          <a:lnTo>
                            <a:pt x="2" y="29"/>
                          </a:lnTo>
                          <a:lnTo>
                            <a:pt x="0" y="11"/>
                          </a:lnTo>
                          <a:lnTo>
                            <a:pt x="37" y="17"/>
                          </a:lnTo>
                          <a:lnTo>
                            <a:pt x="93" y="0"/>
                          </a:lnTo>
                          <a:lnTo>
                            <a:pt x="106" y="132"/>
                          </a:lnTo>
                          <a:lnTo>
                            <a:pt x="105" y="13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" name=""/>
                    <p:cNvSpPr/>
                    <p:nvPr/>
                  </p:nvSpPr>
                  <p:spPr>
                    <a:xfrm rot="18874200">
                      <a:off x="8060760" y="5578920"/>
                      <a:ext cx="23400" cy="1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86">
                          <a:moveTo>
                            <a:pt x="53" y="286"/>
                          </a:moveTo>
                          <a:lnTo>
                            <a:pt x="29" y="145"/>
                          </a:lnTo>
                          <a:lnTo>
                            <a:pt x="15" y="65"/>
                          </a:lnTo>
                          <a:lnTo>
                            <a:pt x="4" y="0"/>
                          </a:lnTo>
                          <a:lnTo>
                            <a:pt x="0" y="24"/>
                          </a:lnTo>
                          <a:lnTo>
                            <a:pt x="53" y="28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" name=""/>
                  <p:cNvGrpSpPr/>
                  <p:nvPr/>
                </p:nvGrpSpPr>
                <p:grpSpPr>
                  <a:xfrm>
                    <a:off x="7998120" y="5556960"/>
                    <a:ext cx="67320" cy="56880"/>
                    <a:chOff x="7998120" y="5556960"/>
                    <a:chExt cx="67320" cy="56880"/>
                  </a:xfrm>
                </p:grpSpPr>
                <p:grpSp>
                  <p:nvGrpSpPr>
                    <p:cNvPr id="19" name=""/>
                    <p:cNvGrpSpPr/>
                    <p:nvPr/>
                  </p:nvGrpSpPr>
                  <p:grpSpPr>
                    <a:xfrm>
                      <a:off x="8020440" y="5569920"/>
                      <a:ext cx="45000" cy="43920"/>
                      <a:chOff x="8020440" y="5569920"/>
                      <a:chExt cx="45000" cy="43920"/>
                    </a:xfrm>
                  </p:grpSpPr>
                  <p:sp>
                    <p:nvSpPr>
                      <p:cNvPr id="20" name=""/>
                      <p:cNvSpPr/>
                      <p:nvPr/>
                    </p:nvSpPr>
                    <p:spPr>
                      <a:xfrm rot="18874200">
                        <a:off x="8026560" y="5576400"/>
                        <a:ext cx="30240" cy="3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" name=""/>
                      <p:cNvSpPr/>
                      <p:nvPr/>
                    </p:nvSpPr>
                    <p:spPr>
                      <a:xfrm rot="18874200">
                        <a:off x="8028000" y="5576400"/>
                        <a:ext cx="30600" cy="3096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" name=""/>
                      <p:cNvSpPr/>
                      <p:nvPr/>
                    </p:nvSpPr>
                    <p:spPr>
                      <a:xfrm rot="18874200">
                        <a:off x="8027640" y="5576400"/>
                        <a:ext cx="30600" cy="302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" name=""/>
                      <p:cNvSpPr/>
                      <p:nvPr/>
                    </p:nvSpPr>
                    <p:spPr>
                      <a:xfrm rot="18874200">
                        <a:off x="8028720" y="5578560"/>
                        <a:ext cx="277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4533" y="20934"/>
                            </a:moveTo>
                            <a:arcTo wR="10800" hR="10800" stAng="4186864" swAng="641725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533" y="20934"/>
                            </a:moveTo>
                            <a:arcTo wR="10800" hR="10800" stAng="4186864" swAng="6417256"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" name=""/>
                      <p:cNvSpPr/>
                      <p:nvPr/>
                    </p:nvSpPr>
                    <p:spPr>
                      <a:xfrm rot="18874200">
                        <a:off x="8028360" y="5575320"/>
                        <a:ext cx="2736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487" y="521"/>
                            </a:moveTo>
                            <a:arcTo wR="10800" hR="10800" stAng="-6471741" swAng="59985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487" y="521"/>
                            </a:moveTo>
                            <a:arcTo wR="10800" hR="10800" stAng="-6471741" swAng="5998528"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" name=""/>
                      <p:cNvSpPr/>
                      <p:nvPr/>
                    </p:nvSpPr>
                    <p:spPr>
                      <a:xfrm rot="18874200">
                        <a:off x="8035200" y="5578920"/>
                        <a:ext cx="172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59">
                            <a:moveTo>
                              <a:pt x="39" y="54"/>
                            </a:moveTo>
                            <a:lnTo>
                              <a:pt x="8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29" y="59"/>
                            </a:lnTo>
                            <a:lnTo>
                              <a:pt x="34" y="56"/>
                            </a:lnTo>
                            <a:lnTo>
                              <a:pt x="39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" name=""/>
                      <p:cNvSpPr/>
                      <p:nvPr/>
                    </p:nvSpPr>
                    <p:spPr>
                      <a:xfrm rot="18874200">
                        <a:off x="8033040" y="5581800"/>
                        <a:ext cx="111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50">
                            <a:moveTo>
                              <a:pt x="7" y="0"/>
                            </a:moveTo>
                            <a:lnTo>
                              <a:pt x="3" y="4"/>
                            </a:lnTo>
                            <a:lnTo>
                              <a:pt x="25" y="50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" name=""/>
                    <p:cNvGrpSpPr/>
                    <p:nvPr/>
                  </p:nvGrpSpPr>
                  <p:grpSpPr>
                    <a:xfrm>
                      <a:off x="7998120" y="5556960"/>
                      <a:ext cx="28440" cy="28800"/>
                      <a:chOff x="7998120" y="5556960"/>
                      <a:chExt cx="28440" cy="28800"/>
                    </a:xfrm>
                  </p:grpSpPr>
                  <p:sp>
                    <p:nvSpPr>
                      <p:cNvPr id="28" name=""/>
                      <p:cNvSpPr/>
                      <p:nvPr/>
                    </p:nvSpPr>
                    <p:spPr>
                      <a:xfrm rot="18874200">
                        <a:off x="7997400" y="5566320"/>
                        <a:ext cx="295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6">
                            <a:moveTo>
                              <a:pt x="68" y="13"/>
                            </a:moveTo>
                            <a:lnTo>
                              <a:pt x="3" y="26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8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" name=""/>
                      <p:cNvSpPr/>
                      <p:nvPr/>
                    </p:nvSpPr>
                    <p:spPr>
                      <a:xfrm rot="18874200">
                        <a:off x="7997760" y="5565600"/>
                        <a:ext cx="295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4">
                            <a:moveTo>
                              <a:pt x="67" y="12"/>
                            </a:moveTo>
                            <a:lnTo>
                              <a:pt x="1" y="24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7" y="12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7768440" y="5427000"/>
                <a:ext cx="241200" cy="240480"/>
                <a:chOff x="7768440" y="5427000"/>
                <a:chExt cx="241200" cy="240480"/>
              </a:xfrm>
            </p:grpSpPr>
            <p:sp>
              <p:nvSpPr>
                <p:cNvPr id="31" name=""/>
                <p:cNvSpPr/>
                <p:nvPr/>
              </p:nvSpPr>
              <p:spPr>
                <a:xfrm rot="18874200">
                  <a:off x="7824240" y="5441400"/>
                  <a:ext cx="129240" cy="211320"/>
                </a:xfrm>
                <a:custGeom>
                  <a:avLst/>
                  <a:gdLst/>
                  <a:ahLst/>
                  <a:rect l="l" t="t" r="r" b="b"/>
                  <a:pathLst>
                    <a:path w="297" h="484">
                      <a:moveTo>
                        <a:pt x="259" y="484"/>
                      </a:moveTo>
                      <a:lnTo>
                        <a:pt x="272" y="448"/>
                      </a:lnTo>
                      <a:lnTo>
                        <a:pt x="297" y="417"/>
                      </a:lnTo>
                      <a:lnTo>
                        <a:pt x="280" y="350"/>
                      </a:lnTo>
                      <a:lnTo>
                        <a:pt x="267" y="303"/>
                      </a:lnTo>
                      <a:lnTo>
                        <a:pt x="259" y="262"/>
                      </a:lnTo>
                      <a:lnTo>
                        <a:pt x="262" y="236"/>
                      </a:lnTo>
                      <a:lnTo>
                        <a:pt x="269" y="209"/>
                      </a:lnTo>
                      <a:lnTo>
                        <a:pt x="272" y="183"/>
                      </a:lnTo>
                      <a:lnTo>
                        <a:pt x="273" y="157"/>
                      </a:lnTo>
                      <a:lnTo>
                        <a:pt x="270" y="131"/>
                      </a:lnTo>
                      <a:lnTo>
                        <a:pt x="267" y="109"/>
                      </a:lnTo>
                      <a:lnTo>
                        <a:pt x="258" y="81"/>
                      </a:lnTo>
                      <a:lnTo>
                        <a:pt x="246" y="54"/>
                      </a:lnTo>
                      <a:lnTo>
                        <a:pt x="229" y="36"/>
                      </a:lnTo>
                      <a:lnTo>
                        <a:pt x="211" y="20"/>
                      </a:lnTo>
                      <a:lnTo>
                        <a:pt x="201" y="14"/>
                      </a:lnTo>
                      <a:lnTo>
                        <a:pt x="189" y="9"/>
                      </a:lnTo>
                      <a:lnTo>
                        <a:pt x="167" y="3"/>
                      </a:lnTo>
                      <a:lnTo>
                        <a:pt x="155" y="2"/>
                      </a:lnTo>
                      <a:lnTo>
                        <a:pt x="142" y="0"/>
                      </a:lnTo>
                      <a:lnTo>
                        <a:pt x="129" y="2"/>
                      </a:lnTo>
                      <a:lnTo>
                        <a:pt x="118" y="2"/>
                      </a:lnTo>
                      <a:lnTo>
                        <a:pt x="105" y="3"/>
                      </a:lnTo>
                      <a:lnTo>
                        <a:pt x="94" y="7"/>
                      </a:lnTo>
                      <a:lnTo>
                        <a:pt x="81" y="12"/>
                      </a:lnTo>
                      <a:lnTo>
                        <a:pt x="72" y="17"/>
                      </a:lnTo>
                      <a:lnTo>
                        <a:pt x="62" y="24"/>
                      </a:lnTo>
                      <a:lnTo>
                        <a:pt x="55" y="30"/>
                      </a:lnTo>
                      <a:lnTo>
                        <a:pt x="43" y="41"/>
                      </a:lnTo>
                      <a:lnTo>
                        <a:pt x="35" y="55"/>
                      </a:lnTo>
                      <a:lnTo>
                        <a:pt x="27" y="68"/>
                      </a:lnTo>
                      <a:lnTo>
                        <a:pt x="21" y="81"/>
                      </a:lnTo>
                      <a:lnTo>
                        <a:pt x="14" y="96"/>
                      </a:lnTo>
                      <a:lnTo>
                        <a:pt x="10" y="110"/>
                      </a:lnTo>
                      <a:lnTo>
                        <a:pt x="3" y="143"/>
                      </a:lnTo>
                      <a:lnTo>
                        <a:pt x="0" y="183"/>
                      </a:lnTo>
                      <a:lnTo>
                        <a:pt x="0" y="200"/>
                      </a:lnTo>
                      <a:lnTo>
                        <a:pt x="52" y="200"/>
                      </a:lnTo>
                      <a:lnTo>
                        <a:pt x="55" y="216"/>
                      </a:lnTo>
                      <a:lnTo>
                        <a:pt x="59" y="236"/>
                      </a:lnTo>
                      <a:lnTo>
                        <a:pt x="62" y="247"/>
                      </a:lnTo>
                      <a:lnTo>
                        <a:pt x="66" y="257"/>
                      </a:lnTo>
                      <a:lnTo>
                        <a:pt x="70" y="269"/>
                      </a:lnTo>
                      <a:lnTo>
                        <a:pt x="76" y="281"/>
                      </a:lnTo>
                      <a:lnTo>
                        <a:pt x="84" y="292"/>
                      </a:lnTo>
                      <a:lnTo>
                        <a:pt x="93" y="303"/>
                      </a:lnTo>
                      <a:lnTo>
                        <a:pt x="104" y="310"/>
                      </a:lnTo>
                      <a:lnTo>
                        <a:pt x="111" y="316"/>
                      </a:lnTo>
                      <a:lnTo>
                        <a:pt x="118" y="319"/>
                      </a:lnTo>
                      <a:lnTo>
                        <a:pt x="125" y="322"/>
                      </a:lnTo>
                      <a:lnTo>
                        <a:pt x="136" y="322"/>
                      </a:lnTo>
                      <a:lnTo>
                        <a:pt x="146" y="320"/>
                      </a:lnTo>
                      <a:lnTo>
                        <a:pt x="155" y="317"/>
                      </a:lnTo>
                      <a:lnTo>
                        <a:pt x="163" y="313"/>
                      </a:lnTo>
                      <a:lnTo>
                        <a:pt x="174" y="307"/>
                      </a:lnTo>
                      <a:lnTo>
                        <a:pt x="187" y="298"/>
                      </a:lnTo>
                      <a:lnTo>
                        <a:pt x="196" y="286"/>
                      </a:lnTo>
                      <a:lnTo>
                        <a:pt x="200" y="278"/>
                      </a:lnTo>
                      <a:lnTo>
                        <a:pt x="205" y="269"/>
                      </a:lnTo>
                      <a:lnTo>
                        <a:pt x="211" y="254"/>
                      </a:lnTo>
                      <a:lnTo>
                        <a:pt x="214" y="236"/>
                      </a:lnTo>
                      <a:lnTo>
                        <a:pt x="217" y="219"/>
                      </a:lnTo>
                      <a:lnTo>
                        <a:pt x="219" y="200"/>
                      </a:lnTo>
                      <a:lnTo>
                        <a:pt x="219" y="183"/>
                      </a:lnTo>
                      <a:lnTo>
                        <a:pt x="221" y="168"/>
                      </a:lnTo>
                      <a:lnTo>
                        <a:pt x="219" y="154"/>
                      </a:lnTo>
                      <a:lnTo>
                        <a:pt x="219" y="143"/>
                      </a:lnTo>
                      <a:lnTo>
                        <a:pt x="217" y="130"/>
                      </a:lnTo>
                      <a:lnTo>
                        <a:pt x="214" y="114"/>
                      </a:lnTo>
                      <a:lnTo>
                        <a:pt x="210" y="100"/>
                      </a:lnTo>
                      <a:lnTo>
                        <a:pt x="204" y="89"/>
                      </a:lnTo>
                      <a:lnTo>
                        <a:pt x="197" y="79"/>
                      </a:lnTo>
                      <a:lnTo>
                        <a:pt x="187" y="69"/>
                      </a:lnTo>
                      <a:lnTo>
                        <a:pt x="176" y="62"/>
                      </a:lnTo>
                      <a:lnTo>
                        <a:pt x="163" y="55"/>
                      </a:lnTo>
                      <a:lnTo>
                        <a:pt x="156" y="54"/>
                      </a:lnTo>
                      <a:lnTo>
                        <a:pt x="145" y="52"/>
                      </a:lnTo>
                      <a:lnTo>
                        <a:pt x="135" y="52"/>
                      </a:lnTo>
                      <a:lnTo>
                        <a:pt x="125" y="52"/>
                      </a:lnTo>
                      <a:lnTo>
                        <a:pt x="119" y="52"/>
                      </a:lnTo>
                      <a:lnTo>
                        <a:pt x="111" y="55"/>
                      </a:lnTo>
                      <a:lnTo>
                        <a:pt x="104" y="60"/>
                      </a:lnTo>
                      <a:lnTo>
                        <a:pt x="94" y="67"/>
                      </a:lnTo>
                      <a:lnTo>
                        <a:pt x="86" y="74"/>
                      </a:lnTo>
                      <a:lnTo>
                        <a:pt x="79" y="82"/>
                      </a:lnTo>
                      <a:lnTo>
                        <a:pt x="73" y="89"/>
                      </a:lnTo>
                      <a:lnTo>
                        <a:pt x="69" y="102"/>
                      </a:lnTo>
                      <a:lnTo>
                        <a:pt x="60" y="124"/>
                      </a:lnTo>
                      <a:lnTo>
                        <a:pt x="56" y="145"/>
                      </a:lnTo>
                      <a:lnTo>
                        <a:pt x="53" y="164"/>
                      </a:lnTo>
                      <a:lnTo>
                        <a:pt x="52" y="185"/>
                      </a:lnTo>
                      <a:lnTo>
                        <a:pt x="52" y="200"/>
                      </a:lnTo>
                      <a:lnTo>
                        <a:pt x="0" y="200"/>
                      </a:lnTo>
                      <a:lnTo>
                        <a:pt x="3" y="216"/>
                      </a:lnTo>
                      <a:lnTo>
                        <a:pt x="7" y="241"/>
                      </a:lnTo>
                      <a:lnTo>
                        <a:pt x="15" y="269"/>
                      </a:lnTo>
                      <a:lnTo>
                        <a:pt x="24" y="289"/>
                      </a:lnTo>
                      <a:lnTo>
                        <a:pt x="28" y="300"/>
                      </a:lnTo>
                      <a:lnTo>
                        <a:pt x="35" y="314"/>
                      </a:lnTo>
                      <a:lnTo>
                        <a:pt x="42" y="326"/>
                      </a:lnTo>
                      <a:lnTo>
                        <a:pt x="50" y="336"/>
                      </a:lnTo>
                      <a:lnTo>
                        <a:pt x="58" y="343"/>
                      </a:lnTo>
                      <a:lnTo>
                        <a:pt x="69" y="351"/>
                      </a:lnTo>
                      <a:lnTo>
                        <a:pt x="81" y="360"/>
                      </a:lnTo>
                      <a:lnTo>
                        <a:pt x="97" y="367"/>
                      </a:lnTo>
                      <a:lnTo>
                        <a:pt x="117" y="371"/>
                      </a:lnTo>
                      <a:lnTo>
                        <a:pt x="135" y="374"/>
                      </a:lnTo>
                      <a:lnTo>
                        <a:pt x="153" y="371"/>
                      </a:lnTo>
                      <a:lnTo>
                        <a:pt x="172" y="365"/>
                      </a:lnTo>
                      <a:lnTo>
                        <a:pt x="187" y="357"/>
                      </a:lnTo>
                      <a:lnTo>
                        <a:pt x="201" y="348"/>
                      </a:lnTo>
                      <a:lnTo>
                        <a:pt x="214" y="338"/>
                      </a:lnTo>
                      <a:lnTo>
                        <a:pt x="219" y="336"/>
                      </a:lnTo>
                      <a:lnTo>
                        <a:pt x="228" y="338"/>
                      </a:lnTo>
                      <a:lnTo>
                        <a:pt x="232" y="344"/>
                      </a:lnTo>
                      <a:lnTo>
                        <a:pt x="236" y="355"/>
                      </a:lnTo>
                      <a:lnTo>
                        <a:pt x="259" y="48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8874200">
                  <a:off x="7857000" y="5555880"/>
                  <a:ext cx="27720" cy="55080"/>
                </a:xfrm>
                <a:custGeom>
                  <a:avLst/>
                  <a:gdLst/>
                  <a:ahLst/>
                  <a:rect l="l" t="t" r="r" b="b"/>
                  <a:pathLst>
                    <a:path w="65" h="127">
                      <a:moveTo>
                        <a:pt x="65" y="127"/>
                      </a:moveTo>
                      <a:lnTo>
                        <a:pt x="48" y="113"/>
                      </a:lnTo>
                      <a:lnTo>
                        <a:pt x="34" y="95"/>
                      </a:lnTo>
                      <a:lnTo>
                        <a:pt x="21" y="75"/>
                      </a:lnTo>
                      <a:lnTo>
                        <a:pt x="13" y="53"/>
                      </a:lnTo>
                      <a:lnTo>
                        <a:pt x="6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rot="18874200">
                  <a:off x="7910280" y="5439240"/>
                  <a:ext cx="19800" cy="147600"/>
                </a:xfrm>
                <a:custGeom>
                  <a:avLst/>
                  <a:gdLst/>
                  <a:ahLst/>
                  <a:rect l="l" t="t" r="r" b="b"/>
                  <a:pathLst>
                    <a:path w="47" h="336">
                      <a:moveTo>
                        <a:pt x="47" y="336"/>
                      </a:moveTo>
                      <a:lnTo>
                        <a:pt x="20" y="229"/>
                      </a:lnTo>
                      <a:lnTo>
                        <a:pt x="11" y="196"/>
                      </a:lnTo>
                      <a:lnTo>
                        <a:pt x="9" y="173"/>
                      </a:lnTo>
                      <a:lnTo>
                        <a:pt x="14" y="151"/>
                      </a:lnTo>
                      <a:lnTo>
                        <a:pt x="21" y="122"/>
                      </a:lnTo>
                      <a:lnTo>
                        <a:pt x="24" y="90"/>
                      </a:lnTo>
                      <a:lnTo>
                        <a:pt x="20" y="56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7859880" y="5304240"/>
                <a:ext cx="249480" cy="248400"/>
                <a:chOff x="7859880" y="5304240"/>
                <a:chExt cx="249480" cy="248400"/>
              </a:xfrm>
            </p:grpSpPr>
            <p:sp>
              <p:nvSpPr>
                <p:cNvPr id="35" name=""/>
                <p:cNvSpPr/>
                <p:nvPr/>
              </p:nvSpPr>
              <p:spPr>
                <a:xfrm rot="18874200">
                  <a:off x="7926120" y="5310720"/>
                  <a:ext cx="117000" cy="235080"/>
                </a:xfrm>
                <a:custGeom>
                  <a:avLst/>
                  <a:gdLst/>
                  <a:ahLst/>
                  <a:rect l="l" t="t" r="r" b="b"/>
                  <a:pathLst>
                    <a:path w="269" h="538">
                      <a:moveTo>
                        <a:pt x="50" y="538"/>
                      </a:moveTo>
                      <a:lnTo>
                        <a:pt x="11" y="447"/>
                      </a:lnTo>
                      <a:lnTo>
                        <a:pt x="1" y="368"/>
                      </a:lnTo>
                      <a:lnTo>
                        <a:pt x="0" y="264"/>
                      </a:lnTo>
                      <a:lnTo>
                        <a:pt x="0" y="171"/>
                      </a:lnTo>
                      <a:lnTo>
                        <a:pt x="7" y="69"/>
                      </a:lnTo>
                      <a:lnTo>
                        <a:pt x="11" y="43"/>
                      </a:lnTo>
                      <a:lnTo>
                        <a:pt x="18" y="29"/>
                      </a:lnTo>
                      <a:lnTo>
                        <a:pt x="24" y="20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52" y="5"/>
                      </a:lnTo>
                      <a:lnTo>
                        <a:pt x="63" y="3"/>
                      </a:lnTo>
                      <a:lnTo>
                        <a:pt x="76" y="2"/>
                      </a:lnTo>
                      <a:lnTo>
                        <a:pt x="87" y="0"/>
                      </a:lnTo>
                      <a:lnTo>
                        <a:pt x="97" y="2"/>
                      </a:lnTo>
                      <a:lnTo>
                        <a:pt x="111" y="3"/>
                      </a:lnTo>
                      <a:lnTo>
                        <a:pt x="125" y="7"/>
                      </a:lnTo>
                      <a:lnTo>
                        <a:pt x="141" y="14"/>
                      </a:lnTo>
                      <a:lnTo>
                        <a:pt x="157" y="24"/>
                      </a:lnTo>
                      <a:lnTo>
                        <a:pt x="174" y="37"/>
                      </a:lnTo>
                      <a:lnTo>
                        <a:pt x="190" y="50"/>
                      </a:lnTo>
                      <a:lnTo>
                        <a:pt x="207" y="68"/>
                      </a:lnTo>
                      <a:lnTo>
                        <a:pt x="222" y="89"/>
                      </a:lnTo>
                      <a:lnTo>
                        <a:pt x="238" y="109"/>
                      </a:lnTo>
                      <a:lnTo>
                        <a:pt x="249" y="133"/>
                      </a:lnTo>
                      <a:lnTo>
                        <a:pt x="259" y="161"/>
                      </a:lnTo>
                      <a:lnTo>
                        <a:pt x="266" y="196"/>
                      </a:lnTo>
                      <a:lnTo>
                        <a:pt x="269" y="231"/>
                      </a:lnTo>
                      <a:lnTo>
                        <a:pt x="269" y="245"/>
                      </a:lnTo>
                      <a:lnTo>
                        <a:pt x="217" y="245"/>
                      </a:lnTo>
                      <a:lnTo>
                        <a:pt x="214" y="264"/>
                      </a:lnTo>
                      <a:lnTo>
                        <a:pt x="211" y="292"/>
                      </a:lnTo>
                      <a:lnTo>
                        <a:pt x="207" y="323"/>
                      </a:lnTo>
                      <a:lnTo>
                        <a:pt x="198" y="355"/>
                      </a:lnTo>
                      <a:lnTo>
                        <a:pt x="190" y="376"/>
                      </a:lnTo>
                      <a:lnTo>
                        <a:pt x="179" y="393"/>
                      </a:lnTo>
                      <a:lnTo>
                        <a:pt x="166" y="402"/>
                      </a:lnTo>
                      <a:lnTo>
                        <a:pt x="152" y="412"/>
                      </a:lnTo>
                      <a:lnTo>
                        <a:pt x="131" y="417"/>
                      </a:lnTo>
                      <a:lnTo>
                        <a:pt x="114" y="419"/>
                      </a:lnTo>
                      <a:lnTo>
                        <a:pt x="96" y="419"/>
                      </a:lnTo>
                      <a:lnTo>
                        <a:pt x="79" y="415"/>
                      </a:lnTo>
                      <a:lnTo>
                        <a:pt x="65" y="406"/>
                      </a:lnTo>
                      <a:lnTo>
                        <a:pt x="55" y="395"/>
                      </a:lnTo>
                      <a:lnTo>
                        <a:pt x="52" y="379"/>
                      </a:lnTo>
                      <a:lnTo>
                        <a:pt x="49" y="362"/>
                      </a:lnTo>
                      <a:lnTo>
                        <a:pt x="48" y="348"/>
                      </a:lnTo>
                      <a:lnTo>
                        <a:pt x="43" y="312"/>
                      </a:lnTo>
                      <a:lnTo>
                        <a:pt x="42" y="267"/>
                      </a:lnTo>
                      <a:lnTo>
                        <a:pt x="41" y="207"/>
                      </a:lnTo>
                      <a:lnTo>
                        <a:pt x="42" y="157"/>
                      </a:lnTo>
                      <a:lnTo>
                        <a:pt x="43" y="134"/>
                      </a:lnTo>
                      <a:lnTo>
                        <a:pt x="46" y="112"/>
                      </a:lnTo>
                      <a:lnTo>
                        <a:pt x="49" y="100"/>
                      </a:lnTo>
                      <a:lnTo>
                        <a:pt x="53" y="86"/>
                      </a:lnTo>
                      <a:lnTo>
                        <a:pt x="60" y="78"/>
                      </a:lnTo>
                      <a:lnTo>
                        <a:pt x="66" y="75"/>
                      </a:lnTo>
                      <a:lnTo>
                        <a:pt x="73" y="72"/>
                      </a:lnTo>
                      <a:lnTo>
                        <a:pt x="88" y="69"/>
                      </a:lnTo>
                      <a:lnTo>
                        <a:pt x="100" y="69"/>
                      </a:lnTo>
                      <a:lnTo>
                        <a:pt x="108" y="71"/>
                      </a:lnTo>
                      <a:lnTo>
                        <a:pt x="124" y="74"/>
                      </a:lnTo>
                      <a:lnTo>
                        <a:pt x="135" y="78"/>
                      </a:lnTo>
                      <a:lnTo>
                        <a:pt x="153" y="92"/>
                      </a:lnTo>
                      <a:lnTo>
                        <a:pt x="172" y="107"/>
                      </a:lnTo>
                      <a:lnTo>
                        <a:pt x="190" y="130"/>
                      </a:lnTo>
                      <a:lnTo>
                        <a:pt x="205" y="157"/>
                      </a:lnTo>
                      <a:lnTo>
                        <a:pt x="211" y="184"/>
                      </a:lnTo>
                      <a:lnTo>
                        <a:pt x="217" y="220"/>
                      </a:lnTo>
                      <a:lnTo>
                        <a:pt x="217" y="245"/>
                      </a:lnTo>
                      <a:lnTo>
                        <a:pt x="269" y="245"/>
                      </a:lnTo>
                      <a:lnTo>
                        <a:pt x="269" y="265"/>
                      </a:lnTo>
                      <a:lnTo>
                        <a:pt x="263" y="298"/>
                      </a:lnTo>
                      <a:lnTo>
                        <a:pt x="259" y="333"/>
                      </a:lnTo>
                      <a:lnTo>
                        <a:pt x="250" y="364"/>
                      </a:lnTo>
                      <a:lnTo>
                        <a:pt x="241" y="393"/>
                      </a:lnTo>
                      <a:lnTo>
                        <a:pt x="228" y="415"/>
                      </a:lnTo>
                      <a:lnTo>
                        <a:pt x="211" y="437"/>
                      </a:lnTo>
                      <a:lnTo>
                        <a:pt x="194" y="453"/>
                      </a:lnTo>
                      <a:lnTo>
                        <a:pt x="179" y="461"/>
                      </a:lnTo>
                      <a:lnTo>
                        <a:pt x="162" y="469"/>
                      </a:lnTo>
                      <a:lnTo>
                        <a:pt x="138" y="472"/>
                      </a:lnTo>
                      <a:lnTo>
                        <a:pt x="117" y="475"/>
                      </a:lnTo>
                      <a:lnTo>
                        <a:pt x="100" y="477"/>
                      </a:lnTo>
                      <a:lnTo>
                        <a:pt x="86" y="481"/>
                      </a:lnTo>
                      <a:lnTo>
                        <a:pt x="76" y="488"/>
                      </a:lnTo>
                      <a:lnTo>
                        <a:pt x="67" y="499"/>
                      </a:lnTo>
                      <a:lnTo>
                        <a:pt x="59" y="513"/>
                      </a:lnTo>
                      <a:lnTo>
                        <a:pt x="50" y="53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 rot="18874200">
                  <a:off x="8002080" y="5491440"/>
                  <a:ext cx="19800" cy="60840"/>
                </a:xfrm>
                <a:custGeom>
                  <a:avLst/>
                  <a:gdLst/>
                  <a:ahLst/>
                  <a:rect l="l" t="t" r="r" b="b"/>
                  <a:pathLst>
                    <a:path w="45" h="141">
                      <a:moveTo>
                        <a:pt x="45" y="141"/>
                      </a:moveTo>
                      <a:lnTo>
                        <a:pt x="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 rot="18874200">
                  <a:off x="7979400" y="5328360"/>
                  <a:ext cx="45360" cy="158040"/>
                </a:xfrm>
                <a:custGeom>
                  <a:avLst/>
                  <a:gdLst/>
                  <a:ahLst/>
                  <a:rect l="l" t="t" r="r" b="b"/>
                  <a:pathLst>
                    <a:path w="105" h="363">
                      <a:moveTo>
                        <a:pt x="0" y="363"/>
                      </a:moveTo>
                      <a:lnTo>
                        <a:pt x="22" y="356"/>
                      </a:lnTo>
                      <a:lnTo>
                        <a:pt x="36" y="346"/>
                      </a:lnTo>
                      <a:lnTo>
                        <a:pt x="51" y="335"/>
                      </a:lnTo>
                      <a:lnTo>
                        <a:pt x="64" y="321"/>
                      </a:lnTo>
                      <a:lnTo>
                        <a:pt x="75" y="305"/>
                      </a:lnTo>
                      <a:lnTo>
                        <a:pt x="85" y="278"/>
                      </a:lnTo>
                      <a:lnTo>
                        <a:pt x="91" y="257"/>
                      </a:lnTo>
                      <a:lnTo>
                        <a:pt x="96" y="226"/>
                      </a:lnTo>
                      <a:lnTo>
                        <a:pt x="102" y="191"/>
                      </a:lnTo>
                      <a:lnTo>
                        <a:pt x="105" y="153"/>
                      </a:lnTo>
                      <a:lnTo>
                        <a:pt x="103" y="118"/>
                      </a:lnTo>
                      <a:lnTo>
                        <a:pt x="95" y="78"/>
                      </a:lnTo>
                      <a:lnTo>
                        <a:pt x="86" y="56"/>
                      </a:lnTo>
                      <a:lnTo>
                        <a:pt x="74" y="33"/>
                      </a:lnTo>
                      <a:lnTo>
                        <a:pt x="62" y="18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6480">
                  <a:solidFill>
                    <a:srgbClr val="9f9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" name=""/>
            <p:cNvSpPr/>
            <p:nvPr/>
          </p:nvSpPr>
          <p:spPr>
            <a:xfrm rot="18874200">
              <a:off x="7053120" y="6035040"/>
              <a:ext cx="373680" cy="653040"/>
            </a:xfrm>
            <a:custGeom>
              <a:avLst/>
              <a:gdLst/>
              <a:ahLst/>
              <a:rect l="l" t="t" r="r" b="b"/>
              <a:pathLst>
                <a:path w="853" h="1495">
                  <a:moveTo>
                    <a:pt x="372" y="228"/>
                  </a:moveTo>
                  <a:lnTo>
                    <a:pt x="359" y="223"/>
                  </a:lnTo>
                  <a:lnTo>
                    <a:pt x="343" y="211"/>
                  </a:lnTo>
                  <a:lnTo>
                    <a:pt x="332" y="201"/>
                  </a:lnTo>
                  <a:lnTo>
                    <a:pt x="322" y="190"/>
                  </a:lnTo>
                  <a:lnTo>
                    <a:pt x="315" y="177"/>
                  </a:lnTo>
                  <a:lnTo>
                    <a:pt x="310" y="165"/>
                  </a:lnTo>
                  <a:lnTo>
                    <a:pt x="304" y="152"/>
                  </a:lnTo>
                  <a:lnTo>
                    <a:pt x="301" y="135"/>
                  </a:lnTo>
                  <a:lnTo>
                    <a:pt x="300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5" y="65"/>
                  </a:lnTo>
                  <a:lnTo>
                    <a:pt x="324" y="49"/>
                  </a:lnTo>
                  <a:lnTo>
                    <a:pt x="334" y="38"/>
                  </a:lnTo>
                  <a:lnTo>
                    <a:pt x="348" y="27"/>
                  </a:lnTo>
                  <a:lnTo>
                    <a:pt x="360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6"/>
                  </a:lnTo>
                  <a:lnTo>
                    <a:pt x="474" y="13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12" y="41"/>
                  </a:lnTo>
                  <a:lnTo>
                    <a:pt x="521" y="52"/>
                  </a:lnTo>
                  <a:lnTo>
                    <a:pt x="529" y="68"/>
                  </a:lnTo>
                  <a:lnTo>
                    <a:pt x="536" y="82"/>
                  </a:lnTo>
                  <a:lnTo>
                    <a:pt x="541" y="97"/>
                  </a:lnTo>
                  <a:lnTo>
                    <a:pt x="543" y="116"/>
                  </a:lnTo>
                  <a:lnTo>
                    <a:pt x="542" y="131"/>
                  </a:lnTo>
                  <a:lnTo>
                    <a:pt x="539" y="151"/>
                  </a:lnTo>
                  <a:lnTo>
                    <a:pt x="534" y="166"/>
                  </a:lnTo>
                  <a:lnTo>
                    <a:pt x="529" y="179"/>
                  </a:lnTo>
                  <a:lnTo>
                    <a:pt x="520" y="193"/>
                  </a:lnTo>
                  <a:lnTo>
                    <a:pt x="511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8" y="285"/>
                  </a:lnTo>
                  <a:lnTo>
                    <a:pt x="579" y="300"/>
                  </a:lnTo>
                  <a:lnTo>
                    <a:pt x="627" y="320"/>
                  </a:lnTo>
                  <a:lnTo>
                    <a:pt x="649" y="358"/>
                  </a:lnTo>
                  <a:lnTo>
                    <a:pt x="674" y="425"/>
                  </a:lnTo>
                  <a:lnTo>
                    <a:pt x="691" y="483"/>
                  </a:lnTo>
                  <a:lnTo>
                    <a:pt x="708" y="548"/>
                  </a:lnTo>
                  <a:lnTo>
                    <a:pt x="725" y="586"/>
                  </a:lnTo>
                  <a:lnTo>
                    <a:pt x="762" y="647"/>
                  </a:lnTo>
                  <a:lnTo>
                    <a:pt x="798" y="701"/>
                  </a:lnTo>
                  <a:lnTo>
                    <a:pt x="834" y="727"/>
                  </a:lnTo>
                  <a:lnTo>
                    <a:pt x="841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3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2" y="847"/>
                  </a:lnTo>
                  <a:lnTo>
                    <a:pt x="835" y="861"/>
                  </a:lnTo>
                  <a:lnTo>
                    <a:pt x="824" y="869"/>
                  </a:lnTo>
                  <a:lnTo>
                    <a:pt x="815" y="875"/>
                  </a:lnTo>
                  <a:lnTo>
                    <a:pt x="808" y="886"/>
                  </a:lnTo>
                  <a:lnTo>
                    <a:pt x="803" y="890"/>
                  </a:lnTo>
                  <a:lnTo>
                    <a:pt x="794" y="889"/>
                  </a:lnTo>
                  <a:lnTo>
                    <a:pt x="783" y="885"/>
                  </a:lnTo>
                  <a:lnTo>
                    <a:pt x="770" y="876"/>
                  </a:lnTo>
                  <a:lnTo>
                    <a:pt x="758" y="865"/>
                  </a:lnTo>
                  <a:lnTo>
                    <a:pt x="746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7" y="773"/>
                  </a:lnTo>
                  <a:lnTo>
                    <a:pt x="725" y="752"/>
                  </a:lnTo>
                  <a:lnTo>
                    <a:pt x="728" y="735"/>
                  </a:lnTo>
                  <a:lnTo>
                    <a:pt x="729" y="713"/>
                  </a:lnTo>
                  <a:lnTo>
                    <a:pt x="727" y="696"/>
                  </a:lnTo>
                  <a:lnTo>
                    <a:pt x="673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49" y="783"/>
                  </a:lnTo>
                  <a:lnTo>
                    <a:pt x="577" y="941"/>
                  </a:lnTo>
                  <a:lnTo>
                    <a:pt x="598" y="1051"/>
                  </a:lnTo>
                  <a:lnTo>
                    <a:pt x="632" y="1234"/>
                  </a:lnTo>
                  <a:lnTo>
                    <a:pt x="658" y="1372"/>
                  </a:lnTo>
                  <a:lnTo>
                    <a:pt x="667" y="1383"/>
                  </a:lnTo>
                  <a:lnTo>
                    <a:pt x="686" y="1388"/>
                  </a:lnTo>
                  <a:lnTo>
                    <a:pt x="711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4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8" y="1475"/>
                  </a:lnTo>
                  <a:lnTo>
                    <a:pt x="812" y="1493"/>
                  </a:lnTo>
                  <a:lnTo>
                    <a:pt x="531" y="1493"/>
                  </a:lnTo>
                  <a:lnTo>
                    <a:pt x="465" y="1234"/>
                  </a:lnTo>
                  <a:lnTo>
                    <a:pt x="429" y="1104"/>
                  </a:lnTo>
                  <a:lnTo>
                    <a:pt x="394" y="1234"/>
                  </a:lnTo>
                  <a:lnTo>
                    <a:pt x="321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49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5" y="1234"/>
                  </a:lnTo>
                  <a:lnTo>
                    <a:pt x="259" y="1051"/>
                  </a:lnTo>
                  <a:lnTo>
                    <a:pt x="277" y="941"/>
                  </a:lnTo>
                  <a:lnTo>
                    <a:pt x="304" y="783"/>
                  </a:lnTo>
                  <a:lnTo>
                    <a:pt x="284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7" y="638"/>
                  </a:lnTo>
                  <a:lnTo>
                    <a:pt x="124" y="699"/>
                  </a:lnTo>
                  <a:lnTo>
                    <a:pt x="121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8" y="841"/>
                  </a:lnTo>
                  <a:lnTo>
                    <a:pt x="101" y="855"/>
                  </a:lnTo>
                  <a:lnTo>
                    <a:pt x="93" y="865"/>
                  </a:lnTo>
                  <a:lnTo>
                    <a:pt x="84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3" y="886"/>
                  </a:lnTo>
                  <a:lnTo>
                    <a:pt x="38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5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7" y="745"/>
                  </a:lnTo>
                  <a:lnTo>
                    <a:pt x="18" y="728"/>
                  </a:lnTo>
                  <a:lnTo>
                    <a:pt x="36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3" y="548"/>
                  </a:lnTo>
                  <a:lnTo>
                    <a:pt x="160" y="485"/>
                  </a:lnTo>
                  <a:lnTo>
                    <a:pt x="177" y="428"/>
                  </a:lnTo>
                  <a:lnTo>
                    <a:pt x="204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874200">
              <a:off x="7344720" y="5738760"/>
              <a:ext cx="373680" cy="65304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3" y="228"/>
                  </a:moveTo>
                  <a:lnTo>
                    <a:pt x="361" y="223"/>
                  </a:lnTo>
                  <a:lnTo>
                    <a:pt x="345" y="211"/>
                  </a:lnTo>
                  <a:lnTo>
                    <a:pt x="332" y="201"/>
                  </a:lnTo>
                  <a:lnTo>
                    <a:pt x="324" y="190"/>
                  </a:lnTo>
                  <a:lnTo>
                    <a:pt x="316" y="177"/>
                  </a:lnTo>
                  <a:lnTo>
                    <a:pt x="311" y="165"/>
                  </a:lnTo>
                  <a:lnTo>
                    <a:pt x="306" y="152"/>
                  </a:lnTo>
                  <a:lnTo>
                    <a:pt x="303" y="135"/>
                  </a:lnTo>
                  <a:lnTo>
                    <a:pt x="301" y="118"/>
                  </a:lnTo>
                  <a:lnTo>
                    <a:pt x="304" y="100"/>
                  </a:lnTo>
                  <a:lnTo>
                    <a:pt x="309" y="82"/>
                  </a:lnTo>
                  <a:lnTo>
                    <a:pt x="316" y="65"/>
                  </a:lnTo>
                  <a:lnTo>
                    <a:pt x="325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2" y="17"/>
                  </a:lnTo>
                  <a:lnTo>
                    <a:pt x="378" y="10"/>
                  </a:lnTo>
                  <a:lnTo>
                    <a:pt x="392" y="4"/>
                  </a:lnTo>
                  <a:lnTo>
                    <a:pt x="409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8" y="6"/>
                  </a:lnTo>
                  <a:lnTo>
                    <a:pt x="476" y="13"/>
                  </a:lnTo>
                  <a:lnTo>
                    <a:pt x="489" y="20"/>
                  </a:lnTo>
                  <a:lnTo>
                    <a:pt x="501" y="30"/>
                  </a:lnTo>
                  <a:lnTo>
                    <a:pt x="513" y="41"/>
                  </a:lnTo>
                  <a:lnTo>
                    <a:pt x="523" y="52"/>
                  </a:lnTo>
                  <a:lnTo>
                    <a:pt x="531" y="68"/>
                  </a:lnTo>
                  <a:lnTo>
                    <a:pt x="538" y="82"/>
                  </a:lnTo>
                  <a:lnTo>
                    <a:pt x="542" y="97"/>
                  </a:lnTo>
                  <a:lnTo>
                    <a:pt x="544" y="116"/>
                  </a:lnTo>
                  <a:lnTo>
                    <a:pt x="544" y="131"/>
                  </a:lnTo>
                  <a:lnTo>
                    <a:pt x="541" y="151"/>
                  </a:lnTo>
                  <a:lnTo>
                    <a:pt x="535" y="166"/>
                  </a:lnTo>
                  <a:lnTo>
                    <a:pt x="530" y="179"/>
                  </a:lnTo>
                  <a:lnTo>
                    <a:pt x="521" y="193"/>
                  </a:lnTo>
                  <a:lnTo>
                    <a:pt x="511" y="203"/>
                  </a:lnTo>
                  <a:lnTo>
                    <a:pt x="501" y="213"/>
                  </a:lnTo>
                  <a:lnTo>
                    <a:pt x="492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20" y="285"/>
                  </a:lnTo>
                  <a:lnTo>
                    <a:pt x="580" y="300"/>
                  </a:lnTo>
                  <a:lnTo>
                    <a:pt x="627" y="320"/>
                  </a:lnTo>
                  <a:lnTo>
                    <a:pt x="651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3" y="647"/>
                  </a:lnTo>
                  <a:lnTo>
                    <a:pt x="800" y="701"/>
                  </a:lnTo>
                  <a:lnTo>
                    <a:pt x="835" y="727"/>
                  </a:lnTo>
                  <a:lnTo>
                    <a:pt x="842" y="737"/>
                  </a:lnTo>
                  <a:lnTo>
                    <a:pt x="849" y="751"/>
                  </a:lnTo>
                  <a:lnTo>
                    <a:pt x="854" y="768"/>
                  </a:lnTo>
                  <a:lnTo>
                    <a:pt x="854" y="790"/>
                  </a:lnTo>
                  <a:lnTo>
                    <a:pt x="852" y="811"/>
                  </a:lnTo>
                  <a:lnTo>
                    <a:pt x="849" y="827"/>
                  </a:lnTo>
                  <a:lnTo>
                    <a:pt x="844" y="847"/>
                  </a:lnTo>
                  <a:lnTo>
                    <a:pt x="837" y="861"/>
                  </a:lnTo>
                  <a:lnTo>
                    <a:pt x="825" y="869"/>
                  </a:lnTo>
                  <a:lnTo>
                    <a:pt x="817" y="875"/>
                  </a:lnTo>
                  <a:lnTo>
                    <a:pt x="810" y="886"/>
                  </a:lnTo>
                  <a:lnTo>
                    <a:pt x="804" y="890"/>
                  </a:lnTo>
                  <a:lnTo>
                    <a:pt x="796" y="889"/>
                  </a:lnTo>
                  <a:lnTo>
                    <a:pt x="785" y="885"/>
                  </a:lnTo>
                  <a:lnTo>
                    <a:pt x="772" y="876"/>
                  </a:lnTo>
                  <a:lnTo>
                    <a:pt x="758" y="865"/>
                  </a:lnTo>
                  <a:lnTo>
                    <a:pt x="748" y="847"/>
                  </a:lnTo>
                  <a:lnTo>
                    <a:pt x="741" y="831"/>
                  </a:lnTo>
                  <a:lnTo>
                    <a:pt x="735" y="813"/>
                  </a:lnTo>
                  <a:lnTo>
                    <a:pt x="732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30" y="735"/>
                  </a:lnTo>
                  <a:lnTo>
                    <a:pt x="731" y="713"/>
                  </a:lnTo>
                  <a:lnTo>
                    <a:pt x="728" y="696"/>
                  </a:lnTo>
                  <a:lnTo>
                    <a:pt x="675" y="621"/>
                  </a:lnTo>
                  <a:lnTo>
                    <a:pt x="632" y="565"/>
                  </a:lnTo>
                  <a:lnTo>
                    <a:pt x="609" y="525"/>
                  </a:lnTo>
                  <a:lnTo>
                    <a:pt x="599" y="530"/>
                  </a:lnTo>
                  <a:lnTo>
                    <a:pt x="570" y="671"/>
                  </a:lnTo>
                  <a:lnTo>
                    <a:pt x="551" y="783"/>
                  </a:lnTo>
                  <a:lnTo>
                    <a:pt x="579" y="941"/>
                  </a:lnTo>
                  <a:lnTo>
                    <a:pt x="600" y="1051"/>
                  </a:lnTo>
                  <a:lnTo>
                    <a:pt x="634" y="1234"/>
                  </a:lnTo>
                  <a:lnTo>
                    <a:pt x="658" y="1372"/>
                  </a:lnTo>
                  <a:lnTo>
                    <a:pt x="669" y="1383"/>
                  </a:lnTo>
                  <a:lnTo>
                    <a:pt x="687" y="1388"/>
                  </a:lnTo>
                  <a:lnTo>
                    <a:pt x="713" y="1392"/>
                  </a:lnTo>
                  <a:lnTo>
                    <a:pt x="737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4" y="1441"/>
                  </a:lnTo>
                  <a:lnTo>
                    <a:pt x="804" y="1458"/>
                  </a:lnTo>
                  <a:lnTo>
                    <a:pt x="810" y="1475"/>
                  </a:lnTo>
                  <a:lnTo>
                    <a:pt x="814" y="1493"/>
                  </a:lnTo>
                  <a:lnTo>
                    <a:pt x="532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6" y="1234"/>
                  </a:lnTo>
                  <a:lnTo>
                    <a:pt x="323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1" y="1409"/>
                  </a:lnTo>
                  <a:lnTo>
                    <a:pt x="125" y="1397"/>
                  </a:lnTo>
                  <a:lnTo>
                    <a:pt x="151" y="1389"/>
                  </a:lnTo>
                  <a:lnTo>
                    <a:pt x="183" y="1382"/>
                  </a:lnTo>
                  <a:lnTo>
                    <a:pt x="201" y="1364"/>
                  </a:lnTo>
                  <a:lnTo>
                    <a:pt x="227" y="1234"/>
                  </a:lnTo>
                  <a:lnTo>
                    <a:pt x="261" y="1051"/>
                  </a:lnTo>
                  <a:lnTo>
                    <a:pt x="279" y="941"/>
                  </a:lnTo>
                  <a:lnTo>
                    <a:pt x="306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7" y="525"/>
                  </a:lnTo>
                  <a:lnTo>
                    <a:pt x="232" y="548"/>
                  </a:lnTo>
                  <a:lnTo>
                    <a:pt x="201" y="594"/>
                  </a:lnTo>
                  <a:lnTo>
                    <a:pt x="169" y="638"/>
                  </a:lnTo>
                  <a:lnTo>
                    <a:pt x="125" y="699"/>
                  </a:lnTo>
                  <a:lnTo>
                    <a:pt x="123" y="718"/>
                  </a:lnTo>
                  <a:lnTo>
                    <a:pt x="125" y="737"/>
                  </a:lnTo>
                  <a:lnTo>
                    <a:pt x="128" y="755"/>
                  </a:lnTo>
                  <a:lnTo>
                    <a:pt x="125" y="782"/>
                  </a:lnTo>
                  <a:lnTo>
                    <a:pt x="120" y="810"/>
                  </a:lnTo>
                  <a:lnTo>
                    <a:pt x="110" y="841"/>
                  </a:lnTo>
                  <a:lnTo>
                    <a:pt x="103" y="855"/>
                  </a:lnTo>
                  <a:lnTo>
                    <a:pt x="94" y="865"/>
                  </a:lnTo>
                  <a:lnTo>
                    <a:pt x="85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7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4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6" y="745"/>
                  </a:lnTo>
                  <a:lnTo>
                    <a:pt x="18" y="728"/>
                  </a:lnTo>
                  <a:lnTo>
                    <a:pt x="37" y="716"/>
                  </a:lnTo>
                  <a:lnTo>
                    <a:pt x="54" y="701"/>
                  </a:lnTo>
                  <a:lnTo>
                    <a:pt x="86" y="656"/>
                  </a:lnTo>
                  <a:lnTo>
                    <a:pt x="130" y="586"/>
                  </a:lnTo>
                  <a:lnTo>
                    <a:pt x="145" y="548"/>
                  </a:lnTo>
                  <a:lnTo>
                    <a:pt x="162" y="485"/>
                  </a:lnTo>
                  <a:lnTo>
                    <a:pt x="179" y="428"/>
                  </a:lnTo>
                  <a:lnTo>
                    <a:pt x="206" y="358"/>
                  </a:lnTo>
                  <a:lnTo>
                    <a:pt x="228" y="320"/>
                  </a:lnTo>
                  <a:lnTo>
                    <a:pt x="278" y="300"/>
                  </a:lnTo>
                  <a:lnTo>
                    <a:pt x="337" y="285"/>
                  </a:lnTo>
                  <a:lnTo>
                    <a:pt x="361" y="261"/>
                  </a:lnTo>
                  <a:lnTo>
                    <a:pt x="373" y="2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874200">
              <a:off x="7634160" y="5445000"/>
              <a:ext cx="373680" cy="65304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2" y="228"/>
                  </a:moveTo>
                  <a:lnTo>
                    <a:pt x="359" y="223"/>
                  </a:lnTo>
                  <a:lnTo>
                    <a:pt x="344" y="211"/>
                  </a:lnTo>
                  <a:lnTo>
                    <a:pt x="333" y="201"/>
                  </a:lnTo>
                  <a:lnTo>
                    <a:pt x="323" y="190"/>
                  </a:lnTo>
                  <a:lnTo>
                    <a:pt x="316" y="177"/>
                  </a:lnTo>
                  <a:lnTo>
                    <a:pt x="310" y="165"/>
                  </a:lnTo>
                  <a:lnTo>
                    <a:pt x="305" y="152"/>
                  </a:lnTo>
                  <a:lnTo>
                    <a:pt x="303" y="135"/>
                  </a:lnTo>
                  <a:lnTo>
                    <a:pt x="302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6" y="65"/>
                  </a:lnTo>
                  <a:lnTo>
                    <a:pt x="324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1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57" y="6"/>
                  </a:lnTo>
                  <a:lnTo>
                    <a:pt x="475" y="13"/>
                  </a:lnTo>
                  <a:lnTo>
                    <a:pt x="488" y="20"/>
                  </a:lnTo>
                  <a:lnTo>
                    <a:pt x="500" y="30"/>
                  </a:lnTo>
                  <a:lnTo>
                    <a:pt x="513" y="41"/>
                  </a:lnTo>
                  <a:lnTo>
                    <a:pt x="521" y="52"/>
                  </a:lnTo>
                  <a:lnTo>
                    <a:pt x="531" y="68"/>
                  </a:lnTo>
                  <a:lnTo>
                    <a:pt x="537" y="82"/>
                  </a:lnTo>
                  <a:lnTo>
                    <a:pt x="541" y="97"/>
                  </a:lnTo>
                  <a:lnTo>
                    <a:pt x="544" y="116"/>
                  </a:lnTo>
                  <a:lnTo>
                    <a:pt x="543" y="131"/>
                  </a:lnTo>
                  <a:lnTo>
                    <a:pt x="540" y="151"/>
                  </a:lnTo>
                  <a:lnTo>
                    <a:pt x="534" y="166"/>
                  </a:lnTo>
                  <a:lnTo>
                    <a:pt x="530" y="179"/>
                  </a:lnTo>
                  <a:lnTo>
                    <a:pt x="520" y="193"/>
                  </a:lnTo>
                  <a:lnTo>
                    <a:pt x="512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9" y="285"/>
                  </a:lnTo>
                  <a:lnTo>
                    <a:pt x="581" y="300"/>
                  </a:lnTo>
                  <a:lnTo>
                    <a:pt x="627" y="320"/>
                  </a:lnTo>
                  <a:lnTo>
                    <a:pt x="650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2" y="647"/>
                  </a:lnTo>
                  <a:lnTo>
                    <a:pt x="799" y="701"/>
                  </a:lnTo>
                  <a:lnTo>
                    <a:pt x="834" y="727"/>
                  </a:lnTo>
                  <a:lnTo>
                    <a:pt x="843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4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3" y="847"/>
                  </a:lnTo>
                  <a:lnTo>
                    <a:pt x="835" y="861"/>
                  </a:lnTo>
                  <a:lnTo>
                    <a:pt x="826" y="869"/>
                  </a:lnTo>
                  <a:lnTo>
                    <a:pt x="816" y="875"/>
                  </a:lnTo>
                  <a:lnTo>
                    <a:pt x="809" y="886"/>
                  </a:lnTo>
                  <a:lnTo>
                    <a:pt x="803" y="890"/>
                  </a:lnTo>
                  <a:lnTo>
                    <a:pt x="795" y="889"/>
                  </a:lnTo>
                  <a:lnTo>
                    <a:pt x="783" y="885"/>
                  </a:lnTo>
                  <a:lnTo>
                    <a:pt x="771" y="876"/>
                  </a:lnTo>
                  <a:lnTo>
                    <a:pt x="758" y="865"/>
                  </a:lnTo>
                  <a:lnTo>
                    <a:pt x="747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28" y="735"/>
                  </a:lnTo>
                  <a:lnTo>
                    <a:pt x="730" y="713"/>
                  </a:lnTo>
                  <a:lnTo>
                    <a:pt x="728" y="696"/>
                  </a:lnTo>
                  <a:lnTo>
                    <a:pt x="674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50" y="783"/>
                  </a:lnTo>
                  <a:lnTo>
                    <a:pt x="579" y="941"/>
                  </a:lnTo>
                  <a:lnTo>
                    <a:pt x="599" y="1051"/>
                  </a:lnTo>
                  <a:lnTo>
                    <a:pt x="633" y="1234"/>
                  </a:lnTo>
                  <a:lnTo>
                    <a:pt x="658" y="1372"/>
                  </a:lnTo>
                  <a:lnTo>
                    <a:pt x="668" y="1383"/>
                  </a:lnTo>
                  <a:lnTo>
                    <a:pt x="686" y="1388"/>
                  </a:lnTo>
                  <a:lnTo>
                    <a:pt x="712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9" y="1475"/>
                  </a:lnTo>
                  <a:lnTo>
                    <a:pt x="813" y="1493"/>
                  </a:lnTo>
                  <a:lnTo>
                    <a:pt x="533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5" y="1234"/>
                  </a:lnTo>
                  <a:lnTo>
                    <a:pt x="321" y="1495"/>
                  </a:lnTo>
                  <a:lnTo>
                    <a:pt x="43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4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50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6" y="1234"/>
                  </a:lnTo>
                  <a:lnTo>
                    <a:pt x="259" y="1051"/>
                  </a:lnTo>
                  <a:lnTo>
                    <a:pt x="278" y="941"/>
                  </a:lnTo>
                  <a:lnTo>
                    <a:pt x="305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8" y="638"/>
                  </a:lnTo>
                  <a:lnTo>
                    <a:pt x="124" y="699"/>
                  </a:lnTo>
                  <a:lnTo>
                    <a:pt x="123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9" y="841"/>
                  </a:lnTo>
                  <a:lnTo>
                    <a:pt x="102" y="855"/>
                  </a:lnTo>
                  <a:lnTo>
                    <a:pt x="93" y="865"/>
                  </a:lnTo>
                  <a:lnTo>
                    <a:pt x="85" y="875"/>
                  </a:lnTo>
                  <a:lnTo>
                    <a:pt x="74" y="883"/>
                  </a:lnTo>
                  <a:lnTo>
                    <a:pt x="64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8" y="875"/>
                  </a:lnTo>
                  <a:lnTo>
                    <a:pt x="26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6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2" y="766"/>
                  </a:lnTo>
                  <a:lnTo>
                    <a:pt x="7" y="745"/>
                  </a:lnTo>
                  <a:lnTo>
                    <a:pt x="19" y="728"/>
                  </a:lnTo>
                  <a:lnTo>
                    <a:pt x="37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4" y="548"/>
                  </a:lnTo>
                  <a:lnTo>
                    <a:pt x="161" y="485"/>
                  </a:lnTo>
                  <a:lnTo>
                    <a:pt x="178" y="428"/>
                  </a:lnTo>
                  <a:lnTo>
                    <a:pt x="206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874200">
              <a:off x="7131600" y="6288120"/>
              <a:ext cx="1320480" cy="74160"/>
            </a:xfrm>
            <a:custGeom>
              <a:avLst/>
              <a:gdLst/>
              <a:ahLst/>
              <a:rect l="l" t="t" r="r" b="b"/>
              <a:pathLst>
                <a:path w="3020" h="172">
                  <a:moveTo>
                    <a:pt x="0" y="0"/>
                  </a:moveTo>
                  <a:lnTo>
                    <a:pt x="2941" y="0"/>
                  </a:lnTo>
                  <a:lnTo>
                    <a:pt x="3020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8CE-FFCD-400D-B712-56E9DB49BB18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8874200">
            <a:off x="8305560" y="5271840"/>
            <a:ext cx="546120" cy="52056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19920"/>
            <a:ext cx="533520" cy="533160"/>
          </a:xfrm>
          <a:custGeom>
            <a:avLst/>
            <a:gdLst>
              <a:gd name="textAreaLeft" fmla="*/ 90360 w 533520"/>
              <a:gd name="textAreaRight" fmla="*/ 443160 w 533520"/>
              <a:gd name="textAreaTop" fmla="*/ 90360 h 533160"/>
              <a:gd name="textAreaBottom" fmla="*/ 4428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7951" y="3664"/>
                </a:lnTo>
                <a:lnTo>
                  <a:pt x="3664" y="3664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7951" y="17936"/>
                </a:lnTo>
                <a:lnTo>
                  <a:pt x="17951" y="3664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17951" y="17936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21615" h="21600">
                <a:moveTo>
                  <a:pt x="13463" y="10800"/>
                </a:moveTo>
                <a:lnTo>
                  <a:pt x="5488" y="16119"/>
                </a:lnTo>
                <a:lnTo>
                  <a:pt x="5488" y="5481"/>
                </a:lnTo>
                <a:close/>
              </a:path>
              <a:path fill="darken" w="21615" h="21600">
                <a:moveTo>
                  <a:pt x="14864" y="5481"/>
                </a:moveTo>
                <a:lnTo>
                  <a:pt x="14864" y="16119"/>
                </a:lnTo>
                <a:lnTo>
                  <a:pt x="16126" y="16119"/>
                </a:lnTo>
                <a:lnTo>
                  <a:pt x="16126" y="5481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912-C6B9-485D-A9C2-BBB32234319C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35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20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6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6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5400000">
            <a:off x="-3276720" y="3276360"/>
            <a:ext cx="6858000" cy="30492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52280" y="1752120"/>
            <a:ext cx="856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3366cc"/>
                </a:solidFill>
                <a:latin typeface="BlackChancery"/>
              </a:rPr>
              <a:t>Centre informatique </a:t>
            </a:r>
            <a:br>
              <a:rPr sz="4400"/>
            </a:br>
            <a:r>
              <a:rPr b="0" i="1" lang="fr-CA" sz="4400" spc="-1" strike="noStrike">
                <a:solidFill>
                  <a:srgbClr val="3366cc"/>
                </a:solidFill>
                <a:latin typeface="BlackChancery"/>
              </a:rPr>
              <a:t>                           Couper/Coller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4038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7c80"/>
                </a:solidFill>
                <a:latin typeface="BlackChancery"/>
              </a:rPr>
              <a:t>Gestion du centre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1480" y="390600"/>
            <a:ext cx="2962080" cy="1665000"/>
            <a:chOff x="5181480" y="390600"/>
            <a:chExt cx="2962080" cy="1665000"/>
          </a:xfrm>
        </p:grpSpPr>
        <p:sp>
          <p:nvSpPr>
            <p:cNvPr id="127" name=""/>
            <p:cNvSpPr/>
            <p:nvPr/>
          </p:nvSpPr>
          <p:spPr>
            <a:xfrm>
              <a:off x="7165800" y="1325160"/>
              <a:ext cx="577080" cy="730440"/>
            </a:xfrm>
            <a:custGeom>
              <a:avLst/>
              <a:gdLst/>
              <a:ahLst/>
              <a:rect l="l" t="t" r="r" b="b"/>
              <a:pathLst>
                <a:path w="915" h="1161">
                  <a:moveTo>
                    <a:pt x="0" y="0"/>
                  </a:moveTo>
                  <a:lnTo>
                    <a:pt x="915" y="1036"/>
                  </a:lnTo>
                  <a:lnTo>
                    <a:pt x="862" y="1161"/>
                  </a:lnTo>
                  <a:lnTo>
                    <a:pt x="0" y="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4160" y="988920"/>
              <a:ext cx="869400" cy="826200"/>
            </a:xfrm>
            <a:custGeom>
              <a:avLst/>
              <a:gdLst/>
              <a:ahLst/>
              <a:rect l="l" t="t" r="r" b="b"/>
              <a:pathLst>
                <a:path w="1380" h="1311">
                  <a:moveTo>
                    <a:pt x="1024" y="120"/>
                  </a:moveTo>
                  <a:lnTo>
                    <a:pt x="1088" y="146"/>
                  </a:lnTo>
                  <a:lnTo>
                    <a:pt x="1115" y="162"/>
                  </a:lnTo>
                  <a:lnTo>
                    <a:pt x="1145" y="151"/>
                  </a:lnTo>
                  <a:lnTo>
                    <a:pt x="1141" y="128"/>
                  </a:lnTo>
                  <a:lnTo>
                    <a:pt x="1141" y="104"/>
                  </a:lnTo>
                  <a:lnTo>
                    <a:pt x="1146" y="79"/>
                  </a:lnTo>
                  <a:lnTo>
                    <a:pt x="1157" y="58"/>
                  </a:lnTo>
                  <a:lnTo>
                    <a:pt x="1170" y="41"/>
                  </a:lnTo>
                  <a:lnTo>
                    <a:pt x="1187" y="24"/>
                  </a:lnTo>
                  <a:lnTo>
                    <a:pt x="1204" y="13"/>
                  </a:lnTo>
                  <a:lnTo>
                    <a:pt x="1228" y="4"/>
                  </a:lnTo>
                  <a:lnTo>
                    <a:pt x="1249" y="0"/>
                  </a:lnTo>
                  <a:lnTo>
                    <a:pt x="1270" y="0"/>
                  </a:lnTo>
                  <a:lnTo>
                    <a:pt x="1287" y="3"/>
                  </a:lnTo>
                  <a:lnTo>
                    <a:pt x="1305" y="8"/>
                  </a:lnTo>
                  <a:lnTo>
                    <a:pt x="1318" y="14"/>
                  </a:lnTo>
                  <a:lnTo>
                    <a:pt x="1334" y="25"/>
                  </a:lnTo>
                  <a:lnTo>
                    <a:pt x="1346" y="36"/>
                  </a:lnTo>
                  <a:lnTo>
                    <a:pt x="1360" y="53"/>
                  </a:lnTo>
                  <a:lnTo>
                    <a:pt x="1370" y="72"/>
                  </a:lnTo>
                  <a:lnTo>
                    <a:pt x="1376" y="90"/>
                  </a:lnTo>
                  <a:lnTo>
                    <a:pt x="1380" y="111"/>
                  </a:lnTo>
                  <a:lnTo>
                    <a:pt x="1380" y="129"/>
                  </a:lnTo>
                  <a:lnTo>
                    <a:pt x="1377" y="149"/>
                  </a:lnTo>
                  <a:lnTo>
                    <a:pt x="1370" y="166"/>
                  </a:lnTo>
                  <a:lnTo>
                    <a:pt x="1363" y="182"/>
                  </a:lnTo>
                  <a:lnTo>
                    <a:pt x="1353" y="194"/>
                  </a:lnTo>
                  <a:lnTo>
                    <a:pt x="1341" y="208"/>
                  </a:lnTo>
                  <a:lnTo>
                    <a:pt x="1328" y="220"/>
                  </a:lnTo>
                  <a:lnTo>
                    <a:pt x="1311" y="229"/>
                  </a:lnTo>
                  <a:lnTo>
                    <a:pt x="1295" y="235"/>
                  </a:lnTo>
                  <a:lnTo>
                    <a:pt x="1279" y="239"/>
                  </a:lnTo>
                  <a:lnTo>
                    <a:pt x="1262" y="239"/>
                  </a:lnTo>
                  <a:lnTo>
                    <a:pt x="1248" y="239"/>
                  </a:lnTo>
                  <a:lnTo>
                    <a:pt x="1232" y="236"/>
                  </a:lnTo>
                  <a:lnTo>
                    <a:pt x="1219" y="262"/>
                  </a:lnTo>
                  <a:lnTo>
                    <a:pt x="1231" y="296"/>
                  </a:lnTo>
                  <a:lnTo>
                    <a:pt x="1255" y="336"/>
                  </a:lnTo>
                  <a:lnTo>
                    <a:pt x="1269" y="394"/>
                  </a:lnTo>
                  <a:lnTo>
                    <a:pt x="1253" y="441"/>
                  </a:lnTo>
                  <a:lnTo>
                    <a:pt x="1219" y="503"/>
                  </a:lnTo>
                  <a:lnTo>
                    <a:pt x="1176" y="569"/>
                  </a:lnTo>
                  <a:lnTo>
                    <a:pt x="1135" y="644"/>
                  </a:lnTo>
                  <a:lnTo>
                    <a:pt x="1114" y="708"/>
                  </a:lnTo>
                  <a:lnTo>
                    <a:pt x="1097" y="780"/>
                  </a:lnTo>
                  <a:lnTo>
                    <a:pt x="1101" y="799"/>
                  </a:lnTo>
                  <a:lnTo>
                    <a:pt x="1101" y="817"/>
                  </a:lnTo>
                  <a:lnTo>
                    <a:pt x="1098" y="834"/>
                  </a:lnTo>
                  <a:lnTo>
                    <a:pt x="1090" y="848"/>
                  </a:lnTo>
                  <a:lnTo>
                    <a:pt x="1080" y="862"/>
                  </a:lnTo>
                  <a:lnTo>
                    <a:pt x="1067" y="876"/>
                  </a:lnTo>
                  <a:lnTo>
                    <a:pt x="1052" y="890"/>
                  </a:lnTo>
                  <a:lnTo>
                    <a:pt x="1032" y="901"/>
                  </a:lnTo>
                  <a:lnTo>
                    <a:pt x="1012" y="907"/>
                  </a:lnTo>
                  <a:lnTo>
                    <a:pt x="997" y="908"/>
                  </a:lnTo>
                  <a:lnTo>
                    <a:pt x="983" y="907"/>
                  </a:lnTo>
                  <a:lnTo>
                    <a:pt x="969" y="900"/>
                  </a:lnTo>
                  <a:lnTo>
                    <a:pt x="959" y="889"/>
                  </a:lnTo>
                  <a:lnTo>
                    <a:pt x="955" y="872"/>
                  </a:lnTo>
                  <a:lnTo>
                    <a:pt x="955" y="853"/>
                  </a:lnTo>
                  <a:lnTo>
                    <a:pt x="956" y="832"/>
                  </a:lnTo>
                  <a:lnTo>
                    <a:pt x="962" y="814"/>
                  </a:lnTo>
                  <a:lnTo>
                    <a:pt x="970" y="794"/>
                  </a:lnTo>
                  <a:lnTo>
                    <a:pt x="977" y="779"/>
                  </a:lnTo>
                  <a:lnTo>
                    <a:pt x="984" y="766"/>
                  </a:lnTo>
                  <a:lnTo>
                    <a:pt x="994" y="759"/>
                  </a:lnTo>
                  <a:lnTo>
                    <a:pt x="1005" y="756"/>
                  </a:lnTo>
                  <a:lnTo>
                    <a:pt x="1025" y="749"/>
                  </a:lnTo>
                  <a:lnTo>
                    <a:pt x="1042" y="737"/>
                  </a:lnTo>
                  <a:lnTo>
                    <a:pt x="1053" y="722"/>
                  </a:lnTo>
                  <a:lnTo>
                    <a:pt x="1101" y="515"/>
                  </a:lnTo>
                  <a:lnTo>
                    <a:pt x="1088" y="510"/>
                  </a:lnTo>
                  <a:lnTo>
                    <a:pt x="884" y="620"/>
                  </a:lnTo>
                  <a:lnTo>
                    <a:pt x="822" y="693"/>
                  </a:lnTo>
                  <a:lnTo>
                    <a:pt x="719" y="831"/>
                  </a:lnTo>
                  <a:lnTo>
                    <a:pt x="608" y="976"/>
                  </a:lnTo>
                  <a:lnTo>
                    <a:pt x="498" y="1120"/>
                  </a:lnTo>
                  <a:lnTo>
                    <a:pt x="498" y="1142"/>
                  </a:lnTo>
                  <a:lnTo>
                    <a:pt x="514" y="1156"/>
                  </a:lnTo>
                  <a:lnTo>
                    <a:pt x="527" y="1173"/>
                  </a:lnTo>
                  <a:lnTo>
                    <a:pt x="534" y="1193"/>
                  </a:lnTo>
                  <a:lnTo>
                    <a:pt x="538" y="1211"/>
                  </a:lnTo>
                  <a:lnTo>
                    <a:pt x="541" y="1234"/>
                  </a:lnTo>
                  <a:lnTo>
                    <a:pt x="539" y="1256"/>
                  </a:lnTo>
                  <a:lnTo>
                    <a:pt x="534" y="1277"/>
                  </a:lnTo>
                  <a:lnTo>
                    <a:pt x="525" y="1296"/>
                  </a:lnTo>
                  <a:lnTo>
                    <a:pt x="514" y="1311"/>
                  </a:lnTo>
                  <a:lnTo>
                    <a:pt x="311" y="1099"/>
                  </a:lnTo>
                  <a:lnTo>
                    <a:pt x="590" y="727"/>
                  </a:lnTo>
                  <a:lnTo>
                    <a:pt x="207" y="965"/>
                  </a:lnTo>
                  <a:lnTo>
                    <a:pt x="0" y="728"/>
                  </a:lnTo>
                  <a:lnTo>
                    <a:pt x="24" y="717"/>
                  </a:lnTo>
                  <a:lnTo>
                    <a:pt x="48" y="711"/>
                  </a:lnTo>
                  <a:lnTo>
                    <a:pt x="66" y="710"/>
                  </a:lnTo>
                  <a:lnTo>
                    <a:pt x="86" y="713"/>
                  </a:lnTo>
                  <a:lnTo>
                    <a:pt x="108" y="721"/>
                  </a:lnTo>
                  <a:lnTo>
                    <a:pt x="129" y="731"/>
                  </a:lnTo>
                  <a:lnTo>
                    <a:pt x="153" y="745"/>
                  </a:lnTo>
                  <a:lnTo>
                    <a:pt x="176" y="762"/>
                  </a:lnTo>
                  <a:lnTo>
                    <a:pt x="203" y="762"/>
                  </a:lnTo>
                  <a:lnTo>
                    <a:pt x="366" y="669"/>
                  </a:lnTo>
                  <a:lnTo>
                    <a:pt x="490" y="596"/>
                  </a:lnTo>
                  <a:lnTo>
                    <a:pt x="646" y="507"/>
                  </a:lnTo>
                  <a:lnTo>
                    <a:pt x="718" y="452"/>
                  </a:lnTo>
                  <a:lnTo>
                    <a:pt x="848" y="239"/>
                  </a:lnTo>
                  <a:lnTo>
                    <a:pt x="653" y="266"/>
                  </a:lnTo>
                  <a:lnTo>
                    <a:pt x="636" y="279"/>
                  </a:lnTo>
                  <a:lnTo>
                    <a:pt x="621" y="293"/>
                  </a:lnTo>
                  <a:lnTo>
                    <a:pt x="608" y="308"/>
                  </a:lnTo>
                  <a:lnTo>
                    <a:pt x="593" y="321"/>
                  </a:lnTo>
                  <a:lnTo>
                    <a:pt x="574" y="332"/>
                  </a:lnTo>
                  <a:lnTo>
                    <a:pt x="555" y="342"/>
                  </a:lnTo>
                  <a:lnTo>
                    <a:pt x="535" y="349"/>
                  </a:lnTo>
                  <a:lnTo>
                    <a:pt x="517" y="353"/>
                  </a:lnTo>
                  <a:lnTo>
                    <a:pt x="497" y="355"/>
                  </a:lnTo>
                  <a:lnTo>
                    <a:pt x="476" y="352"/>
                  </a:lnTo>
                  <a:lnTo>
                    <a:pt x="463" y="346"/>
                  </a:lnTo>
                  <a:lnTo>
                    <a:pt x="455" y="339"/>
                  </a:lnTo>
                  <a:lnTo>
                    <a:pt x="453" y="331"/>
                  </a:lnTo>
                  <a:lnTo>
                    <a:pt x="459" y="321"/>
                  </a:lnTo>
                  <a:lnTo>
                    <a:pt x="460" y="308"/>
                  </a:lnTo>
                  <a:lnTo>
                    <a:pt x="462" y="293"/>
                  </a:lnTo>
                  <a:lnTo>
                    <a:pt x="466" y="277"/>
                  </a:lnTo>
                  <a:lnTo>
                    <a:pt x="476" y="259"/>
                  </a:lnTo>
                  <a:lnTo>
                    <a:pt x="488" y="245"/>
                  </a:lnTo>
                  <a:lnTo>
                    <a:pt x="504" y="232"/>
                  </a:lnTo>
                  <a:lnTo>
                    <a:pt x="522" y="221"/>
                  </a:lnTo>
                  <a:lnTo>
                    <a:pt x="541" y="211"/>
                  </a:lnTo>
                  <a:lnTo>
                    <a:pt x="560" y="208"/>
                  </a:lnTo>
                  <a:lnTo>
                    <a:pt x="580" y="213"/>
                  </a:lnTo>
                  <a:lnTo>
                    <a:pt x="598" y="218"/>
                  </a:lnTo>
                  <a:lnTo>
                    <a:pt x="663" y="211"/>
                  </a:lnTo>
                  <a:lnTo>
                    <a:pt x="742" y="190"/>
                  </a:lnTo>
                  <a:lnTo>
                    <a:pt x="834" y="153"/>
                  </a:lnTo>
                  <a:lnTo>
                    <a:pt x="911" y="115"/>
                  </a:lnTo>
                  <a:lnTo>
                    <a:pt x="974" y="98"/>
                  </a:lnTo>
                  <a:lnTo>
                    <a:pt x="1024" y="12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935400" y="512640"/>
              <a:ext cx="396360" cy="1037160"/>
              <a:chOff x="6935400" y="512640"/>
              <a:chExt cx="396360" cy="1037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999480" y="687600"/>
                <a:ext cx="250920" cy="862200"/>
                <a:chOff x="6999480" y="687600"/>
                <a:chExt cx="250920" cy="862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010640" y="707400"/>
                  <a:ext cx="187200" cy="751680"/>
                </a:xfrm>
                <a:custGeom>
                  <a:avLst/>
                  <a:gdLst/>
                  <a:ahLst/>
                  <a:rect l="l" t="t" r="r" b="b"/>
                  <a:pathLst>
                    <a:path w="299" h="1193">
                      <a:moveTo>
                        <a:pt x="0" y="1193"/>
                      </a:moveTo>
                      <a:lnTo>
                        <a:pt x="108" y="850"/>
                      </a:lnTo>
                      <a:lnTo>
                        <a:pt x="261" y="269"/>
                      </a:lnTo>
                      <a:lnTo>
                        <a:pt x="299" y="86"/>
                      </a:lnTo>
                      <a:lnTo>
                        <a:pt x="265" y="0"/>
                      </a:lnTo>
                      <a:lnTo>
                        <a:pt x="240" y="106"/>
                      </a:lnTo>
                      <a:lnTo>
                        <a:pt x="206" y="172"/>
                      </a:lnTo>
                      <a:lnTo>
                        <a:pt x="160" y="236"/>
                      </a:lnTo>
                      <a:lnTo>
                        <a:pt x="65" y="648"/>
                      </a:lnTo>
                      <a:lnTo>
                        <a:pt x="10" y="964"/>
                      </a:lnTo>
                      <a:lnTo>
                        <a:pt x="0" y="119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99480" y="727560"/>
                  <a:ext cx="208800" cy="798120"/>
                </a:xfrm>
                <a:custGeom>
                  <a:avLst/>
                  <a:gdLst/>
                  <a:ahLst/>
                  <a:rect l="l" t="t" r="r" b="b"/>
                  <a:pathLst>
                    <a:path w="332" h="1269">
                      <a:moveTo>
                        <a:pt x="0" y="1269"/>
                      </a:moveTo>
                      <a:lnTo>
                        <a:pt x="140" y="840"/>
                      </a:lnTo>
                      <a:lnTo>
                        <a:pt x="294" y="261"/>
                      </a:lnTo>
                      <a:lnTo>
                        <a:pt x="332" y="85"/>
                      </a:lnTo>
                      <a:lnTo>
                        <a:pt x="264" y="0"/>
                      </a:lnTo>
                      <a:lnTo>
                        <a:pt x="270" y="102"/>
                      </a:lnTo>
                      <a:lnTo>
                        <a:pt x="240" y="162"/>
                      </a:lnTo>
                      <a:lnTo>
                        <a:pt x="176" y="227"/>
                      </a:lnTo>
                      <a:lnTo>
                        <a:pt x="86" y="644"/>
                      </a:lnTo>
                      <a:lnTo>
                        <a:pt x="26" y="962"/>
                      </a:lnTo>
                      <a:lnTo>
                        <a:pt x="5" y="1162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082280" y="687600"/>
                  <a:ext cx="168120" cy="862200"/>
                  <a:chOff x="7082280" y="687600"/>
                  <a:chExt cx="168120" cy="86220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7082280" y="687600"/>
                    <a:ext cx="168120" cy="862200"/>
                    <a:chOff x="7082280" y="687600"/>
                    <a:chExt cx="168120" cy="86220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7082280" y="687600"/>
                      <a:ext cx="168120" cy="862200"/>
                      <a:chOff x="7082280" y="687600"/>
                      <a:chExt cx="168120" cy="862200"/>
                    </a:xfrm>
                  </p:grpSpPr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7085880" y="687600"/>
                        <a:ext cx="164520" cy="81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1299">
                            <a:moveTo>
                              <a:pt x="4" y="120"/>
                            </a:moveTo>
                            <a:lnTo>
                              <a:pt x="234" y="1299"/>
                            </a:lnTo>
                            <a:lnTo>
                              <a:pt x="264" y="1203"/>
                            </a:lnTo>
                            <a:lnTo>
                              <a:pt x="259" y="1052"/>
                            </a:lnTo>
                            <a:lnTo>
                              <a:pt x="240" y="868"/>
                            </a:lnTo>
                            <a:lnTo>
                              <a:pt x="180" y="545"/>
                            </a:lnTo>
                            <a:lnTo>
                              <a:pt x="131" y="241"/>
                            </a:lnTo>
                            <a:lnTo>
                              <a:pt x="104" y="215"/>
                            </a:lnTo>
                            <a:lnTo>
                              <a:pt x="64" y="180"/>
                            </a:lnTo>
                            <a:lnTo>
                              <a:pt x="0" y="0"/>
                            </a:lnTo>
                            <a:lnTo>
                              <a:pt x="4" y="12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7082280" y="694800"/>
                        <a:ext cx="163080" cy="85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1356">
                            <a:moveTo>
                              <a:pt x="0" y="124"/>
                            </a:moveTo>
                            <a:lnTo>
                              <a:pt x="218" y="1356"/>
                            </a:lnTo>
                            <a:lnTo>
                              <a:pt x="260" y="1205"/>
                            </a:lnTo>
                            <a:lnTo>
                              <a:pt x="256" y="1056"/>
                            </a:lnTo>
                            <a:lnTo>
                              <a:pt x="236" y="872"/>
                            </a:lnTo>
                            <a:lnTo>
                              <a:pt x="177" y="549"/>
                            </a:lnTo>
                            <a:lnTo>
                              <a:pt x="128" y="245"/>
                            </a:lnTo>
                            <a:lnTo>
                              <a:pt x="100" y="219"/>
                            </a:lnTo>
                            <a:lnTo>
                              <a:pt x="60" y="187"/>
                            </a:lnTo>
                            <a:lnTo>
                              <a:pt x="11" y="0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7095960" y="811800"/>
                        <a:ext cx="149400" cy="64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1019">
                            <a:moveTo>
                              <a:pt x="0" y="71"/>
                            </a:moveTo>
                            <a:lnTo>
                              <a:pt x="27" y="214"/>
                            </a:lnTo>
                            <a:lnTo>
                              <a:pt x="110" y="192"/>
                            </a:lnTo>
                            <a:lnTo>
                              <a:pt x="140" y="393"/>
                            </a:lnTo>
                            <a:lnTo>
                              <a:pt x="169" y="601"/>
                            </a:lnTo>
                            <a:lnTo>
                              <a:pt x="207" y="807"/>
                            </a:lnTo>
                            <a:lnTo>
                              <a:pt x="238" y="1019"/>
                            </a:lnTo>
                            <a:lnTo>
                              <a:pt x="234" y="869"/>
                            </a:lnTo>
                            <a:lnTo>
                              <a:pt x="214" y="686"/>
                            </a:lnTo>
                            <a:lnTo>
                              <a:pt x="155" y="363"/>
                            </a:lnTo>
                            <a:lnTo>
                              <a:pt x="106" y="59"/>
                            </a:lnTo>
                            <a:lnTo>
                              <a:pt x="78" y="33"/>
                            </a:lnTo>
                            <a:lnTo>
                              <a:pt x="38" y="0"/>
                            </a:lnTo>
                            <a:lnTo>
                              <a:pt x="13" y="35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112160" y="930240"/>
                      <a:ext cx="6660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2">
                          <a:moveTo>
                            <a:pt x="105" y="131"/>
                          </a:moveTo>
                          <a:lnTo>
                            <a:pt x="85" y="7"/>
                          </a:lnTo>
                          <a:lnTo>
                            <a:pt x="2" y="29"/>
                          </a:lnTo>
                          <a:lnTo>
                            <a:pt x="0" y="11"/>
                          </a:lnTo>
                          <a:lnTo>
                            <a:pt x="37" y="17"/>
                          </a:lnTo>
                          <a:lnTo>
                            <a:pt x="93" y="0"/>
                          </a:lnTo>
                          <a:lnTo>
                            <a:pt x="106" y="132"/>
                          </a:lnTo>
                          <a:lnTo>
                            <a:pt x="105" y="13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101000" y="897480"/>
                      <a:ext cx="3384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286">
                          <a:moveTo>
                            <a:pt x="53" y="286"/>
                          </a:moveTo>
                          <a:lnTo>
                            <a:pt x="29" y="145"/>
                          </a:lnTo>
                          <a:lnTo>
                            <a:pt x="15" y="65"/>
                          </a:lnTo>
                          <a:lnTo>
                            <a:pt x="4" y="0"/>
                          </a:lnTo>
                          <a:lnTo>
                            <a:pt x="0" y="24"/>
                          </a:lnTo>
                          <a:lnTo>
                            <a:pt x="53" y="28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7107120" y="847440"/>
                    <a:ext cx="53640" cy="83880"/>
                    <a:chOff x="7107120" y="847440"/>
                    <a:chExt cx="53640" cy="83880"/>
                  </a:xfrm>
                </p:grpSpPr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7115760" y="883800"/>
                      <a:ext cx="45000" cy="47520"/>
                      <a:chOff x="7115760" y="883800"/>
                      <a:chExt cx="45000" cy="4752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7115760" y="883800"/>
                        <a:ext cx="43560" cy="43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7116840" y="886320"/>
                        <a:ext cx="43920" cy="45000"/>
                      </a:xfrm>
                      <a:prstGeom prst="ellipse">
                        <a:avLst/>
                      </a:pr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7116840" y="884880"/>
                        <a:ext cx="43920" cy="4392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7116840" y="887400"/>
                        <a:ext cx="4032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4533" y="20934"/>
                            </a:moveTo>
                            <a:arcTo wR="10800" hR="10800" stAng="4186864" swAng="641725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533" y="20934"/>
                            </a:moveTo>
                            <a:arcTo wR="10800" hR="10800" stAng="4186864" swAng="6417256"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7119360" y="883800"/>
                        <a:ext cx="396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7487" y="521"/>
                            </a:moveTo>
                            <a:arcTo wR="10800" hR="10800" stAng="-6471741" swAng="599852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7487" y="521"/>
                            </a:moveTo>
                            <a:arcTo wR="10800" hR="10800" stAng="-6471741" swAng="5998528"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7126920" y="889920"/>
                        <a:ext cx="248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59">
                            <a:moveTo>
                              <a:pt x="39" y="54"/>
                            </a:moveTo>
                            <a:lnTo>
                              <a:pt x="8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29" y="59"/>
                            </a:lnTo>
                            <a:lnTo>
                              <a:pt x="34" y="56"/>
                            </a:lnTo>
                            <a:lnTo>
                              <a:pt x="39" y="54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7125480" y="888480"/>
                        <a:ext cx="1620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50">
                            <a:moveTo>
                              <a:pt x="7" y="0"/>
                            </a:moveTo>
                            <a:lnTo>
                              <a:pt x="3" y="4"/>
                            </a:lnTo>
                            <a:lnTo>
                              <a:pt x="25" y="50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7107120" y="847440"/>
                      <a:ext cx="43560" cy="14760"/>
                      <a:chOff x="7107120" y="847440"/>
                      <a:chExt cx="43560" cy="1476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7107120" y="847440"/>
                        <a:ext cx="424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6">
                            <a:moveTo>
                              <a:pt x="68" y="13"/>
                            </a:moveTo>
                            <a:lnTo>
                              <a:pt x="3" y="26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8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7108200" y="847440"/>
                        <a:ext cx="424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4">
                            <a:moveTo>
                              <a:pt x="67" y="12"/>
                            </a:moveTo>
                            <a:lnTo>
                              <a:pt x="1" y="24"/>
                            </a:lnTo>
                            <a:lnTo>
                              <a:pt x="0" y="13"/>
                            </a:lnTo>
                            <a:lnTo>
                              <a:pt x="65" y="0"/>
                            </a:lnTo>
                            <a:lnTo>
                              <a:pt x="67" y="12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6935400" y="551520"/>
                <a:ext cx="186480" cy="304560"/>
                <a:chOff x="6935400" y="551520"/>
                <a:chExt cx="186480" cy="304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935400" y="551520"/>
                  <a:ext cx="186480" cy="304560"/>
                </a:xfrm>
                <a:custGeom>
                  <a:avLst/>
                  <a:gdLst/>
                  <a:ahLst/>
                  <a:rect l="l" t="t" r="r" b="b"/>
                  <a:pathLst>
                    <a:path w="297" h="484">
                      <a:moveTo>
                        <a:pt x="259" y="484"/>
                      </a:moveTo>
                      <a:lnTo>
                        <a:pt x="272" y="448"/>
                      </a:lnTo>
                      <a:lnTo>
                        <a:pt x="297" y="417"/>
                      </a:lnTo>
                      <a:lnTo>
                        <a:pt x="280" y="350"/>
                      </a:lnTo>
                      <a:lnTo>
                        <a:pt x="267" y="303"/>
                      </a:lnTo>
                      <a:lnTo>
                        <a:pt x="259" y="262"/>
                      </a:lnTo>
                      <a:lnTo>
                        <a:pt x="262" y="236"/>
                      </a:lnTo>
                      <a:lnTo>
                        <a:pt x="269" y="209"/>
                      </a:lnTo>
                      <a:lnTo>
                        <a:pt x="272" y="183"/>
                      </a:lnTo>
                      <a:lnTo>
                        <a:pt x="273" y="157"/>
                      </a:lnTo>
                      <a:lnTo>
                        <a:pt x="270" y="131"/>
                      </a:lnTo>
                      <a:lnTo>
                        <a:pt x="267" y="109"/>
                      </a:lnTo>
                      <a:lnTo>
                        <a:pt x="258" y="81"/>
                      </a:lnTo>
                      <a:lnTo>
                        <a:pt x="246" y="54"/>
                      </a:lnTo>
                      <a:lnTo>
                        <a:pt x="229" y="36"/>
                      </a:lnTo>
                      <a:lnTo>
                        <a:pt x="211" y="20"/>
                      </a:lnTo>
                      <a:lnTo>
                        <a:pt x="201" y="14"/>
                      </a:lnTo>
                      <a:lnTo>
                        <a:pt x="189" y="9"/>
                      </a:lnTo>
                      <a:lnTo>
                        <a:pt x="167" y="3"/>
                      </a:lnTo>
                      <a:lnTo>
                        <a:pt x="155" y="2"/>
                      </a:lnTo>
                      <a:lnTo>
                        <a:pt x="142" y="0"/>
                      </a:lnTo>
                      <a:lnTo>
                        <a:pt x="129" y="2"/>
                      </a:lnTo>
                      <a:lnTo>
                        <a:pt x="118" y="2"/>
                      </a:lnTo>
                      <a:lnTo>
                        <a:pt x="105" y="3"/>
                      </a:lnTo>
                      <a:lnTo>
                        <a:pt x="94" y="7"/>
                      </a:lnTo>
                      <a:lnTo>
                        <a:pt x="81" y="12"/>
                      </a:lnTo>
                      <a:lnTo>
                        <a:pt x="72" y="17"/>
                      </a:lnTo>
                      <a:lnTo>
                        <a:pt x="62" y="24"/>
                      </a:lnTo>
                      <a:lnTo>
                        <a:pt x="55" y="30"/>
                      </a:lnTo>
                      <a:lnTo>
                        <a:pt x="43" y="41"/>
                      </a:lnTo>
                      <a:lnTo>
                        <a:pt x="35" y="55"/>
                      </a:lnTo>
                      <a:lnTo>
                        <a:pt x="27" y="68"/>
                      </a:lnTo>
                      <a:lnTo>
                        <a:pt x="21" y="81"/>
                      </a:lnTo>
                      <a:lnTo>
                        <a:pt x="14" y="96"/>
                      </a:lnTo>
                      <a:lnTo>
                        <a:pt x="10" y="110"/>
                      </a:lnTo>
                      <a:lnTo>
                        <a:pt x="3" y="143"/>
                      </a:lnTo>
                      <a:lnTo>
                        <a:pt x="0" y="183"/>
                      </a:lnTo>
                      <a:lnTo>
                        <a:pt x="0" y="200"/>
                      </a:lnTo>
                      <a:lnTo>
                        <a:pt x="52" y="200"/>
                      </a:lnTo>
                      <a:lnTo>
                        <a:pt x="55" y="216"/>
                      </a:lnTo>
                      <a:lnTo>
                        <a:pt x="59" y="236"/>
                      </a:lnTo>
                      <a:lnTo>
                        <a:pt x="62" y="247"/>
                      </a:lnTo>
                      <a:lnTo>
                        <a:pt x="66" y="257"/>
                      </a:lnTo>
                      <a:lnTo>
                        <a:pt x="70" y="269"/>
                      </a:lnTo>
                      <a:lnTo>
                        <a:pt x="76" y="281"/>
                      </a:lnTo>
                      <a:lnTo>
                        <a:pt x="84" y="292"/>
                      </a:lnTo>
                      <a:lnTo>
                        <a:pt x="93" y="303"/>
                      </a:lnTo>
                      <a:lnTo>
                        <a:pt x="104" y="310"/>
                      </a:lnTo>
                      <a:lnTo>
                        <a:pt x="111" y="316"/>
                      </a:lnTo>
                      <a:lnTo>
                        <a:pt x="118" y="319"/>
                      </a:lnTo>
                      <a:lnTo>
                        <a:pt x="125" y="322"/>
                      </a:lnTo>
                      <a:lnTo>
                        <a:pt x="136" y="322"/>
                      </a:lnTo>
                      <a:lnTo>
                        <a:pt x="146" y="320"/>
                      </a:lnTo>
                      <a:lnTo>
                        <a:pt x="155" y="317"/>
                      </a:lnTo>
                      <a:lnTo>
                        <a:pt x="163" y="313"/>
                      </a:lnTo>
                      <a:lnTo>
                        <a:pt x="174" y="307"/>
                      </a:lnTo>
                      <a:lnTo>
                        <a:pt x="187" y="298"/>
                      </a:lnTo>
                      <a:lnTo>
                        <a:pt x="196" y="286"/>
                      </a:lnTo>
                      <a:lnTo>
                        <a:pt x="200" y="278"/>
                      </a:lnTo>
                      <a:lnTo>
                        <a:pt x="205" y="269"/>
                      </a:lnTo>
                      <a:lnTo>
                        <a:pt x="211" y="254"/>
                      </a:lnTo>
                      <a:lnTo>
                        <a:pt x="214" y="236"/>
                      </a:lnTo>
                      <a:lnTo>
                        <a:pt x="217" y="219"/>
                      </a:lnTo>
                      <a:lnTo>
                        <a:pt x="219" y="200"/>
                      </a:lnTo>
                      <a:lnTo>
                        <a:pt x="219" y="183"/>
                      </a:lnTo>
                      <a:lnTo>
                        <a:pt x="221" y="168"/>
                      </a:lnTo>
                      <a:lnTo>
                        <a:pt x="219" y="154"/>
                      </a:lnTo>
                      <a:lnTo>
                        <a:pt x="219" y="143"/>
                      </a:lnTo>
                      <a:lnTo>
                        <a:pt x="217" y="130"/>
                      </a:lnTo>
                      <a:lnTo>
                        <a:pt x="214" y="114"/>
                      </a:lnTo>
                      <a:lnTo>
                        <a:pt x="210" y="100"/>
                      </a:lnTo>
                      <a:lnTo>
                        <a:pt x="204" y="89"/>
                      </a:lnTo>
                      <a:lnTo>
                        <a:pt x="197" y="79"/>
                      </a:lnTo>
                      <a:lnTo>
                        <a:pt x="187" y="69"/>
                      </a:lnTo>
                      <a:lnTo>
                        <a:pt x="176" y="62"/>
                      </a:lnTo>
                      <a:lnTo>
                        <a:pt x="163" y="55"/>
                      </a:lnTo>
                      <a:lnTo>
                        <a:pt x="156" y="54"/>
                      </a:lnTo>
                      <a:lnTo>
                        <a:pt x="145" y="52"/>
                      </a:lnTo>
                      <a:lnTo>
                        <a:pt x="135" y="52"/>
                      </a:lnTo>
                      <a:lnTo>
                        <a:pt x="125" y="52"/>
                      </a:lnTo>
                      <a:lnTo>
                        <a:pt x="119" y="52"/>
                      </a:lnTo>
                      <a:lnTo>
                        <a:pt x="111" y="55"/>
                      </a:lnTo>
                      <a:lnTo>
                        <a:pt x="104" y="60"/>
                      </a:lnTo>
                      <a:lnTo>
                        <a:pt x="94" y="67"/>
                      </a:lnTo>
                      <a:lnTo>
                        <a:pt x="86" y="74"/>
                      </a:lnTo>
                      <a:lnTo>
                        <a:pt x="79" y="82"/>
                      </a:lnTo>
                      <a:lnTo>
                        <a:pt x="73" y="89"/>
                      </a:lnTo>
                      <a:lnTo>
                        <a:pt x="69" y="102"/>
                      </a:lnTo>
                      <a:lnTo>
                        <a:pt x="60" y="124"/>
                      </a:lnTo>
                      <a:lnTo>
                        <a:pt x="56" y="145"/>
                      </a:lnTo>
                      <a:lnTo>
                        <a:pt x="53" y="164"/>
                      </a:lnTo>
                      <a:lnTo>
                        <a:pt x="52" y="185"/>
                      </a:lnTo>
                      <a:lnTo>
                        <a:pt x="52" y="200"/>
                      </a:lnTo>
                      <a:lnTo>
                        <a:pt x="0" y="200"/>
                      </a:lnTo>
                      <a:lnTo>
                        <a:pt x="3" y="216"/>
                      </a:lnTo>
                      <a:lnTo>
                        <a:pt x="7" y="241"/>
                      </a:lnTo>
                      <a:lnTo>
                        <a:pt x="15" y="269"/>
                      </a:lnTo>
                      <a:lnTo>
                        <a:pt x="24" y="289"/>
                      </a:lnTo>
                      <a:lnTo>
                        <a:pt x="28" y="300"/>
                      </a:lnTo>
                      <a:lnTo>
                        <a:pt x="35" y="314"/>
                      </a:lnTo>
                      <a:lnTo>
                        <a:pt x="42" y="326"/>
                      </a:lnTo>
                      <a:lnTo>
                        <a:pt x="50" y="336"/>
                      </a:lnTo>
                      <a:lnTo>
                        <a:pt x="58" y="343"/>
                      </a:lnTo>
                      <a:lnTo>
                        <a:pt x="69" y="351"/>
                      </a:lnTo>
                      <a:lnTo>
                        <a:pt x="81" y="360"/>
                      </a:lnTo>
                      <a:lnTo>
                        <a:pt x="97" y="367"/>
                      </a:lnTo>
                      <a:lnTo>
                        <a:pt x="117" y="371"/>
                      </a:lnTo>
                      <a:lnTo>
                        <a:pt x="135" y="374"/>
                      </a:lnTo>
                      <a:lnTo>
                        <a:pt x="153" y="371"/>
                      </a:lnTo>
                      <a:lnTo>
                        <a:pt x="172" y="365"/>
                      </a:lnTo>
                      <a:lnTo>
                        <a:pt x="187" y="357"/>
                      </a:lnTo>
                      <a:lnTo>
                        <a:pt x="201" y="348"/>
                      </a:lnTo>
                      <a:lnTo>
                        <a:pt x="214" y="338"/>
                      </a:lnTo>
                      <a:lnTo>
                        <a:pt x="219" y="336"/>
                      </a:lnTo>
                      <a:lnTo>
                        <a:pt x="228" y="338"/>
                      </a:lnTo>
                      <a:lnTo>
                        <a:pt x="232" y="344"/>
                      </a:lnTo>
                      <a:lnTo>
                        <a:pt x="236" y="355"/>
                      </a:lnTo>
                      <a:lnTo>
                        <a:pt x="259" y="48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953040" y="682200"/>
                  <a:ext cx="39960" cy="79200"/>
                </a:xfrm>
                <a:custGeom>
                  <a:avLst/>
                  <a:gdLst/>
                  <a:ahLst/>
                  <a:rect l="l" t="t" r="r" b="b"/>
                  <a:pathLst>
                    <a:path w="65" h="127">
                      <a:moveTo>
                        <a:pt x="65" y="127"/>
                      </a:moveTo>
                      <a:lnTo>
                        <a:pt x="48" y="113"/>
                      </a:lnTo>
                      <a:lnTo>
                        <a:pt x="34" y="95"/>
                      </a:lnTo>
                      <a:lnTo>
                        <a:pt x="21" y="75"/>
                      </a:lnTo>
                      <a:lnTo>
                        <a:pt x="13" y="53"/>
                      </a:lnTo>
                      <a:lnTo>
                        <a:pt x="6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81560" y="595440"/>
                  <a:ext cx="28800" cy="212400"/>
                </a:xfrm>
                <a:custGeom>
                  <a:avLst/>
                  <a:gdLst/>
                  <a:ahLst/>
                  <a:rect l="l" t="t" r="r" b="b"/>
                  <a:pathLst>
                    <a:path w="47" h="336">
                      <a:moveTo>
                        <a:pt x="47" y="336"/>
                      </a:moveTo>
                      <a:lnTo>
                        <a:pt x="20" y="229"/>
                      </a:lnTo>
                      <a:lnTo>
                        <a:pt x="11" y="196"/>
                      </a:lnTo>
                      <a:lnTo>
                        <a:pt x="9" y="173"/>
                      </a:lnTo>
                      <a:lnTo>
                        <a:pt x="14" y="151"/>
                      </a:lnTo>
                      <a:lnTo>
                        <a:pt x="21" y="122"/>
                      </a:lnTo>
                      <a:lnTo>
                        <a:pt x="24" y="90"/>
                      </a:lnTo>
                      <a:lnTo>
                        <a:pt x="20" y="56"/>
                      </a:lnTo>
                      <a:lnTo>
                        <a:pt x="11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163280" y="512640"/>
                <a:ext cx="168480" cy="338400"/>
                <a:chOff x="7163280" y="512640"/>
                <a:chExt cx="168480" cy="338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163280" y="512640"/>
                  <a:ext cx="168480" cy="338400"/>
                </a:xfrm>
                <a:custGeom>
                  <a:avLst/>
                  <a:gdLst/>
                  <a:ahLst/>
                  <a:rect l="l" t="t" r="r" b="b"/>
                  <a:pathLst>
                    <a:path w="269" h="538">
                      <a:moveTo>
                        <a:pt x="50" y="538"/>
                      </a:moveTo>
                      <a:lnTo>
                        <a:pt x="11" y="447"/>
                      </a:lnTo>
                      <a:lnTo>
                        <a:pt x="1" y="368"/>
                      </a:lnTo>
                      <a:lnTo>
                        <a:pt x="0" y="264"/>
                      </a:lnTo>
                      <a:lnTo>
                        <a:pt x="0" y="171"/>
                      </a:lnTo>
                      <a:lnTo>
                        <a:pt x="7" y="69"/>
                      </a:lnTo>
                      <a:lnTo>
                        <a:pt x="11" y="43"/>
                      </a:lnTo>
                      <a:lnTo>
                        <a:pt x="18" y="29"/>
                      </a:lnTo>
                      <a:lnTo>
                        <a:pt x="24" y="20"/>
                      </a:lnTo>
                      <a:lnTo>
                        <a:pt x="34" y="13"/>
                      </a:lnTo>
                      <a:lnTo>
                        <a:pt x="39" y="9"/>
                      </a:lnTo>
                      <a:lnTo>
                        <a:pt x="52" y="5"/>
                      </a:lnTo>
                      <a:lnTo>
                        <a:pt x="63" y="3"/>
                      </a:lnTo>
                      <a:lnTo>
                        <a:pt x="76" y="2"/>
                      </a:lnTo>
                      <a:lnTo>
                        <a:pt x="87" y="0"/>
                      </a:lnTo>
                      <a:lnTo>
                        <a:pt x="97" y="2"/>
                      </a:lnTo>
                      <a:lnTo>
                        <a:pt x="111" y="3"/>
                      </a:lnTo>
                      <a:lnTo>
                        <a:pt x="125" y="7"/>
                      </a:lnTo>
                      <a:lnTo>
                        <a:pt x="141" y="14"/>
                      </a:lnTo>
                      <a:lnTo>
                        <a:pt x="157" y="24"/>
                      </a:lnTo>
                      <a:lnTo>
                        <a:pt x="174" y="37"/>
                      </a:lnTo>
                      <a:lnTo>
                        <a:pt x="190" y="50"/>
                      </a:lnTo>
                      <a:lnTo>
                        <a:pt x="207" y="68"/>
                      </a:lnTo>
                      <a:lnTo>
                        <a:pt x="222" y="89"/>
                      </a:lnTo>
                      <a:lnTo>
                        <a:pt x="238" y="109"/>
                      </a:lnTo>
                      <a:lnTo>
                        <a:pt x="249" y="133"/>
                      </a:lnTo>
                      <a:lnTo>
                        <a:pt x="259" y="161"/>
                      </a:lnTo>
                      <a:lnTo>
                        <a:pt x="266" y="196"/>
                      </a:lnTo>
                      <a:lnTo>
                        <a:pt x="269" y="231"/>
                      </a:lnTo>
                      <a:lnTo>
                        <a:pt x="269" y="245"/>
                      </a:lnTo>
                      <a:lnTo>
                        <a:pt x="217" y="245"/>
                      </a:lnTo>
                      <a:lnTo>
                        <a:pt x="214" y="264"/>
                      </a:lnTo>
                      <a:lnTo>
                        <a:pt x="211" y="292"/>
                      </a:lnTo>
                      <a:lnTo>
                        <a:pt x="207" y="323"/>
                      </a:lnTo>
                      <a:lnTo>
                        <a:pt x="198" y="355"/>
                      </a:lnTo>
                      <a:lnTo>
                        <a:pt x="190" y="376"/>
                      </a:lnTo>
                      <a:lnTo>
                        <a:pt x="179" y="393"/>
                      </a:lnTo>
                      <a:lnTo>
                        <a:pt x="166" y="402"/>
                      </a:lnTo>
                      <a:lnTo>
                        <a:pt x="152" y="412"/>
                      </a:lnTo>
                      <a:lnTo>
                        <a:pt x="131" y="417"/>
                      </a:lnTo>
                      <a:lnTo>
                        <a:pt x="114" y="419"/>
                      </a:lnTo>
                      <a:lnTo>
                        <a:pt x="96" y="419"/>
                      </a:lnTo>
                      <a:lnTo>
                        <a:pt x="79" y="415"/>
                      </a:lnTo>
                      <a:lnTo>
                        <a:pt x="65" y="406"/>
                      </a:lnTo>
                      <a:lnTo>
                        <a:pt x="55" y="395"/>
                      </a:lnTo>
                      <a:lnTo>
                        <a:pt x="52" y="379"/>
                      </a:lnTo>
                      <a:lnTo>
                        <a:pt x="49" y="362"/>
                      </a:lnTo>
                      <a:lnTo>
                        <a:pt x="48" y="348"/>
                      </a:lnTo>
                      <a:lnTo>
                        <a:pt x="43" y="312"/>
                      </a:lnTo>
                      <a:lnTo>
                        <a:pt x="42" y="267"/>
                      </a:lnTo>
                      <a:lnTo>
                        <a:pt x="41" y="207"/>
                      </a:lnTo>
                      <a:lnTo>
                        <a:pt x="42" y="157"/>
                      </a:lnTo>
                      <a:lnTo>
                        <a:pt x="43" y="134"/>
                      </a:lnTo>
                      <a:lnTo>
                        <a:pt x="46" y="112"/>
                      </a:lnTo>
                      <a:lnTo>
                        <a:pt x="49" y="100"/>
                      </a:lnTo>
                      <a:lnTo>
                        <a:pt x="53" y="86"/>
                      </a:lnTo>
                      <a:lnTo>
                        <a:pt x="60" y="78"/>
                      </a:lnTo>
                      <a:lnTo>
                        <a:pt x="66" y="75"/>
                      </a:lnTo>
                      <a:lnTo>
                        <a:pt x="73" y="72"/>
                      </a:lnTo>
                      <a:lnTo>
                        <a:pt x="88" y="69"/>
                      </a:lnTo>
                      <a:lnTo>
                        <a:pt x="100" y="69"/>
                      </a:lnTo>
                      <a:lnTo>
                        <a:pt x="108" y="71"/>
                      </a:lnTo>
                      <a:lnTo>
                        <a:pt x="124" y="74"/>
                      </a:lnTo>
                      <a:lnTo>
                        <a:pt x="135" y="78"/>
                      </a:lnTo>
                      <a:lnTo>
                        <a:pt x="153" y="92"/>
                      </a:lnTo>
                      <a:lnTo>
                        <a:pt x="172" y="107"/>
                      </a:lnTo>
                      <a:lnTo>
                        <a:pt x="190" y="130"/>
                      </a:lnTo>
                      <a:lnTo>
                        <a:pt x="205" y="157"/>
                      </a:lnTo>
                      <a:lnTo>
                        <a:pt x="211" y="184"/>
                      </a:lnTo>
                      <a:lnTo>
                        <a:pt x="217" y="220"/>
                      </a:lnTo>
                      <a:lnTo>
                        <a:pt x="217" y="245"/>
                      </a:lnTo>
                      <a:lnTo>
                        <a:pt x="269" y="245"/>
                      </a:lnTo>
                      <a:lnTo>
                        <a:pt x="269" y="265"/>
                      </a:lnTo>
                      <a:lnTo>
                        <a:pt x="263" y="298"/>
                      </a:lnTo>
                      <a:lnTo>
                        <a:pt x="259" y="333"/>
                      </a:lnTo>
                      <a:lnTo>
                        <a:pt x="250" y="364"/>
                      </a:lnTo>
                      <a:lnTo>
                        <a:pt x="241" y="393"/>
                      </a:lnTo>
                      <a:lnTo>
                        <a:pt x="228" y="415"/>
                      </a:lnTo>
                      <a:lnTo>
                        <a:pt x="211" y="437"/>
                      </a:lnTo>
                      <a:lnTo>
                        <a:pt x="194" y="453"/>
                      </a:lnTo>
                      <a:lnTo>
                        <a:pt x="179" y="461"/>
                      </a:lnTo>
                      <a:lnTo>
                        <a:pt x="162" y="469"/>
                      </a:lnTo>
                      <a:lnTo>
                        <a:pt x="138" y="472"/>
                      </a:lnTo>
                      <a:lnTo>
                        <a:pt x="117" y="475"/>
                      </a:lnTo>
                      <a:lnTo>
                        <a:pt x="100" y="477"/>
                      </a:lnTo>
                      <a:lnTo>
                        <a:pt x="86" y="481"/>
                      </a:lnTo>
                      <a:lnTo>
                        <a:pt x="76" y="488"/>
                      </a:lnTo>
                      <a:lnTo>
                        <a:pt x="67" y="499"/>
                      </a:lnTo>
                      <a:lnTo>
                        <a:pt x="59" y="513"/>
                      </a:lnTo>
                      <a:lnTo>
                        <a:pt x="50" y="538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65800" y="760320"/>
                  <a:ext cx="28800" cy="87840"/>
                </a:xfrm>
                <a:custGeom>
                  <a:avLst/>
                  <a:gdLst/>
                  <a:ahLst/>
                  <a:rect l="l" t="t" r="r" b="b"/>
                  <a:pathLst>
                    <a:path w="45" h="141">
                      <a:moveTo>
                        <a:pt x="45" y="141"/>
                      </a:moveTo>
                      <a:lnTo>
                        <a:pt x="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53640" y="565200"/>
                  <a:ext cx="65160" cy="227520"/>
                </a:xfrm>
                <a:custGeom>
                  <a:avLst/>
                  <a:gdLst/>
                  <a:ahLst/>
                  <a:rect l="l" t="t" r="r" b="b"/>
                  <a:pathLst>
                    <a:path w="105" h="363">
                      <a:moveTo>
                        <a:pt x="0" y="363"/>
                      </a:moveTo>
                      <a:lnTo>
                        <a:pt x="22" y="356"/>
                      </a:lnTo>
                      <a:lnTo>
                        <a:pt x="36" y="346"/>
                      </a:lnTo>
                      <a:lnTo>
                        <a:pt x="51" y="335"/>
                      </a:lnTo>
                      <a:lnTo>
                        <a:pt x="64" y="321"/>
                      </a:lnTo>
                      <a:lnTo>
                        <a:pt x="75" y="305"/>
                      </a:lnTo>
                      <a:lnTo>
                        <a:pt x="85" y="278"/>
                      </a:lnTo>
                      <a:lnTo>
                        <a:pt x="91" y="257"/>
                      </a:lnTo>
                      <a:lnTo>
                        <a:pt x="96" y="226"/>
                      </a:lnTo>
                      <a:lnTo>
                        <a:pt x="102" y="191"/>
                      </a:lnTo>
                      <a:lnTo>
                        <a:pt x="105" y="153"/>
                      </a:lnTo>
                      <a:lnTo>
                        <a:pt x="103" y="118"/>
                      </a:lnTo>
                      <a:lnTo>
                        <a:pt x="95" y="78"/>
                      </a:lnTo>
                      <a:lnTo>
                        <a:pt x="86" y="56"/>
                      </a:lnTo>
                      <a:lnTo>
                        <a:pt x="74" y="33"/>
                      </a:lnTo>
                      <a:lnTo>
                        <a:pt x="62" y="18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6480">
                  <a:solidFill>
                    <a:srgbClr val="9f9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526824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3" h="1495">
                  <a:moveTo>
                    <a:pt x="372" y="228"/>
                  </a:moveTo>
                  <a:lnTo>
                    <a:pt x="359" y="223"/>
                  </a:lnTo>
                  <a:lnTo>
                    <a:pt x="343" y="211"/>
                  </a:lnTo>
                  <a:lnTo>
                    <a:pt x="332" y="201"/>
                  </a:lnTo>
                  <a:lnTo>
                    <a:pt x="322" y="190"/>
                  </a:lnTo>
                  <a:lnTo>
                    <a:pt x="315" y="177"/>
                  </a:lnTo>
                  <a:lnTo>
                    <a:pt x="310" y="165"/>
                  </a:lnTo>
                  <a:lnTo>
                    <a:pt x="304" y="152"/>
                  </a:lnTo>
                  <a:lnTo>
                    <a:pt x="301" y="135"/>
                  </a:lnTo>
                  <a:lnTo>
                    <a:pt x="300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5" y="65"/>
                  </a:lnTo>
                  <a:lnTo>
                    <a:pt x="324" y="49"/>
                  </a:lnTo>
                  <a:lnTo>
                    <a:pt x="334" y="38"/>
                  </a:lnTo>
                  <a:lnTo>
                    <a:pt x="348" y="27"/>
                  </a:lnTo>
                  <a:lnTo>
                    <a:pt x="360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2" y="0"/>
                  </a:lnTo>
                  <a:lnTo>
                    <a:pt x="439" y="0"/>
                  </a:lnTo>
                  <a:lnTo>
                    <a:pt x="456" y="6"/>
                  </a:lnTo>
                  <a:lnTo>
                    <a:pt x="474" y="13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12" y="41"/>
                  </a:lnTo>
                  <a:lnTo>
                    <a:pt x="521" y="52"/>
                  </a:lnTo>
                  <a:lnTo>
                    <a:pt x="529" y="68"/>
                  </a:lnTo>
                  <a:lnTo>
                    <a:pt x="536" y="82"/>
                  </a:lnTo>
                  <a:lnTo>
                    <a:pt x="541" y="97"/>
                  </a:lnTo>
                  <a:lnTo>
                    <a:pt x="543" y="116"/>
                  </a:lnTo>
                  <a:lnTo>
                    <a:pt x="542" y="131"/>
                  </a:lnTo>
                  <a:lnTo>
                    <a:pt x="539" y="151"/>
                  </a:lnTo>
                  <a:lnTo>
                    <a:pt x="534" y="166"/>
                  </a:lnTo>
                  <a:lnTo>
                    <a:pt x="529" y="179"/>
                  </a:lnTo>
                  <a:lnTo>
                    <a:pt x="520" y="193"/>
                  </a:lnTo>
                  <a:lnTo>
                    <a:pt x="511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8" y="285"/>
                  </a:lnTo>
                  <a:lnTo>
                    <a:pt x="579" y="300"/>
                  </a:lnTo>
                  <a:lnTo>
                    <a:pt x="627" y="320"/>
                  </a:lnTo>
                  <a:lnTo>
                    <a:pt x="649" y="358"/>
                  </a:lnTo>
                  <a:lnTo>
                    <a:pt x="674" y="425"/>
                  </a:lnTo>
                  <a:lnTo>
                    <a:pt x="691" y="483"/>
                  </a:lnTo>
                  <a:lnTo>
                    <a:pt x="708" y="548"/>
                  </a:lnTo>
                  <a:lnTo>
                    <a:pt x="725" y="586"/>
                  </a:lnTo>
                  <a:lnTo>
                    <a:pt x="762" y="647"/>
                  </a:lnTo>
                  <a:lnTo>
                    <a:pt x="798" y="701"/>
                  </a:lnTo>
                  <a:lnTo>
                    <a:pt x="834" y="727"/>
                  </a:lnTo>
                  <a:lnTo>
                    <a:pt x="841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3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2" y="847"/>
                  </a:lnTo>
                  <a:lnTo>
                    <a:pt x="835" y="861"/>
                  </a:lnTo>
                  <a:lnTo>
                    <a:pt x="824" y="869"/>
                  </a:lnTo>
                  <a:lnTo>
                    <a:pt x="815" y="875"/>
                  </a:lnTo>
                  <a:lnTo>
                    <a:pt x="808" y="886"/>
                  </a:lnTo>
                  <a:lnTo>
                    <a:pt x="803" y="890"/>
                  </a:lnTo>
                  <a:lnTo>
                    <a:pt x="794" y="889"/>
                  </a:lnTo>
                  <a:lnTo>
                    <a:pt x="783" y="885"/>
                  </a:lnTo>
                  <a:lnTo>
                    <a:pt x="770" y="876"/>
                  </a:lnTo>
                  <a:lnTo>
                    <a:pt x="758" y="865"/>
                  </a:lnTo>
                  <a:lnTo>
                    <a:pt x="746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7" y="773"/>
                  </a:lnTo>
                  <a:lnTo>
                    <a:pt x="725" y="752"/>
                  </a:lnTo>
                  <a:lnTo>
                    <a:pt x="728" y="735"/>
                  </a:lnTo>
                  <a:lnTo>
                    <a:pt x="729" y="713"/>
                  </a:lnTo>
                  <a:lnTo>
                    <a:pt x="727" y="696"/>
                  </a:lnTo>
                  <a:lnTo>
                    <a:pt x="673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49" y="783"/>
                  </a:lnTo>
                  <a:lnTo>
                    <a:pt x="577" y="941"/>
                  </a:lnTo>
                  <a:lnTo>
                    <a:pt x="598" y="1051"/>
                  </a:lnTo>
                  <a:lnTo>
                    <a:pt x="632" y="1234"/>
                  </a:lnTo>
                  <a:lnTo>
                    <a:pt x="658" y="1372"/>
                  </a:lnTo>
                  <a:lnTo>
                    <a:pt x="667" y="1383"/>
                  </a:lnTo>
                  <a:lnTo>
                    <a:pt x="686" y="1388"/>
                  </a:lnTo>
                  <a:lnTo>
                    <a:pt x="711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4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8" y="1475"/>
                  </a:lnTo>
                  <a:lnTo>
                    <a:pt x="812" y="1493"/>
                  </a:lnTo>
                  <a:lnTo>
                    <a:pt x="531" y="1493"/>
                  </a:lnTo>
                  <a:lnTo>
                    <a:pt x="465" y="1234"/>
                  </a:lnTo>
                  <a:lnTo>
                    <a:pt x="429" y="1104"/>
                  </a:lnTo>
                  <a:lnTo>
                    <a:pt x="394" y="1234"/>
                  </a:lnTo>
                  <a:lnTo>
                    <a:pt x="321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49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5" y="1234"/>
                  </a:lnTo>
                  <a:lnTo>
                    <a:pt x="259" y="1051"/>
                  </a:lnTo>
                  <a:lnTo>
                    <a:pt x="277" y="941"/>
                  </a:lnTo>
                  <a:lnTo>
                    <a:pt x="304" y="783"/>
                  </a:lnTo>
                  <a:lnTo>
                    <a:pt x="284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7" y="638"/>
                  </a:lnTo>
                  <a:lnTo>
                    <a:pt x="124" y="699"/>
                  </a:lnTo>
                  <a:lnTo>
                    <a:pt x="121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8" y="841"/>
                  </a:lnTo>
                  <a:lnTo>
                    <a:pt x="101" y="855"/>
                  </a:lnTo>
                  <a:lnTo>
                    <a:pt x="93" y="865"/>
                  </a:lnTo>
                  <a:lnTo>
                    <a:pt x="84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3" y="886"/>
                  </a:lnTo>
                  <a:lnTo>
                    <a:pt x="38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5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7" y="745"/>
                  </a:lnTo>
                  <a:lnTo>
                    <a:pt x="18" y="728"/>
                  </a:lnTo>
                  <a:lnTo>
                    <a:pt x="36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3" y="548"/>
                  </a:lnTo>
                  <a:lnTo>
                    <a:pt x="160" y="485"/>
                  </a:lnTo>
                  <a:lnTo>
                    <a:pt x="177" y="428"/>
                  </a:lnTo>
                  <a:lnTo>
                    <a:pt x="204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692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3" y="228"/>
                  </a:moveTo>
                  <a:lnTo>
                    <a:pt x="361" y="223"/>
                  </a:lnTo>
                  <a:lnTo>
                    <a:pt x="345" y="211"/>
                  </a:lnTo>
                  <a:lnTo>
                    <a:pt x="332" y="201"/>
                  </a:lnTo>
                  <a:lnTo>
                    <a:pt x="324" y="190"/>
                  </a:lnTo>
                  <a:lnTo>
                    <a:pt x="316" y="177"/>
                  </a:lnTo>
                  <a:lnTo>
                    <a:pt x="311" y="165"/>
                  </a:lnTo>
                  <a:lnTo>
                    <a:pt x="306" y="152"/>
                  </a:lnTo>
                  <a:lnTo>
                    <a:pt x="303" y="135"/>
                  </a:lnTo>
                  <a:lnTo>
                    <a:pt x="301" y="118"/>
                  </a:lnTo>
                  <a:lnTo>
                    <a:pt x="304" y="100"/>
                  </a:lnTo>
                  <a:lnTo>
                    <a:pt x="309" y="82"/>
                  </a:lnTo>
                  <a:lnTo>
                    <a:pt x="316" y="65"/>
                  </a:lnTo>
                  <a:lnTo>
                    <a:pt x="325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2" y="17"/>
                  </a:lnTo>
                  <a:lnTo>
                    <a:pt x="378" y="10"/>
                  </a:lnTo>
                  <a:lnTo>
                    <a:pt x="392" y="4"/>
                  </a:lnTo>
                  <a:lnTo>
                    <a:pt x="409" y="0"/>
                  </a:lnTo>
                  <a:lnTo>
                    <a:pt x="424" y="0"/>
                  </a:lnTo>
                  <a:lnTo>
                    <a:pt x="441" y="0"/>
                  </a:lnTo>
                  <a:lnTo>
                    <a:pt x="458" y="6"/>
                  </a:lnTo>
                  <a:lnTo>
                    <a:pt x="476" y="13"/>
                  </a:lnTo>
                  <a:lnTo>
                    <a:pt x="489" y="20"/>
                  </a:lnTo>
                  <a:lnTo>
                    <a:pt x="501" y="30"/>
                  </a:lnTo>
                  <a:lnTo>
                    <a:pt x="513" y="41"/>
                  </a:lnTo>
                  <a:lnTo>
                    <a:pt x="523" y="52"/>
                  </a:lnTo>
                  <a:lnTo>
                    <a:pt x="531" y="68"/>
                  </a:lnTo>
                  <a:lnTo>
                    <a:pt x="538" y="82"/>
                  </a:lnTo>
                  <a:lnTo>
                    <a:pt x="542" y="97"/>
                  </a:lnTo>
                  <a:lnTo>
                    <a:pt x="544" y="116"/>
                  </a:lnTo>
                  <a:lnTo>
                    <a:pt x="544" y="131"/>
                  </a:lnTo>
                  <a:lnTo>
                    <a:pt x="541" y="151"/>
                  </a:lnTo>
                  <a:lnTo>
                    <a:pt x="535" y="166"/>
                  </a:lnTo>
                  <a:lnTo>
                    <a:pt x="530" y="179"/>
                  </a:lnTo>
                  <a:lnTo>
                    <a:pt x="521" y="193"/>
                  </a:lnTo>
                  <a:lnTo>
                    <a:pt x="511" y="203"/>
                  </a:lnTo>
                  <a:lnTo>
                    <a:pt x="501" y="213"/>
                  </a:lnTo>
                  <a:lnTo>
                    <a:pt x="492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20" y="285"/>
                  </a:lnTo>
                  <a:lnTo>
                    <a:pt x="580" y="300"/>
                  </a:lnTo>
                  <a:lnTo>
                    <a:pt x="627" y="320"/>
                  </a:lnTo>
                  <a:lnTo>
                    <a:pt x="651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3" y="647"/>
                  </a:lnTo>
                  <a:lnTo>
                    <a:pt x="800" y="701"/>
                  </a:lnTo>
                  <a:lnTo>
                    <a:pt x="835" y="727"/>
                  </a:lnTo>
                  <a:lnTo>
                    <a:pt x="842" y="737"/>
                  </a:lnTo>
                  <a:lnTo>
                    <a:pt x="849" y="751"/>
                  </a:lnTo>
                  <a:lnTo>
                    <a:pt x="854" y="768"/>
                  </a:lnTo>
                  <a:lnTo>
                    <a:pt x="854" y="790"/>
                  </a:lnTo>
                  <a:lnTo>
                    <a:pt x="852" y="811"/>
                  </a:lnTo>
                  <a:lnTo>
                    <a:pt x="849" y="827"/>
                  </a:lnTo>
                  <a:lnTo>
                    <a:pt x="844" y="847"/>
                  </a:lnTo>
                  <a:lnTo>
                    <a:pt x="837" y="861"/>
                  </a:lnTo>
                  <a:lnTo>
                    <a:pt x="825" y="869"/>
                  </a:lnTo>
                  <a:lnTo>
                    <a:pt x="817" y="875"/>
                  </a:lnTo>
                  <a:lnTo>
                    <a:pt x="810" y="886"/>
                  </a:lnTo>
                  <a:lnTo>
                    <a:pt x="804" y="890"/>
                  </a:lnTo>
                  <a:lnTo>
                    <a:pt x="796" y="889"/>
                  </a:lnTo>
                  <a:lnTo>
                    <a:pt x="785" y="885"/>
                  </a:lnTo>
                  <a:lnTo>
                    <a:pt x="772" y="876"/>
                  </a:lnTo>
                  <a:lnTo>
                    <a:pt x="758" y="865"/>
                  </a:lnTo>
                  <a:lnTo>
                    <a:pt x="748" y="847"/>
                  </a:lnTo>
                  <a:lnTo>
                    <a:pt x="741" y="831"/>
                  </a:lnTo>
                  <a:lnTo>
                    <a:pt x="735" y="813"/>
                  </a:lnTo>
                  <a:lnTo>
                    <a:pt x="732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30" y="735"/>
                  </a:lnTo>
                  <a:lnTo>
                    <a:pt x="731" y="713"/>
                  </a:lnTo>
                  <a:lnTo>
                    <a:pt x="728" y="696"/>
                  </a:lnTo>
                  <a:lnTo>
                    <a:pt x="675" y="621"/>
                  </a:lnTo>
                  <a:lnTo>
                    <a:pt x="632" y="565"/>
                  </a:lnTo>
                  <a:lnTo>
                    <a:pt x="609" y="525"/>
                  </a:lnTo>
                  <a:lnTo>
                    <a:pt x="599" y="530"/>
                  </a:lnTo>
                  <a:lnTo>
                    <a:pt x="570" y="671"/>
                  </a:lnTo>
                  <a:lnTo>
                    <a:pt x="551" y="783"/>
                  </a:lnTo>
                  <a:lnTo>
                    <a:pt x="579" y="941"/>
                  </a:lnTo>
                  <a:lnTo>
                    <a:pt x="600" y="1051"/>
                  </a:lnTo>
                  <a:lnTo>
                    <a:pt x="634" y="1234"/>
                  </a:lnTo>
                  <a:lnTo>
                    <a:pt x="658" y="1372"/>
                  </a:lnTo>
                  <a:lnTo>
                    <a:pt x="669" y="1383"/>
                  </a:lnTo>
                  <a:lnTo>
                    <a:pt x="687" y="1388"/>
                  </a:lnTo>
                  <a:lnTo>
                    <a:pt x="713" y="1392"/>
                  </a:lnTo>
                  <a:lnTo>
                    <a:pt x="737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4" y="1441"/>
                  </a:lnTo>
                  <a:lnTo>
                    <a:pt x="804" y="1458"/>
                  </a:lnTo>
                  <a:lnTo>
                    <a:pt x="810" y="1475"/>
                  </a:lnTo>
                  <a:lnTo>
                    <a:pt x="814" y="1493"/>
                  </a:lnTo>
                  <a:lnTo>
                    <a:pt x="532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6" y="1234"/>
                  </a:lnTo>
                  <a:lnTo>
                    <a:pt x="323" y="1495"/>
                  </a:lnTo>
                  <a:lnTo>
                    <a:pt x="41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3" y="1438"/>
                  </a:lnTo>
                  <a:lnTo>
                    <a:pt x="79" y="1423"/>
                  </a:lnTo>
                  <a:lnTo>
                    <a:pt x="101" y="1409"/>
                  </a:lnTo>
                  <a:lnTo>
                    <a:pt x="125" y="1397"/>
                  </a:lnTo>
                  <a:lnTo>
                    <a:pt x="151" y="1389"/>
                  </a:lnTo>
                  <a:lnTo>
                    <a:pt x="183" y="1382"/>
                  </a:lnTo>
                  <a:lnTo>
                    <a:pt x="201" y="1364"/>
                  </a:lnTo>
                  <a:lnTo>
                    <a:pt x="227" y="1234"/>
                  </a:lnTo>
                  <a:lnTo>
                    <a:pt x="261" y="1051"/>
                  </a:lnTo>
                  <a:lnTo>
                    <a:pt x="279" y="941"/>
                  </a:lnTo>
                  <a:lnTo>
                    <a:pt x="306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7" y="525"/>
                  </a:lnTo>
                  <a:lnTo>
                    <a:pt x="232" y="548"/>
                  </a:lnTo>
                  <a:lnTo>
                    <a:pt x="201" y="594"/>
                  </a:lnTo>
                  <a:lnTo>
                    <a:pt x="169" y="638"/>
                  </a:lnTo>
                  <a:lnTo>
                    <a:pt x="125" y="699"/>
                  </a:lnTo>
                  <a:lnTo>
                    <a:pt x="123" y="718"/>
                  </a:lnTo>
                  <a:lnTo>
                    <a:pt x="125" y="737"/>
                  </a:lnTo>
                  <a:lnTo>
                    <a:pt x="128" y="755"/>
                  </a:lnTo>
                  <a:lnTo>
                    <a:pt x="125" y="782"/>
                  </a:lnTo>
                  <a:lnTo>
                    <a:pt x="120" y="810"/>
                  </a:lnTo>
                  <a:lnTo>
                    <a:pt x="110" y="841"/>
                  </a:lnTo>
                  <a:lnTo>
                    <a:pt x="103" y="855"/>
                  </a:lnTo>
                  <a:lnTo>
                    <a:pt x="94" y="865"/>
                  </a:lnTo>
                  <a:lnTo>
                    <a:pt x="85" y="875"/>
                  </a:lnTo>
                  <a:lnTo>
                    <a:pt x="72" y="883"/>
                  </a:lnTo>
                  <a:lnTo>
                    <a:pt x="63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7" y="875"/>
                  </a:lnTo>
                  <a:lnTo>
                    <a:pt x="24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4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1" y="766"/>
                  </a:lnTo>
                  <a:lnTo>
                    <a:pt x="6" y="745"/>
                  </a:lnTo>
                  <a:lnTo>
                    <a:pt x="18" y="728"/>
                  </a:lnTo>
                  <a:lnTo>
                    <a:pt x="37" y="716"/>
                  </a:lnTo>
                  <a:lnTo>
                    <a:pt x="54" y="701"/>
                  </a:lnTo>
                  <a:lnTo>
                    <a:pt x="86" y="656"/>
                  </a:lnTo>
                  <a:lnTo>
                    <a:pt x="130" y="586"/>
                  </a:lnTo>
                  <a:lnTo>
                    <a:pt x="145" y="548"/>
                  </a:lnTo>
                  <a:lnTo>
                    <a:pt x="162" y="485"/>
                  </a:lnTo>
                  <a:lnTo>
                    <a:pt x="179" y="428"/>
                  </a:lnTo>
                  <a:lnTo>
                    <a:pt x="206" y="358"/>
                  </a:lnTo>
                  <a:lnTo>
                    <a:pt x="228" y="320"/>
                  </a:lnTo>
                  <a:lnTo>
                    <a:pt x="278" y="300"/>
                  </a:lnTo>
                  <a:lnTo>
                    <a:pt x="337" y="285"/>
                  </a:lnTo>
                  <a:lnTo>
                    <a:pt x="361" y="261"/>
                  </a:lnTo>
                  <a:lnTo>
                    <a:pt x="373" y="2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60200" y="390600"/>
              <a:ext cx="537840" cy="940680"/>
            </a:xfrm>
            <a:custGeom>
              <a:avLst/>
              <a:gdLst/>
              <a:ahLst/>
              <a:rect l="l" t="t" r="r" b="b"/>
              <a:pathLst>
                <a:path w="854" h="1495">
                  <a:moveTo>
                    <a:pt x="372" y="228"/>
                  </a:moveTo>
                  <a:lnTo>
                    <a:pt x="359" y="223"/>
                  </a:lnTo>
                  <a:lnTo>
                    <a:pt x="344" y="211"/>
                  </a:lnTo>
                  <a:lnTo>
                    <a:pt x="333" y="201"/>
                  </a:lnTo>
                  <a:lnTo>
                    <a:pt x="323" y="190"/>
                  </a:lnTo>
                  <a:lnTo>
                    <a:pt x="316" y="177"/>
                  </a:lnTo>
                  <a:lnTo>
                    <a:pt x="310" y="165"/>
                  </a:lnTo>
                  <a:lnTo>
                    <a:pt x="305" y="152"/>
                  </a:lnTo>
                  <a:lnTo>
                    <a:pt x="303" y="135"/>
                  </a:lnTo>
                  <a:lnTo>
                    <a:pt x="302" y="118"/>
                  </a:lnTo>
                  <a:lnTo>
                    <a:pt x="303" y="100"/>
                  </a:lnTo>
                  <a:lnTo>
                    <a:pt x="307" y="82"/>
                  </a:lnTo>
                  <a:lnTo>
                    <a:pt x="316" y="65"/>
                  </a:lnTo>
                  <a:lnTo>
                    <a:pt x="324" y="49"/>
                  </a:lnTo>
                  <a:lnTo>
                    <a:pt x="335" y="38"/>
                  </a:lnTo>
                  <a:lnTo>
                    <a:pt x="348" y="27"/>
                  </a:lnTo>
                  <a:lnTo>
                    <a:pt x="361" y="17"/>
                  </a:lnTo>
                  <a:lnTo>
                    <a:pt x="376" y="10"/>
                  </a:lnTo>
                  <a:lnTo>
                    <a:pt x="390" y="4"/>
                  </a:lnTo>
                  <a:lnTo>
                    <a:pt x="407" y="0"/>
                  </a:lnTo>
                  <a:lnTo>
                    <a:pt x="423" y="0"/>
                  </a:lnTo>
                  <a:lnTo>
                    <a:pt x="440" y="0"/>
                  </a:lnTo>
                  <a:lnTo>
                    <a:pt x="457" y="6"/>
                  </a:lnTo>
                  <a:lnTo>
                    <a:pt x="475" y="13"/>
                  </a:lnTo>
                  <a:lnTo>
                    <a:pt x="488" y="20"/>
                  </a:lnTo>
                  <a:lnTo>
                    <a:pt x="500" y="30"/>
                  </a:lnTo>
                  <a:lnTo>
                    <a:pt x="513" y="41"/>
                  </a:lnTo>
                  <a:lnTo>
                    <a:pt x="521" y="52"/>
                  </a:lnTo>
                  <a:lnTo>
                    <a:pt x="531" y="68"/>
                  </a:lnTo>
                  <a:lnTo>
                    <a:pt x="537" y="82"/>
                  </a:lnTo>
                  <a:lnTo>
                    <a:pt x="541" y="97"/>
                  </a:lnTo>
                  <a:lnTo>
                    <a:pt x="544" y="116"/>
                  </a:lnTo>
                  <a:lnTo>
                    <a:pt x="543" y="131"/>
                  </a:lnTo>
                  <a:lnTo>
                    <a:pt x="540" y="151"/>
                  </a:lnTo>
                  <a:lnTo>
                    <a:pt x="534" y="166"/>
                  </a:lnTo>
                  <a:lnTo>
                    <a:pt x="530" y="179"/>
                  </a:lnTo>
                  <a:lnTo>
                    <a:pt x="520" y="193"/>
                  </a:lnTo>
                  <a:lnTo>
                    <a:pt x="512" y="203"/>
                  </a:lnTo>
                  <a:lnTo>
                    <a:pt x="500" y="213"/>
                  </a:lnTo>
                  <a:lnTo>
                    <a:pt x="490" y="221"/>
                  </a:lnTo>
                  <a:lnTo>
                    <a:pt x="479" y="228"/>
                  </a:lnTo>
                  <a:lnTo>
                    <a:pt x="496" y="261"/>
                  </a:lnTo>
                  <a:lnTo>
                    <a:pt x="519" y="285"/>
                  </a:lnTo>
                  <a:lnTo>
                    <a:pt x="581" y="300"/>
                  </a:lnTo>
                  <a:lnTo>
                    <a:pt x="627" y="320"/>
                  </a:lnTo>
                  <a:lnTo>
                    <a:pt x="650" y="358"/>
                  </a:lnTo>
                  <a:lnTo>
                    <a:pt x="675" y="425"/>
                  </a:lnTo>
                  <a:lnTo>
                    <a:pt x="693" y="483"/>
                  </a:lnTo>
                  <a:lnTo>
                    <a:pt x="710" y="548"/>
                  </a:lnTo>
                  <a:lnTo>
                    <a:pt x="727" y="586"/>
                  </a:lnTo>
                  <a:lnTo>
                    <a:pt x="762" y="647"/>
                  </a:lnTo>
                  <a:lnTo>
                    <a:pt x="799" y="701"/>
                  </a:lnTo>
                  <a:lnTo>
                    <a:pt x="834" y="727"/>
                  </a:lnTo>
                  <a:lnTo>
                    <a:pt x="843" y="737"/>
                  </a:lnTo>
                  <a:lnTo>
                    <a:pt x="848" y="751"/>
                  </a:lnTo>
                  <a:lnTo>
                    <a:pt x="852" y="768"/>
                  </a:lnTo>
                  <a:lnTo>
                    <a:pt x="854" y="790"/>
                  </a:lnTo>
                  <a:lnTo>
                    <a:pt x="851" y="811"/>
                  </a:lnTo>
                  <a:lnTo>
                    <a:pt x="848" y="827"/>
                  </a:lnTo>
                  <a:lnTo>
                    <a:pt x="843" y="847"/>
                  </a:lnTo>
                  <a:lnTo>
                    <a:pt x="835" y="861"/>
                  </a:lnTo>
                  <a:lnTo>
                    <a:pt x="826" y="869"/>
                  </a:lnTo>
                  <a:lnTo>
                    <a:pt x="816" y="875"/>
                  </a:lnTo>
                  <a:lnTo>
                    <a:pt x="809" y="886"/>
                  </a:lnTo>
                  <a:lnTo>
                    <a:pt x="803" y="890"/>
                  </a:lnTo>
                  <a:lnTo>
                    <a:pt x="795" y="889"/>
                  </a:lnTo>
                  <a:lnTo>
                    <a:pt x="783" y="885"/>
                  </a:lnTo>
                  <a:lnTo>
                    <a:pt x="771" y="876"/>
                  </a:lnTo>
                  <a:lnTo>
                    <a:pt x="758" y="865"/>
                  </a:lnTo>
                  <a:lnTo>
                    <a:pt x="747" y="847"/>
                  </a:lnTo>
                  <a:lnTo>
                    <a:pt x="741" y="831"/>
                  </a:lnTo>
                  <a:lnTo>
                    <a:pt x="734" y="813"/>
                  </a:lnTo>
                  <a:lnTo>
                    <a:pt x="731" y="796"/>
                  </a:lnTo>
                  <a:lnTo>
                    <a:pt x="728" y="773"/>
                  </a:lnTo>
                  <a:lnTo>
                    <a:pt x="727" y="752"/>
                  </a:lnTo>
                  <a:lnTo>
                    <a:pt x="728" y="735"/>
                  </a:lnTo>
                  <a:lnTo>
                    <a:pt x="730" y="713"/>
                  </a:lnTo>
                  <a:lnTo>
                    <a:pt x="728" y="696"/>
                  </a:lnTo>
                  <a:lnTo>
                    <a:pt x="674" y="621"/>
                  </a:lnTo>
                  <a:lnTo>
                    <a:pt x="631" y="565"/>
                  </a:lnTo>
                  <a:lnTo>
                    <a:pt x="607" y="525"/>
                  </a:lnTo>
                  <a:lnTo>
                    <a:pt x="597" y="530"/>
                  </a:lnTo>
                  <a:lnTo>
                    <a:pt x="569" y="671"/>
                  </a:lnTo>
                  <a:lnTo>
                    <a:pt x="550" y="783"/>
                  </a:lnTo>
                  <a:lnTo>
                    <a:pt x="579" y="941"/>
                  </a:lnTo>
                  <a:lnTo>
                    <a:pt x="599" y="1051"/>
                  </a:lnTo>
                  <a:lnTo>
                    <a:pt x="633" y="1234"/>
                  </a:lnTo>
                  <a:lnTo>
                    <a:pt x="658" y="1372"/>
                  </a:lnTo>
                  <a:lnTo>
                    <a:pt x="668" y="1383"/>
                  </a:lnTo>
                  <a:lnTo>
                    <a:pt x="686" y="1388"/>
                  </a:lnTo>
                  <a:lnTo>
                    <a:pt x="712" y="1392"/>
                  </a:lnTo>
                  <a:lnTo>
                    <a:pt x="735" y="1399"/>
                  </a:lnTo>
                  <a:lnTo>
                    <a:pt x="758" y="1410"/>
                  </a:lnTo>
                  <a:lnTo>
                    <a:pt x="776" y="1424"/>
                  </a:lnTo>
                  <a:lnTo>
                    <a:pt x="793" y="1441"/>
                  </a:lnTo>
                  <a:lnTo>
                    <a:pt x="804" y="1458"/>
                  </a:lnTo>
                  <a:lnTo>
                    <a:pt x="809" y="1475"/>
                  </a:lnTo>
                  <a:lnTo>
                    <a:pt x="813" y="1493"/>
                  </a:lnTo>
                  <a:lnTo>
                    <a:pt x="533" y="1493"/>
                  </a:lnTo>
                  <a:lnTo>
                    <a:pt x="466" y="1234"/>
                  </a:lnTo>
                  <a:lnTo>
                    <a:pt x="430" y="1104"/>
                  </a:lnTo>
                  <a:lnTo>
                    <a:pt x="395" y="1234"/>
                  </a:lnTo>
                  <a:lnTo>
                    <a:pt x="321" y="1495"/>
                  </a:lnTo>
                  <a:lnTo>
                    <a:pt x="43" y="1495"/>
                  </a:lnTo>
                  <a:lnTo>
                    <a:pt x="45" y="1472"/>
                  </a:lnTo>
                  <a:lnTo>
                    <a:pt x="52" y="1455"/>
                  </a:lnTo>
                  <a:lnTo>
                    <a:pt x="64" y="1438"/>
                  </a:lnTo>
                  <a:lnTo>
                    <a:pt x="79" y="1423"/>
                  </a:lnTo>
                  <a:lnTo>
                    <a:pt x="100" y="1409"/>
                  </a:lnTo>
                  <a:lnTo>
                    <a:pt x="124" y="1397"/>
                  </a:lnTo>
                  <a:lnTo>
                    <a:pt x="150" y="1389"/>
                  </a:lnTo>
                  <a:lnTo>
                    <a:pt x="182" y="1382"/>
                  </a:lnTo>
                  <a:lnTo>
                    <a:pt x="200" y="1364"/>
                  </a:lnTo>
                  <a:lnTo>
                    <a:pt x="226" y="1234"/>
                  </a:lnTo>
                  <a:lnTo>
                    <a:pt x="259" y="1051"/>
                  </a:lnTo>
                  <a:lnTo>
                    <a:pt x="278" y="941"/>
                  </a:lnTo>
                  <a:lnTo>
                    <a:pt x="305" y="783"/>
                  </a:lnTo>
                  <a:lnTo>
                    <a:pt x="286" y="671"/>
                  </a:lnTo>
                  <a:lnTo>
                    <a:pt x="252" y="530"/>
                  </a:lnTo>
                  <a:lnTo>
                    <a:pt x="245" y="525"/>
                  </a:lnTo>
                  <a:lnTo>
                    <a:pt x="231" y="548"/>
                  </a:lnTo>
                  <a:lnTo>
                    <a:pt x="200" y="594"/>
                  </a:lnTo>
                  <a:lnTo>
                    <a:pt x="168" y="638"/>
                  </a:lnTo>
                  <a:lnTo>
                    <a:pt x="124" y="699"/>
                  </a:lnTo>
                  <a:lnTo>
                    <a:pt x="123" y="718"/>
                  </a:lnTo>
                  <a:lnTo>
                    <a:pt x="124" y="737"/>
                  </a:lnTo>
                  <a:lnTo>
                    <a:pt x="127" y="755"/>
                  </a:lnTo>
                  <a:lnTo>
                    <a:pt x="124" y="782"/>
                  </a:lnTo>
                  <a:lnTo>
                    <a:pt x="120" y="810"/>
                  </a:lnTo>
                  <a:lnTo>
                    <a:pt x="109" y="841"/>
                  </a:lnTo>
                  <a:lnTo>
                    <a:pt x="102" y="855"/>
                  </a:lnTo>
                  <a:lnTo>
                    <a:pt x="93" y="865"/>
                  </a:lnTo>
                  <a:lnTo>
                    <a:pt x="85" y="875"/>
                  </a:lnTo>
                  <a:lnTo>
                    <a:pt x="74" y="883"/>
                  </a:lnTo>
                  <a:lnTo>
                    <a:pt x="64" y="887"/>
                  </a:lnTo>
                  <a:lnTo>
                    <a:pt x="52" y="890"/>
                  </a:lnTo>
                  <a:lnTo>
                    <a:pt x="44" y="886"/>
                  </a:lnTo>
                  <a:lnTo>
                    <a:pt x="38" y="875"/>
                  </a:lnTo>
                  <a:lnTo>
                    <a:pt x="26" y="866"/>
                  </a:lnTo>
                  <a:lnTo>
                    <a:pt x="17" y="859"/>
                  </a:lnTo>
                  <a:lnTo>
                    <a:pt x="10" y="845"/>
                  </a:lnTo>
                  <a:lnTo>
                    <a:pt x="6" y="830"/>
                  </a:lnTo>
                  <a:lnTo>
                    <a:pt x="3" y="811"/>
                  </a:lnTo>
                  <a:lnTo>
                    <a:pt x="0" y="787"/>
                  </a:lnTo>
                  <a:lnTo>
                    <a:pt x="2" y="766"/>
                  </a:lnTo>
                  <a:lnTo>
                    <a:pt x="7" y="745"/>
                  </a:lnTo>
                  <a:lnTo>
                    <a:pt x="19" y="728"/>
                  </a:lnTo>
                  <a:lnTo>
                    <a:pt x="37" y="716"/>
                  </a:lnTo>
                  <a:lnTo>
                    <a:pt x="55" y="701"/>
                  </a:lnTo>
                  <a:lnTo>
                    <a:pt x="86" y="656"/>
                  </a:lnTo>
                  <a:lnTo>
                    <a:pt x="128" y="586"/>
                  </a:lnTo>
                  <a:lnTo>
                    <a:pt x="144" y="548"/>
                  </a:lnTo>
                  <a:lnTo>
                    <a:pt x="161" y="485"/>
                  </a:lnTo>
                  <a:lnTo>
                    <a:pt x="178" y="428"/>
                  </a:lnTo>
                  <a:lnTo>
                    <a:pt x="206" y="358"/>
                  </a:lnTo>
                  <a:lnTo>
                    <a:pt x="227" y="320"/>
                  </a:lnTo>
                  <a:lnTo>
                    <a:pt x="276" y="300"/>
                  </a:lnTo>
                  <a:lnTo>
                    <a:pt x="335" y="285"/>
                  </a:lnTo>
                  <a:lnTo>
                    <a:pt x="359" y="261"/>
                  </a:lnTo>
                  <a:lnTo>
                    <a:pt x="372" y="2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1480" y="1337760"/>
              <a:ext cx="1901160" cy="106920"/>
            </a:xfrm>
            <a:custGeom>
              <a:avLst/>
              <a:gdLst/>
              <a:ahLst/>
              <a:rect l="l" t="t" r="r" b="b"/>
              <a:pathLst>
                <a:path w="3020" h="172">
                  <a:moveTo>
                    <a:pt x="0" y="0"/>
                  </a:moveTo>
                  <a:lnTo>
                    <a:pt x="2941" y="0"/>
                  </a:lnTo>
                  <a:lnTo>
                    <a:pt x="3020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366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5562000" y="3276360"/>
            <a:ext cx="6858000" cy="30492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FEF-6BA0-4A0E-AEB2-2D86945B1E41}" type="slidenum">
              <a:rPr b="0" lang="fr-FR" sz="18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1003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3366cc"/>
                </a:solidFill>
                <a:latin typeface="Times New Roman"/>
              </a:rPr>
              <a:t>Points principaux discutés</a:t>
            </a:r>
            <a:br>
              <a:rPr sz="3600"/>
            </a:br>
            <a:r>
              <a:rPr b="1" lang="fr-CA" sz="3600" spc="-1" strike="noStrike">
                <a:solidFill>
                  <a:srgbClr val="3366cc"/>
                </a:solidFill>
                <a:latin typeface="Times New Roman"/>
              </a:rPr>
              <a:t> à l’ordre du j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3366cc"/>
                </a:solidFill>
                <a:latin typeface="BlackChancery"/>
              </a:rPr>
              <a:t>Nouvelles responsabilité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 u="sng">
                <a:solidFill>
                  <a:srgbClr val="0000ff"/>
                </a:solidFill>
                <a:uFillTx/>
                <a:latin typeface="BlackChancery"/>
                <a:hlinkClick r:id="rId2" action="ppaction://hlinksldjump"/>
              </a:rPr>
              <a:t>Tenue d ’un kiosque au palais des congrè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3366cc"/>
                </a:solidFill>
                <a:latin typeface="BlackChancery"/>
              </a:rPr>
              <a:t>Planification des vacan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gradFill rotWithShape="0">
            <a:gsLst>
              <a:gs pos="0">
                <a:srgbClr val="006587"/>
              </a:gs>
              <a:gs pos="50000">
                <a:srgbClr val="0099cc"/>
              </a:gs>
              <a:gs pos="100000">
                <a:srgbClr val="00658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228600" y="6019920"/>
            <a:ext cx="533520" cy="533160"/>
          </a:xfrm>
          <a:custGeom>
            <a:avLst/>
            <a:gdLst>
              <a:gd name="textAreaLeft" fmla="*/ 90360 w 533520"/>
              <a:gd name="textAreaRight" fmla="*/ 443160 w 533520"/>
              <a:gd name="textAreaTop" fmla="*/ 90360 h 533160"/>
              <a:gd name="textAreaBottom" fmla="*/ 4428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7951" y="3664"/>
                </a:lnTo>
                <a:lnTo>
                  <a:pt x="3664" y="3664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7951" y="17936"/>
                </a:lnTo>
                <a:lnTo>
                  <a:pt x="17951" y="3664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3664" y="17936"/>
                </a:lnTo>
                <a:lnTo>
                  <a:pt x="17951" y="17936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3664" y="3664"/>
                </a:lnTo>
                <a:lnTo>
                  <a:pt x="3664" y="17936"/>
                </a:lnTo>
                <a:close/>
              </a:path>
              <a:path fill="darken" w="21615" h="21600">
                <a:moveTo>
                  <a:pt x="13463" y="10800"/>
                </a:moveTo>
                <a:lnTo>
                  <a:pt x="5488" y="16119"/>
                </a:lnTo>
                <a:lnTo>
                  <a:pt x="5488" y="5481"/>
                </a:lnTo>
                <a:close/>
              </a:path>
              <a:path fill="darken" w="21615" h="21600">
                <a:moveTo>
                  <a:pt x="14864" y="5481"/>
                </a:moveTo>
                <a:lnTo>
                  <a:pt x="14864" y="16119"/>
                </a:lnTo>
                <a:lnTo>
                  <a:pt x="16126" y="16119"/>
                </a:lnTo>
                <a:lnTo>
                  <a:pt x="16126" y="5481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722800">
            <a:off x="267840" y="4260960"/>
            <a:ext cx="87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390600">
            <a:off x="304920" y="324756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638200">
            <a:off x="266400" y="2143080"/>
            <a:ext cx="914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Wingdings"/>
                <a:ea typeface="Wingdings"/>
              </a:rPr>
              <a:t>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5520" y="1657440"/>
            <a:ext cx="406224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ien hypertexte Internet, cliquez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1989000"/>
            <a:ext cx="792000" cy="576360"/>
          </a:xfrm>
          <a:prstGeom prst="line">
            <a:avLst/>
          </a:prstGeom>
          <a:ln w="57240">
            <a:solidFill>
              <a:srgbClr val="ff7c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Times New Roman"/>
              </a:rPr>
              <a:t>Nouvelles responsabilités</a:t>
            </a:r>
            <a:endParaRPr b="0" lang="en-US" sz="40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aintien des politiques de ges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Présentation du rapport financier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ise sur pied d ’un département des vent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-560160">
              <a:lnSpc>
                <a:spcPct val="13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Organisation des activités inter-culturell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601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39000" y="4869000"/>
            <a:ext cx="3105000" cy="19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8874200">
            <a:off x="8336880" y="6050520"/>
            <a:ext cx="826920" cy="78732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2400" y="6237360"/>
            <a:ext cx="307800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Menu principal, cliquez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4560" y="6453360"/>
            <a:ext cx="868320" cy="1260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FA6-572B-4E8A-B2C5-6CB8C1D6A9D6}" type="slidenum">
              <a:t>3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66"/>
                </a:solidFill>
                <a:latin typeface="Baskerville"/>
              </a:rPr>
              <a:t>Plan 1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188" name=""/>
          <p:cNvSpPr/>
          <p:nvPr/>
        </p:nvSpPr>
        <p:spPr>
          <a:xfrm>
            <a:off x="973080" y="1413000"/>
            <a:ext cx="1438200" cy="527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61899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Ré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440" y="4365720"/>
            <a:ext cx="2301840" cy="946080"/>
          </a:xfrm>
          <a:prstGeom prst="flowChartDocumen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61899" dir="81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Administ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45200" y="2205000"/>
            <a:ext cx="2387520" cy="3057480"/>
          </a:xfrm>
          <a:prstGeom prst="flowChartPreparation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  <a:effectLst>
            <a:outerShdw dist="148236" dir="1859257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Emplac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des ki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19680" y="4797360"/>
            <a:ext cx="1228680" cy="1149480"/>
          </a:xfrm>
          <a:prstGeom prst="ellipse">
            <a:avLst/>
          </a:prstGeom>
          <a:solidFill>
            <a:srgbClr val="0099cc"/>
          </a:solidFill>
          <a:ln w="0">
            <a:noFill/>
          </a:ln>
          <a:effectLst>
            <a:outerShdw dist="137587" dir="1282140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Sa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dî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8" idx="2"/>
            <a:endCxn id="189" idx="0"/>
          </p:cNvCxnSpPr>
          <p:nvPr/>
        </p:nvCxnSpPr>
        <p:spPr>
          <a:xfrm>
            <a:off x="1692000" y="1940040"/>
            <a:ext cx="1080" cy="24264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3919680" y="1628640"/>
            <a:ext cx="1228680" cy="1924200"/>
          </a:xfrm>
          <a:prstGeom prst="flowChartTerminator">
            <a:avLst/>
          </a:prstGeom>
          <a:solidFill>
            <a:srgbClr val="0099cc"/>
          </a:solidFill>
          <a:ln w="0">
            <a:noFill/>
          </a:ln>
          <a:effectLst>
            <a:outerShdw dist="153009" dir="13293983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Sa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p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66"/>
                </a:solidFill>
                <a:latin typeface="Times New Roman"/>
              </a:rPr>
              <a:t>visite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2"/>
            <a:endCxn id="191" idx="0"/>
          </p:cNvCxnSpPr>
          <p:nvPr/>
        </p:nvCxnSpPr>
        <p:spPr>
          <a:xfrm>
            <a:off x="4533480" y="3552480"/>
            <a:ext cx="1080" cy="1245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3"/>
            <a:endCxn id="190" idx="0"/>
          </p:cNvCxnSpPr>
          <p:nvPr/>
        </p:nvCxnSpPr>
        <p:spPr>
          <a:xfrm flipV="1">
            <a:off x="5148000" y="2204640"/>
            <a:ext cx="2191320" cy="386640"/>
          </a:xfrm>
          <a:prstGeom prst="bentConnector4">
            <a:avLst>
              <a:gd name="adj1" fmla="val 22740"/>
              <a:gd name="adj2" fmla="val 159179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8" idx="3"/>
            <a:endCxn id="193" idx="1"/>
          </p:cNvCxnSpPr>
          <p:nvPr/>
        </p:nvCxnSpPr>
        <p:spPr>
          <a:xfrm>
            <a:off x="2411280" y="1676520"/>
            <a:ext cx="1509120" cy="915120"/>
          </a:xfrm>
          <a:prstGeom prst="bentConnector3">
            <a:avLst>
              <a:gd name="adj1" fmla="val 49988"/>
            </a:avLst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6"/>
            <a:endCxn id="190" idx="2"/>
          </p:cNvCxnSpPr>
          <p:nvPr/>
        </p:nvCxnSpPr>
        <p:spPr>
          <a:xfrm flipV="1">
            <a:off x="5148000" y="5261760"/>
            <a:ext cx="2191320" cy="110520"/>
          </a:xfrm>
          <a:prstGeom prst="bentConnector2">
            <a:avLst/>
          </a:prstGeom>
          <a:ln w="28440">
            <a:solidFill>
              <a:srgbClr val="000066"/>
            </a:solidFill>
            <a:miter/>
            <a:tailEnd len="lg" type="triangle" w="med"/>
          </a:ln>
        </p:spPr>
      </p:cxnSp>
      <p:cxnSp>
        <p:nvCxnSpPr>
          <p:cNvPr id="198" name=""/>
          <p:cNvCxnSpPr>
            <a:stCxn id="191" idx="4"/>
            <a:endCxn id="189" idx="2"/>
          </p:cNvCxnSpPr>
          <p:nvPr/>
        </p:nvCxnSpPr>
        <p:spPr>
          <a:xfrm flipV="1" rot="16200000">
            <a:off x="2768760" y="4182120"/>
            <a:ext cx="687960" cy="2842200"/>
          </a:xfrm>
          <a:prstGeom prst="bentConnector3">
            <a:avLst>
              <a:gd name="adj1" fmla="val -33246"/>
            </a:avLst>
          </a:prstGeom>
          <a:ln w="28440">
            <a:solidFill>
              <a:srgbClr val="000066"/>
            </a:solidFill>
            <a:miter/>
            <a:tailEnd len="lg" type="triangle" w="med"/>
          </a:ln>
        </p:spPr>
      </p:cxnSp>
      <p:sp>
        <p:nvSpPr>
          <p:cNvPr id="199" name=""/>
          <p:cNvSpPr/>
          <p:nvPr/>
        </p:nvSpPr>
        <p:spPr>
          <a:xfrm rot="18874200">
            <a:off x="8336880" y="6050520"/>
            <a:ext cx="826920" cy="787320"/>
          </a:xfrm>
          <a:custGeom>
            <a:avLst/>
            <a:gdLst/>
            <a:ahLst/>
            <a:rect l="l" t="t" r="r" b="b"/>
            <a:pathLst>
              <a:path w="1380" h="1311">
                <a:moveTo>
                  <a:pt x="1024" y="120"/>
                </a:moveTo>
                <a:lnTo>
                  <a:pt x="1088" y="146"/>
                </a:lnTo>
                <a:lnTo>
                  <a:pt x="1115" y="162"/>
                </a:lnTo>
                <a:lnTo>
                  <a:pt x="1145" y="151"/>
                </a:lnTo>
                <a:lnTo>
                  <a:pt x="1141" y="128"/>
                </a:lnTo>
                <a:lnTo>
                  <a:pt x="1141" y="104"/>
                </a:lnTo>
                <a:lnTo>
                  <a:pt x="1146" y="79"/>
                </a:lnTo>
                <a:lnTo>
                  <a:pt x="1157" y="58"/>
                </a:lnTo>
                <a:lnTo>
                  <a:pt x="1170" y="41"/>
                </a:lnTo>
                <a:lnTo>
                  <a:pt x="1187" y="24"/>
                </a:lnTo>
                <a:lnTo>
                  <a:pt x="1204" y="13"/>
                </a:lnTo>
                <a:lnTo>
                  <a:pt x="1228" y="4"/>
                </a:lnTo>
                <a:lnTo>
                  <a:pt x="1249" y="0"/>
                </a:lnTo>
                <a:lnTo>
                  <a:pt x="1270" y="0"/>
                </a:lnTo>
                <a:lnTo>
                  <a:pt x="1287" y="3"/>
                </a:lnTo>
                <a:lnTo>
                  <a:pt x="1305" y="8"/>
                </a:lnTo>
                <a:lnTo>
                  <a:pt x="1318" y="14"/>
                </a:lnTo>
                <a:lnTo>
                  <a:pt x="1334" y="25"/>
                </a:lnTo>
                <a:lnTo>
                  <a:pt x="1346" y="36"/>
                </a:lnTo>
                <a:lnTo>
                  <a:pt x="1360" y="53"/>
                </a:lnTo>
                <a:lnTo>
                  <a:pt x="1370" y="72"/>
                </a:lnTo>
                <a:lnTo>
                  <a:pt x="1376" y="90"/>
                </a:lnTo>
                <a:lnTo>
                  <a:pt x="1380" y="111"/>
                </a:lnTo>
                <a:lnTo>
                  <a:pt x="1380" y="129"/>
                </a:lnTo>
                <a:lnTo>
                  <a:pt x="1377" y="149"/>
                </a:lnTo>
                <a:lnTo>
                  <a:pt x="1370" y="166"/>
                </a:lnTo>
                <a:lnTo>
                  <a:pt x="1363" y="182"/>
                </a:lnTo>
                <a:lnTo>
                  <a:pt x="1353" y="194"/>
                </a:lnTo>
                <a:lnTo>
                  <a:pt x="1341" y="208"/>
                </a:lnTo>
                <a:lnTo>
                  <a:pt x="1328" y="220"/>
                </a:lnTo>
                <a:lnTo>
                  <a:pt x="1311" y="229"/>
                </a:lnTo>
                <a:lnTo>
                  <a:pt x="1295" y="235"/>
                </a:lnTo>
                <a:lnTo>
                  <a:pt x="1279" y="239"/>
                </a:lnTo>
                <a:lnTo>
                  <a:pt x="1262" y="239"/>
                </a:lnTo>
                <a:lnTo>
                  <a:pt x="1248" y="239"/>
                </a:lnTo>
                <a:lnTo>
                  <a:pt x="1232" y="236"/>
                </a:lnTo>
                <a:lnTo>
                  <a:pt x="1219" y="262"/>
                </a:lnTo>
                <a:lnTo>
                  <a:pt x="1231" y="296"/>
                </a:lnTo>
                <a:lnTo>
                  <a:pt x="1255" y="336"/>
                </a:lnTo>
                <a:lnTo>
                  <a:pt x="1269" y="394"/>
                </a:lnTo>
                <a:lnTo>
                  <a:pt x="1253" y="441"/>
                </a:lnTo>
                <a:lnTo>
                  <a:pt x="1219" y="503"/>
                </a:lnTo>
                <a:lnTo>
                  <a:pt x="1176" y="569"/>
                </a:lnTo>
                <a:lnTo>
                  <a:pt x="1135" y="644"/>
                </a:lnTo>
                <a:lnTo>
                  <a:pt x="1114" y="708"/>
                </a:lnTo>
                <a:lnTo>
                  <a:pt x="1097" y="780"/>
                </a:lnTo>
                <a:lnTo>
                  <a:pt x="1101" y="799"/>
                </a:lnTo>
                <a:lnTo>
                  <a:pt x="1101" y="817"/>
                </a:lnTo>
                <a:lnTo>
                  <a:pt x="1098" y="834"/>
                </a:lnTo>
                <a:lnTo>
                  <a:pt x="1090" y="848"/>
                </a:lnTo>
                <a:lnTo>
                  <a:pt x="1080" y="862"/>
                </a:lnTo>
                <a:lnTo>
                  <a:pt x="1067" y="876"/>
                </a:lnTo>
                <a:lnTo>
                  <a:pt x="1052" y="890"/>
                </a:lnTo>
                <a:lnTo>
                  <a:pt x="1032" y="901"/>
                </a:lnTo>
                <a:lnTo>
                  <a:pt x="1012" y="907"/>
                </a:lnTo>
                <a:lnTo>
                  <a:pt x="997" y="908"/>
                </a:lnTo>
                <a:lnTo>
                  <a:pt x="983" y="907"/>
                </a:lnTo>
                <a:lnTo>
                  <a:pt x="969" y="900"/>
                </a:lnTo>
                <a:lnTo>
                  <a:pt x="959" y="889"/>
                </a:lnTo>
                <a:lnTo>
                  <a:pt x="955" y="872"/>
                </a:lnTo>
                <a:lnTo>
                  <a:pt x="955" y="853"/>
                </a:lnTo>
                <a:lnTo>
                  <a:pt x="956" y="832"/>
                </a:lnTo>
                <a:lnTo>
                  <a:pt x="962" y="814"/>
                </a:lnTo>
                <a:lnTo>
                  <a:pt x="970" y="794"/>
                </a:lnTo>
                <a:lnTo>
                  <a:pt x="977" y="779"/>
                </a:lnTo>
                <a:lnTo>
                  <a:pt x="984" y="766"/>
                </a:lnTo>
                <a:lnTo>
                  <a:pt x="994" y="759"/>
                </a:lnTo>
                <a:lnTo>
                  <a:pt x="1005" y="756"/>
                </a:lnTo>
                <a:lnTo>
                  <a:pt x="1025" y="749"/>
                </a:lnTo>
                <a:lnTo>
                  <a:pt x="1042" y="737"/>
                </a:lnTo>
                <a:lnTo>
                  <a:pt x="1053" y="722"/>
                </a:lnTo>
                <a:lnTo>
                  <a:pt x="1101" y="515"/>
                </a:lnTo>
                <a:lnTo>
                  <a:pt x="1088" y="510"/>
                </a:lnTo>
                <a:lnTo>
                  <a:pt x="884" y="620"/>
                </a:lnTo>
                <a:lnTo>
                  <a:pt x="822" y="693"/>
                </a:lnTo>
                <a:lnTo>
                  <a:pt x="719" y="831"/>
                </a:lnTo>
                <a:lnTo>
                  <a:pt x="608" y="976"/>
                </a:lnTo>
                <a:lnTo>
                  <a:pt x="498" y="1120"/>
                </a:lnTo>
                <a:lnTo>
                  <a:pt x="498" y="1142"/>
                </a:lnTo>
                <a:lnTo>
                  <a:pt x="514" y="1156"/>
                </a:lnTo>
                <a:lnTo>
                  <a:pt x="527" y="1173"/>
                </a:lnTo>
                <a:lnTo>
                  <a:pt x="534" y="1193"/>
                </a:lnTo>
                <a:lnTo>
                  <a:pt x="538" y="1211"/>
                </a:lnTo>
                <a:lnTo>
                  <a:pt x="541" y="1234"/>
                </a:lnTo>
                <a:lnTo>
                  <a:pt x="539" y="1256"/>
                </a:lnTo>
                <a:lnTo>
                  <a:pt x="534" y="1277"/>
                </a:lnTo>
                <a:lnTo>
                  <a:pt x="525" y="1296"/>
                </a:lnTo>
                <a:lnTo>
                  <a:pt x="514" y="1311"/>
                </a:lnTo>
                <a:lnTo>
                  <a:pt x="311" y="1099"/>
                </a:lnTo>
                <a:lnTo>
                  <a:pt x="590" y="727"/>
                </a:lnTo>
                <a:lnTo>
                  <a:pt x="207" y="965"/>
                </a:lnTo>
                <a:lnTo>
                  <a:pt x="0" y="728"/>
                </a:lnTo>
                <a:lnTo>
                  <a:pt x="24" y="717"/>
                </a:lnTo>
                <a:lnTo>
                  <a:pt x="48" y="711"/>
                </a:lnTo>
                <a:lnTo>
                  <a:pt x="66" y="710"/>
                </a:lnTo>
                <a:lnTo>
                  <a:pt x="86" y="713"/>
                </a:lnTo>
                <a:lnTo>
                  <a:pt x="108" y="721"/>
                </a:lnTo>
                <a:lnTo>
                  <a:pt x="129" y="731"/>
                </a:lnTo>
                <a:lnTo>
                  <a:pt x="153" y="745"/>
                </a:lnTo>
                <a:lnTo>
                  <a:pt x="176" y="762"/>
                </a:lnTo>
                <a:lnTo>
                  <a:pt x="203" y="762"/>
                </a:lnTo>
                <a:lnTo>
                  <a:pt x="366" y="669"/>
                </a:lnTo>
                <a:lnTo>
                  <a:pt x="490" y="596"/>
                </a:lnTo>
                <a:lnTo>
                  <a:pt x="646" y="507"/>
                </a:lnTo>
                <a:lnTo>
                  <a:pt x="718" y="452"/>
                </a:lnTo>
                <a:lnTo>
                  <a:pt x="848" y="239"/>
                </a:lnTo>
                <a:lnTo>
                  <a:pt x="653" y="266"/>
                </a:lnTo>
                <a:lnTo>
                  <a:pt x="636" y="279"/>
                </a:lnTo>
                <a:lnTo>
                  <a:pt x="621" y="293"/>
                </a:lnTo>
                <a:lnTo>
                  <a:pt x="608" y="308"/>
                </a:lnTo>
                <a:lnTo>
                  <a:pt x="593" y="321"/>
                </a:lnTo>
                <a:lnTo>
                  <a:pt x="574" y="332"/>
                </a:lnTo>
                <a:lnTo>
                  <a:pt x="555" y="342"/>
                </a:lnTo>
                <a:lnTo>
                  <a:pt x="535" y="349"/>
                </a:lnTo>
                <a:lnTo>
                  <a:pt x="517" y="353"/>
                </a:lnTo>
                <a:lnTo>
                  <a:pt x="497" y="355"/>
                </a:lnTo>
                <a:lnTo>
                  <a:pt x="476" y="352"/>
                </a:lnTo>
                <a:lnTo>
                  <a:pt x="463" y="346"/>
                </a:lnTo>
                <a:lnTo>
                  <a:pt x="455" y="339"/>
                </a:lnTo>
                <a:lnTo>
                  <a:pt x="453" y="331"/>
                </a:lnTo>
                <a:lnTo>
                  <a:pt x="459" y="321"/>
                </a:lnTo>
                <a:lnTo>
                  <a:pt x="460" y="308"/>
                </a:lnTo>
                <a:lnTo>
                  <a:pt x="462" y="293"/>
                </a:lnTo>
                <a:lnTo>
                  <a:pt x="466" y="277"/>
                </a:lnTo>
                <a:lnTo>
                  <a:pt x="476" y="259"/>
                </a:lnTo>
                <a:lnTo>
                  <a:pt x="488" y="245"/>
                </a:lnTo>
                <a:lnTo>
                  <a:pt x="504" y="232"/>
                </a:lnTo>
                <a:lnTo>
                  <a:pt x="522" y="221"/>
                </a:lnTo>
                <a:lnTo>
                  <a:pt x="541" y="211"/>
                </a:lnTo>
                <a:lnTo>
                  <a:pt x="560" y="208"/>
                </a:lnTo>
                <a:lnTo>
                  <a:pt x="580" y="213"/>
                </a:lnTo>
                <a:lnTo>
                  <a:pt x="598" y="218"/>
                </a:lnTo>
                <a:lnTo>
                  <a:pt x="663" y="211"/>
                </a:lnTo>
                <a:lnTo>
                  <a:pt x="742" y="190"/>
                </a:lnTo>
                <a:lnTo>
                  <a:pt x="834" y="153"/>
                </a:lnTo>
                <a:lnTo>
                  <a:pt x="911" y="115"/>
                </a:lnTo>
                <a:lnTo>
                  <a:pt x="974" y="98"/>
                </a:lnTo>
                <a:lnTo>
                  <a:pt x="1024" y="12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F3E-B8E1-41DE-ABDA-865F1B4BD0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ff"/>
                </a:solidFill>
                <a:latin typeface="Times New Roman"/>
              </a:rPr>
              <a:t>Planification des vacances</a:t>
            </a:r>
            <a:endParaRPr b="0" lang="en-US" sz="40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Maintien du service à la clientèle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Recrutement de personn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-577800">
              <a:lnSpc>
                <a:spcPct val="14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ff"/>
                </a:solidFill>
                <a:latin typeface="BlackChancery"/>
              </a:rPr>
              <a:t>Période de vacance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7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"/>
          <p:cNvSpPr/>
          <p:nvPr/>
        </p:nvSpPr>
        <p:spPr>
          <a:xfrm>
            <a:off x="6039000" y="4060800"/>
            <a:ext cx="3105000" cy="27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835600" y="4114800"/>
            <a:ext cx="946080" cy="1981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581880" y="5403960"/>
            <a:ext cx="2381040" cy="927000"/>
          </a:xfrm>
          <a:prstGeom prst="wedgeEllipseCallout">
            <a:avLst>
              <a:gd name="adj1" fmla="val -45731"/>
              <a:gd name="adj2" fmla="val -116782"/>
            </a:avLst>
          </a:prstGeom>
          <a:gradFill rotWithShape="0">
            <a:gsLst>
              <a:gs pos="0">
                <a:srgbClr val="0099cc"/>
              </a:gs>
              <a:gs pos="50000">
                <a:srgbClr val="0099cc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Ha ! Je suis ass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atigué là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60040" y="5805360"/>
            <a:ext cx="255204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Fin de la 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48160" y="6025680"/>
            <a:ext cx="951840" cy="20124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57080" y="3618000"/>
            <a:ext cx="187092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Menu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953120" y="3989520"/>
            <a:ext cx="12600" cy="868320"/>
          </a:xfrm>
          <a:prstGeom prst="line">
            <a:avLst/>
          </a:prstGeom>
          <a:ln w="698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292-6638-4A4D-B031-F01CBAD3741D}" type="slidenum">
              <a:t>5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8280" y="2857320"/>
            <a:ext cx="60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66cc"/>
                </a:solidFill>
                <a:latin typeface="BlackChancery"/>
              </a:rPr>
              <a:t>Merci de votre attention !</a:t>
            </a:r>
            <a:endParaRPr b="0" lang="en-US" sz="4400" spc="-1" strike="noStrike">
              <a:solidFill>
                <a:srgbClr val="3366cc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smine Petitcle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6C2-DD77-4AB9-87FF-E56A79966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1:04:25Z</dcterms:created>
  <dc:creator>Jasmine Petitclerc</dc:creator>
  <dc:description/>
  <dc:language>en-US</dc:language>
  <cp:lastModifiedBy>dmdfor1</cp:lastModifiedBy>
  <dcterms:modified xsi:type="dcterms:W3CDTF">2002-01-16T18:17:18Z</dcterms:modified>
  <cp:revision>38</cp:revision>
  <dc:subject/>
  <dc:title>Aucun titre de diapositive</dc:title>
</cp:coreProperties>
</file>