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5C7F-90E1-4ABC-AAAB-B41071859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2BDA-3C76-4E95-8E9C-DBD08BC0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1406-ACEA-47CD-B8B8-3A4E93F83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7E29-F082-4B63-857C-BA280167F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8376-7B31-4765-8C96-28870A814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C835-B86D-47EB-ACA7-C9260CE1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0F47C-DE94-4F7C-9E3B-A8FAF6DA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825A-3127-4586-BE32-C11F435C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CCA1A-92CD-43CD-A779-D123575A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17680" y="297000"/>
            <a:ext cx="8596080" cy="57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BAEC-7A81-40DA-9A5A-4E60EF8C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A03E-F3DF-47DD-B5B6-C68901F3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B1AA-27D9-4908-A843-30589930B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AB7B4-425D-44DD-A971-99E4640D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91BC-EC46-493C-809F-9F13DC1B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3B6D-0FA2-46A2-95F8-4F627439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2EAA-E961-4ACD-9B7C-DC792DB85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AD3D-5157-40EC-9FB9-51E5F2887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86E1-5BF9-474C-838D-D2BEA5EF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360F-F4B7-4E68-899A-1F1E219C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DDEC-D43B-4543-BFFF-3E778F09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17680" y="297000"/>
            <a:ext cx="8596080" cy="57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F704-23DC-4BC6-BB1A-138CE909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BC41-A436-45B7-88D3-926770AC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0CDB-C261-4040-8CE3-D622F53B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3485-C57C-4CD1-8B6D-636B8816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3760" y="1763640"/>
            <a:ext cx="6899400" cy="17136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c6c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98360" y="152280"/>
            <a:ext cx="716040" cy="6400800"/>
          </a:xfrm>
          <a:custGeom>
            <a:avLst/>
            <a:gdLst/>
            <a:ahLst/>
            <a:rect l="l" t="t" r="r" b="b"/>
            <a:pathLst>
              <a:path w="883" h="4115">
                <a:moveTo>
                  <a:pt x="86" y="3201"/>
                </a:moveTo>
                <a:cubicBezTo>
                  <a:pt x="89" y="3056"/>
                  <a:pt x="83" y="2912"/>
                  <a:pt x="79" y="2730"/>
                </a:cubicBezTo>
                <a:cubicBezTo>
                  <a:pt x="75" y="2548"/>
                  <a:pt x="60" y="2270"/>
                  <a:pt x="64" y="2109"/>
                </a:cubicBezTo>
                <a:cubicBezTo>
                  <a:pt x="68" y="1948"/>
                  <a:pt x="99" y="1927"/>
                  <a:pt x="101" y="1765"/>
                </a:cubicBezTo>
                <a:cubicBezTo>
                  <a:pt x="103" y="1603"/>
                  <a:pt x="90" y="1323"/>
                  <a:pt x="79" y="1137"/>
                </a:cubicBezTo>
                <a:cubicBezTo>
                  <a:pt x="68" y="951"/>
                  <a:pt x="44" y="793"/>
                  <a:pt x="34" y="651"/>
                </a:cubicBezTo>
                <a:cubicBezTo>
                  <a:pt x="24" y="509"/>
                  <a:pt x="17" y="385"/>
                  <a:pt x="19" y="284"/>
                </a:cubicBezTo>
                <a:cubicBezTo>
                  <a:pt x="21" y="183"/>
                  <a:pt x="32" y="90"/>
                  <a:pt x="49" y="45"/>
                </a:cubicBezTo>
                <a:cubicBezTo>
                  <a:pt x="66" y="0"/>
                  <a:pt x="91" y="16"/>
                  <a:pt x="123" y="15"/>
                </a:cubicBezTo>
                <a:cubicBezTo>
                  <a:pt x="155" y="14"/>
                  <a:pt x="204" y="37"/>
                  <a:pt x="243" y="37"/>
                </a:cubicBezTo>
                <a:cubicBezTo>
                  <a:pt x="282" y="37"/>
                  <a:pt x="310" y="20"/>
                  <a:pt x="355" y="15"/>
                </a:cubicBezTo>
                <a:cubicBezTo>
                  <a:pt x="400" y="10"/>
                  <a:pt x="453" y="0"/>
                  <a:pt x="512" y="7"/>
                </a:cubicBezTo>
                <a:cubicBezTo>
                  <a:pt x="571" y="14"/>
                  <a:pt x="659" y="37"/>
                  <a:pt x="707" y="60"/>
                </a:cubicBezTo>
                <a:cubicBezTo>
                  <a:pt x="755" y="83"/>
                  <a:pt x="783" y="99"/>
                  <a:pt x="797" y="142"/>
                </a:cubicBezTo>
                <a:cubicBezTo>
                  <a:pt x="811" y="185"/>
                  <a:pt x="788" y="235"/>
                  <a:pt x="789" y="321"/>
                </a:cubicBezTo>
                <a:cubicBezTo>
                  <a:pt x="790" y="407"/>
                  <a:pt x="794" y="537"/>
                  <a:pt x="804" y="658"/>
                </a:cubicBezTo>
                <a:cubicBezTo>
                  <a:pt x="814" y="779"/>
                  <a:pt x="844" y="892"/>
                  <a:pt x="849" y="1047"/>
                </a:cubicBezTo>
                <a:cubicBezTo>
                  <a:pt x="854" y="1202"/>
                  <a:pt x="840" y="1394"/>
                  <a:pt x="834" y="1586"/>
                </a:cubicBezTo>
                <a:cubicBezTo>
                  <a:pt x="828" y="1778"/>
                  <a:pt x="805" y="1995"/>
                  <a:pt x="812" y="2199"/>
                </a:cubicBezTo>
                <a:cubicBezTo>
                  <a:pt x="819" y="2403"/>
                  <a:pt x="875" y="2624"/>
                  <a:pt x="879" y="2812"/>
                </a:cubicBezTo>
                <a:cubicBezTo>
                  <a:pt x="883" y="3000"/>
                  <a:pt x="840" y="3138"/>
                  <a:pt x="834" y="3329"/>
                </a:cubicBezTo>
                <a:cubicBezTo>
                  <a:pt x="828" y="3520"/>
                  <a:pt x="848" y="3836"/>
                  <a:pt x="842" y="3957"/>
                </a:cubicBezTo>
                <a:cubicBezTo>
                  <a:pt x="836" y="4078"/>
                  <a:pt x="833" y="4033"/>
                  <a:pt x="797" y="4054"/>
                </a:cubicBezTo>
                <a:cubicBezTo>
                  <a:pt x="761" y="4075"/>
                  <a:pt x="686" y="4086"/>
                  <a:pt x="625" y="4084"/>
                </a:cubicBezTo>
                <a:cubicBezTo>
                  <a:pt x="564" y="4082"/>
                  <a:pt x="492" y="4041"/>
                  <a:pt x="430" y="4039"/>
                </a:cubicBezTo>
                <a:cubicBezTo>
                  <a:pt x="368" y="4037"/>
                  <a:pt x="302" y="4057"/>
                  <a:pt x="251" y="4069"/>
                </a:cubicBezTo>
                <a:cubicBezTo>
                  <a:pt x="200" y="4081"/>
                  <a:pt x="162" y="4115"/>
                  <a:pt x="123" y="4114"/>
                </a:cubicBezTo>
                <a:cubicBezTo>
                  <a:pt x="84" y="4113"/>
                  <a:pt x="38" y="4102"/>
                  <a:pt x="19" y="4062"/>
                </a:cubicBezTo>
                <a:cubicBezTo>
                  <a:pt x="0" y="4022"/>
                  <a:pt x="3" y="3952"/>
                  <a:pt x="11" y="3875"/>
                </a:cubicBezTo>
                <a:cubicBezTo>
                  <a:pt x="19" y="3798"/>
                  <a:pt x="51" y="3710"/>
                  <a:pt x="64" y="3598"/>
                </a:cubicBezTo>
                <a:cubicBezTo>
                  <a:pt x="77" y="3486"/>
                  <a:pt x="83" y="3346"/>
                  <a:pt x="86" y="3201"/>
                </a:cubicBezTo>
                <a:close/>
              </a:path>
            </a:pathLst>
          </a:custGeom>
          <a:solidFill>
            <a:srgbClr val="9f83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4000" y="1157400"/>
            <a:ext cx="152280" cy="914400"/>
          </a:xfrm>
          <a:custGeom>
            <a:avLst/>
            <a:gdLst/>
            <a:ahLst/>
            <a:rect l="l" t="t" r="r" b="b"/>
            <a:pathLst>
              <a:path w="110" h="842">
                <a:moveTo>
                  <a:pt x="92" y="0"/>
                </a:moveTo>
                <a:lnTo>
                  <a:pt x="81" y="170"/>
                </a:lnTo>
                <a:lnTo>
                  <a:pt x="51" y="362"/>
                </a:lnTo>
                <a:lnTo>
                  <a:pt x="74" y="539"/>
                </a:lnTo>
                <a:lnTo>
                  <a:pt x="88" y="709"/>
                </a:lnTo>
                <a:lnTo>
                  <a:pt x="110" y="842"/>
                </a:lnTo>
                <a:lnTo>
                  <a:pt x="81" y="768"/>
                </a:lnTo>
                <a:lnTo>
                  <a:pt x="59" y="716"/>
                </a:lnTo>
                <a:lnTo>
                  <a:pt x="29" y="598"/>
                </a:lnTo>
                <a:lnTo>
                  <a:pt x="0" y="414"/>
                </a:lnTo>
                <a:lnTo>
                  <a:pt x="22" y="251"/>
                </a:lnTo>
                <a:lnTo>
                  <a:pt x="51" y="81"/>
                </a:lnTo>
                <a:lnTo>
                  <a:pt x="9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7120" y="63277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7F69-908B-4D83-AFE8-39574D6E4534}" type="datetime3">
              <a:rPr b="1" lang="fr-FR" sz="1400" spc="-1" strike="noStrike">
                <a:solidFill>
                  <a:srgbClr val="000000"/>
                </a:solidFill>
                <a:latin typeface="Book Antiqua"/>
              </a:rPr>
              <a:t>29 juillet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57880" y="6329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CC1C-1523-4C10-89AE-9AA332137E34}" type="slidenum">
              <a:rPr b="1" lang="fr-FR" sz="14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10"/>
          <a:stretch/>
        </p:blipFill>
        <p:spPr>
          <a:xfrm>
            <a:off x="7251840" y="0"/>
            <a:ext cx="189216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228600" y="3124080"/>
            <a:ext cx="8564400" cy="390240"/>
            <a:chOff x="228600" y="3124080"/>
            <a:chExt cx="8564400" cy="390240"/>
          </a:xfrm>
        </p:grpSpPr>
        <p:sp>
          <p:nvSpPr>
            <p:cNvPr id="46" name=""/>
            <p:cNvSpPr/>
            <p:nvPr/>
          </p:nvSpPr>
          <p:spPr>
            <a:xfrm flipH="1" flipV="1" rot="16200000">
              <a:off x="4434480" y="-930240"/>
              <a:ext cx="152280" cy="8564400"/>
            </a:xfrm>
            <a:custGeom>
              <a:avLst/>
              <a:gdLst/>
              <a:ahLst/>
              <a:rect l="l" t="t" r="r" b="b"/>
              <a:pathLst>
                <a:path w="1699" h="3264">
                  <a:moveTo>
                    <a:pt x="91" y="526"/>
                  </a:moveTo>
                  <a:cubicBezTo>
                    <a:pt x="116" y="403"/>
                    <a:pt x="152" y="257"/>
                    <a:pt x="211" y="175"/>
                  </a:cubicBezTo>
                  <a:cubicBezTo>
                    <a:pt x="270" y="93"/>
                    <a:pt x="345" y="56"/>
                    <a:pt x="443" y="32"/>
                  </a:cubicBezTo>
                  <a:cubicBezTo>
                    <a:pt x="541" y="8"/>
                    <a:pt x="675" y="36"/>
                    <a:pt x="802" y="32"/>
                  </a:cubicBezTo>
                  <a:cubicBezTo>
                    <a:pt x="929" y="28"/>
                    <a:pt x="1093" y="11"/>
                    <a:pt x="1206" y="10"/>
                  </a:cubicBezTo>
                  <a:cubicBezTo>
                    <a:pt x="1319" y="9"/>
                    <a:pt x="1407" y="0"/>
                    <a:pt x="1482" y="25"/>
                  </a:cubicBezTo>
                  <a:cubicBezTo>
                    <a:pt x="1557" y="50"/>
                    <a:pt x="1626" y="97"/>
                    <a:pt x="1655" y="160"/>
                  </a:cubicBezTo>
                  <a:cubicBezTo>
                    <a:pt x="1684" y="223"/>
                    <a:pt x="1669" y="310"/>
                    <a:pt x="1655" y="406"/>
                  </a:cubicBezTo>
                  <a:cubicBezTo>
                    <a:pt x="1641" y="502"/>
                    <a:pt x="1587" y="608"/>
                    <a:pt x="1572" y="736"/>
                  </a:cubicBezTo>
                  <a:cubicBezTo>
                    <a:pt x="1557" y="864"/>
                    <a:pt x="1555" y="1036"/>
                    <a:pt x="1565" y="1177"/>
                  </a:cubicBezTo>
                  <a:cubicBezTo>
                    <a:pt x="1575" y="1318"/>
                    <a:pt x="1611" y="1405"/>
                    <a:pt x="1632" y="1581"/>
                  </a:cubicBezTo>
                  <a:cubicBezTo>
                    <a:pt x="1653" y="1757"/>
                    <a:pt x="1699" y="2024"/>
                    <a:pt x="1692" y="2232"/>
                  </a:cubicBezTo>
                  <a:cubicBezTo>
                    <a:pt x="1685" y="2440"/>
                    <a:pt x="1598" y="2693"/>
                    <a:pt x="1587" y="2830"/>
                  </a:cubicBezTo>
                  <a:cubicBezTo>
                    <a:pt x="1576" y="2967"/>
                    <a:pt x="1634" y="2988"/>
                    <a:pt x="1625" y="3055"/>
                  </a:cubicBezTo>
                  <a:cubicBezTo>
                    <a:pt x="1616" y="3122"/>
                    <a:pt x="1585" y="3204"/>
                    <a:pt x="1535" y="3234"/>
                  </a:cubicBezTo>
                  <a:cubicBezTo>
                    <a:pt x="1485" y="3264"/>
                    <a:pt x="1427" y="3239"/>
                    <a:pt x="1325" y="3234"/>
                  </a:cubicBezTo>
                  <a:cubicBezTo>
                    <a:pt x="1223" y="3229"/>
                    <a:pt x="1057" y="3202"/>
                    <a:pt x="921" y="3204"/>
                  </a:cubicBezTo>
                  <a:cubicBezTo>
                    <a:pt x="785" y="3206"/>
                    <a:pt x="641" y="3255"/>
                    <a:pt x="510" y="3249"/>
                  </a:cubicBezTo>
                  <a:cubicBezTo>
                    <a:pt x="379" y="3243"/>
                    <a:pt x="214" y="3217"/>
                    <a:pt x="136" y="3167"/>
                  </a:cubicBezTo>
                  <a:cubicBezTo>
                    <a:pt x="58" y="3117"/>
                    <a:pt x="45" y="3036"/>
                    <a:pt x="39" y="2950"/>
                  </a:cubicBezTo>
                  <a:cubicBezTo>
                    <a:pt x="33" y="2864"/>
                    <a:pt x="89" y="2771"/>
                    <a:pt x="99" y="2651"/>
                  </a:cubicBezTo>
                  <a:cubicBezTo>
                    <a:pt x="109" y="2531"/>
                    <a:pt x="114" y="2372"/>
                    <a:pt x="99" y="2232"/>
                  </a:cubicBezTo>
                  <a:cubicBezTo>
                    <a:pt x="84" y="2092"/>
                    <a:pt x="18" y="1975"/>
                    <a:pt x="9" y="1813"/>
                  </a:cubicBezTo>
                  <a:cubicBezTo>
                    <a:pt x="0" y="1651"/>
                    <a:pt x="37" y="1409"/>
                    <a:pt x="46" y="1259"/>
                  </a:cubicBezTo>
                  <a:cubicBezTo>
                    <a:pt x="55" y="1109"/>
                    <a:pt x="52" y="1036"/>
                    <a:pt x="61" y="915"/>
                  </a:cubicBezTo>
                  <a:cubicBezTo>
                    <a:pt x="70" y="794"/>
                    <a:pt x="66" y="649"/>
                    <a:pt x="91" y="526"/>
                  </a:cubicBezTo>
                  <a:close/>
                </a:path>
              </a:pathLst>
            </a:custGeom>
            <a:solidFill>
              <a:srgbClr val="c6c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809880" y="3124080"/>
              <a:ext cx="1219320" cy="390240"/>
              <a:chOff x="3809880" y="3124080"/>
              <a:chExt cx="1219320" cy="39024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3809880" y="3124440"/>
                <a:ext cx="1219320" cy="389880"/>
                <a:chOff x="3809880" y="3124440"/>
                <a:chExt cx="1219320" cy="38988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3906000" y="3241800"/>
                  <a:ext cx="1123200" cy="272520"/>
                </a:xfrm>
                <a:custGeom>
                  <a:avLst/>
                  <a:gdLst/>
                  <a:ahLst/>
                  <a:rect l="l" t="t" r="r" b="b"/>
                  <a:pathLst>
                    <a:path w="2161" h="457">
                      <a:moveTo>
                        <a:pt x="7" y="139"/>
                      </a:moveTo>
                      <a:cubicBezTo>
                        <a:pt x="13" y="175"/>
                        <a:pt x="59" y="234"/>
                        <a:pt x="89" y="266"/>
                      </a:cubicBezTo>
                      <a:cubicBezTo>
                        <a:pt x="119" y="298"/>
                        <a:pt x="143" y="327"/>
                        <a:pt x="187" y="333"/>
                      </a:cubicBezTo>
                      <a:cubicBezTo>
                        <a:pt x="231" y="339"/>
                        <a:pt x="289" y="312"/>
                        <a:pt x="351" y="303"/>
                      </a:cubicBezTo>
                      <a:cubicBezTo>
                        <a:pt x="413" y="294"/>
                        <a:pt x="478" y="288"/>
                        <a:pt x="561" y="281"/>
                      </a:cubicBezTo>
                      <a:cubicBezTo>
                        <a:pt x="644" y="274"/>
                        <a:pt x="751" y="263"/>
                        <a:pt x="852" y="259"/>
                      </a:cubicBezTo>
                      <a:cubicBezTo>
                        <a:pt x="953" y="255"/>
                        <a:pt x="1052" y="249"/>
                        <a:pt x="1167" y="259"/>
                      </a:cubicBezTo>
                      <a:cubicBezTo>
                        <a:pt x="1282" y="269"/>
                        <a:pt x="1443" y="294"/>
                        <a:pt x="1541" y="318"/>
                      </a:cubicBezTo>
                      <a:cubicBezTo>
                        <a:pt x="1639" y="342"/>
                        <a:pt x="1697" y="379"/>
                        <a:pt x="1758" y="401"/>
                      </a:cubicBezTo>
                      <a:cubicBezTo>
                        <a:pt x="1819" y="423"/>
                        <a:pt x="1858" y="449"/>
                        <a:pt x="1907" y="453"/>
                      </a:cubicBezTo>
                      <a:cubicBezTo>
                        <a:pt x="1956" y="457"/>
                        <a:pt x="2015" y="440"/>
                        <a:pt x="2049" y="423"/>
                      </a:cubicBezTo>
                      <a:cubicBezTo>
                        <a:pt x="2083" y="406"/>
                        <a:pt x="2099" y="377"/>
                        <a:pt x="2109" y="348"/>
                      </a:cubicBezTo>
                      <a:cubicBezTo>
                        <a:pt x="2119" y="319"/>
                        <a:pt x="2127" y="283"/>
                        <a:pt x="2109" y="251"/>
                      </a:cubicBezTo>
                      <a:cubicBezTo>
                        <a:pt x="2091" y="219"/>
                        <a:pt x="2161" y="191"/>
                        <a:pt x="2004" y="154"/>
                      </a:cubicBezTo>
                      <a:cubicBezTo>
                        <a:pt x="1847" y="117"/>
                        <a:pt x="1445" y="52"/>
                        <a:pt x="1167" y="27"/>
                      </a:cubicBezTo>
                      <a:cubicBezTo>
                        <a:pt x="889" y="2"/>
                        <a:pt x="522" y="0"/>
                        <a:pt x="336" y="4"/>
                      </a:cubicBezTo>
                      <a:cubicBezTo>
                        <a:pt x="150" y="8"/>
                        <a:pt x="104" y="27"/>
                        <a:pt x="52" y="49"/>
                      </a:cubicBezTo>
                      <a:cubicBezTo>
                        <a:pt x="0" y="71"/>
                        <a:pt x="1" y="103"/>
                        <a:pt x="7" y="139"/>
                      </a:cubicBezTo>
                      <a:close/>
                    </a:path>
                  </a:pathLst>
                </a:custGeom>
                <a:solidFill>
                  <a:srgbClr val="892d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3809880" y="3124440"/>
                  <a:ext cx="1216800" cy="348840"/>
                </a:xfrm>
                <a:custGeom>
                  <a:avLst/>
                  <a:gdLst/>
                  <a:ahLst/>
                  <a:rect l="l" t="t" r="r" b="b"/>
                  <a:pathLst>
                    <a:path w="2341" h="585">
                      <a:moveTo>
                        <a:pt x="506" y="441"/>
                      </a:moveTo>
                      <a:cubicBezTo>
                        <a:pt x="440" y="458"/>
                        <a:pt x="346" y="507"/>
                        <a:pt x="274" y="515"/>
                      </a:cubicBezTo>
                      <a:cubicBezTo>
                        <a:pt x="202" y="523"/>
                        <a:pt x="117" y="510"/>
                        <a:pt x="72" y="486"/>
                      </a:cubicBezTo>
                      <a:cubicBezTo>
                        <a:pt x="27" y="462"/>
                        <a:pt x="10" y="417"/>
                        <a:pt x="5" y="373"/>
                      </a:cubicBezTo>
                      <a:cubicBezTo>
                        <a:pt x="0" y="329"/>
                        <a:pt x="8" y="271"/>
                        <a:pt x="43" y="224"/>
                      </a:cubicBezTo>
                      <a:cubicBezTo>
                        <a:pt x="78" y="177"/>
                        <a:pt x="143" y="118"/>
                        <a:pt x="215" y="89"/>
                      </a:cubicBezTo>
                      <a:cubicBezTo>
                        <a:pt x="287" y="60"/>
                        <a:pt x="390" y="55"/>
                        <a:pt x="476" y="52"/>
                      </a:cubicBezTo>
                      <a:cubicBezTo>
                        <a:pt x="562" y="49"/>
                        <a:pt x="629" y="77"/>
                        <a:pt x="731" y="74"/>
                      </a:cubicBezTo>
                      <a:cubicBezTo>
                        <a:pt x="833" y="71"/>
                        <a:pt x="984" y="48"/>
                        <a:pt x="1090" y="37"/>
                      </a:cubicBezTo>
                      <a:cubicBezTo>
                        <a:pt x="1196" y="26"/>
                        <a:pt x="1252" y="12"/>
                        <a:pt x="1367" y="7"/>
                      </a:cubicBezTo>
                      <a:cubicBezTo>
                        <a:pt x="1482" y="2"/>
                        <a:pt x="1639" y="0"/>
                        <a:pt x="1778" y="7"/>
                      </a:cubicBezTo>
                      <a:cubicBezTo>
                        <a:pt x="1917" y="14"/>
                        <a:pt x="2119" y="35"/>
                        <a:pt x="2204" y="52"/>
                      </a:cubicBezTo>
                      <a:cubicBezTo>
                        <a:pt x="2289" y="69"/>
                        <a:pt x="2266" y="79"/>
                        <a:pt x="2287" y="111"/>
                      </a:cubicBezTo>
                      <a:cubicBezTo>
                        <a:pt x="2308" y="143"/>
                        <a:pt x="2323" y="202"/>
                        <a:pt x="2332" y="246"/>
                      </a:cubicBezTo>
                      <a:cubicBezTo>
                        <a:pt x="2341" y="290"/>
                        <a:pt x="2340" y="338"/>
                        <a:pt x="2339" y="373"/>
                      </a:cubicBezTo>
                      <a:cubicBezTo>
                        <a:pt x="2338" y="408"/>
                        <a:pt x="2324" y="429"/>
                        <a:pt x="2324" y="456"/>
                      </a:cubicBezTo>
                      <a:cubicBezTo>
                        <a:pt x="2324" y="483"/>
                        <a:pt x="2341" y="517"/>
                        <a:pt x="2339" y="538"/>
                      </a:cubicBezTo>
                      <a:cubicBezTo>
                        <a:pt x="2337" y="559"/>
                        <a:pt x="2326" y="581"/>
                        <a:pt x="2309" y="583"/>
                      </a:cubicBezTo>
                      <a:cubicBezTo>
                        <a:pt x="2292" y="585"/>
                        <a:pt x="2275" y="569"/>
                        <a:pt x="2234" y="553"/>
                      </a:cubicBezTo>
                      <a:cubicBezTo>
                        <a:pt x="2193" y="537"/>
                        <a:pt x="2138" y="504"/>
                        <a:pt x="2062" y="486"/>
                      </a:cubicBezTo>
                      <a:cubicBezTo>
                        <a:pt x="1986" y="468"/>
                        <a:pt x="1853" y="454"/>
                        <a:pt x="1778" y="448"/>
                      </a:cubicBezTo>
                      <a:cubicBezTo>
                        <a:pt x="1703" y="442"/>
                        <a:pt x="1688" y="453"/>
                        <a:pt x="1613" y="448"/>
                      </a:cubicBezTo>
                      <a:cubicBezTo>
                        <a:pt x="1538" y="443"/>
                        <a:pt x="1399" y="424"/>
                        <a:pt x="1329" y="418"/>
                      </a:cubicBezTo>
                      <a:cubicBezTo>
                        <a:pt x="1259" y="412"/>
                        <a:pt x="1267" y="410"/>
                        <a:pt x="1195" y="411"/>
                      </a:cubicBezTo>
                      <a:cubicBezTo>
                        <a:pt x="1123" y="412"/>
                        <a:pt x="982" y="426"/>
                        <a:pt x="895" y="426"/>
                      </a:cubicBezTo>
                      <a:cubicBezTo>
                        <a:pt x="808" y="426"/>
                        <a:pt x="738" y="410"/>
                        <a:pt x="671" y="411"/>
                      </a:cubicBezTo>
                      <a:cubicBezTo>
                        <a:pt x="604" y="412"/>
                        <a:pt x="572" y="424"/>
                        <a:pt x="506" y="441"/>
                      </a:cubicBezTo>
                      <a:close/>
                    </a:path>
                  </a:pathLst>
                </a:custGeom>
                <a:solidFill>
                  <a:srgbClr val="cc9b1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" name=""/>
              <p:cNvSpPr/>
              <p:nvPr/>
            </p:nvSpPr>
            <p:spPr>
              <a:xfrm>
                <a:off x="3844080" y="3182400"/>
                <a:ext cx="466560" cy="236520"/>
              </a:xfrm>
              <a:custGeom>
                <a:avLst/>
                <a:gdLst/>
                <a:ahLst/>
                <a:rect l="l" t="t" r="r" b="b"/>
                <a:pathLst>
                  <a:path w="898" h="397">
                    <a:moveTo>
                      <a:pt x="247" y="397"/>
                    </a:moveTo>
                    <a:lnTo>
                      <a:pt x="239" y="269"/>
                    </a:lnTo>
                    <a:lnTo>
                      <a:pt x="142" y="307"/>
                    </a:lnTo>
                    <a:lnTo>
                      <a:pt x="0" y="299"/>
                    </a:lnTo>
                    <a:lnTo>
                      <a:pt x="120" y="262"/>
                    </a:lnTo>
                    <a:lnTo>
                      <a:pt x="224" y="202"/>
                    </a:lnTo>
                    <a:lnTo>
                      <a:pt x="209" y="67"/>
                    </a:lnTo>
                    <a:lnTo>
                      <a:pt x="232" y="0"/>
                    </a:lnTo>
                    <a:lnTo>
                      <a:pt x="292" y="90"/>
                    </a:lnTo>
                    <a:lnTo>
                      <a:pt x="314" y="187"/>
                    </a:lnTo>
                    <a:lnTo>
                      <a:pt x="486" y="135"/>
                    </a:lnTo>
                    <a:lnTo>
                      <a:pt x="651" y="112"/>
                    </a:lnTo>
                    <a:lnTo>
                      <a:pt x="898" y="82"/>
                    </a:lnTo>
                    <a:lnTo>
                      <a:pt x="748" y="150"/>
                    </a:lnTo>
                    <a:lnTo>
                      <a:pt x="464" y="187"/>
                    </a:lnTo>
                    <a:lnTo>
                      <a:pt x="314" y="232"/>
                    </a:lnTo>
                    <a:lnTo>
                      <a:pt x="322" y="374"/>
                    </a:lnTo>
                    <a:lnTo>
                      <a:pt x="247" y="397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618080" y="3124080"/>
                <a:ext cx="81360" cy="200880"/>
              </a:xfrm>
              <a:custGeom>
                <a:avLst/>
                <a:gdLst/>
                <a:ahLst/>
                <a:rect l="l" t="t" r="r" b="b"/>
                <a:pathLst>
                  <a:path w="157" h="337">
                    <a:moveTo>
                      <a:pt x="90" y="8"/>
                    </a:moveTo>
                    <a:lnTo>
                      <a:pt x="157" y="195"/>
                    </a:lnTo>
                    <a:lnTo>
                      <a:pt x="142" y="337"/>
                    </a:lnTo>
                    <a:lnTo>
                      <a:pt x="0" y="0"/>
                    </a:lnTo>
                    <a:lnTo>
                      <a:pt x="90" y="8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594320" y="3156120"/>
                <a:ext cx="419760" cy="236160"/>
              </a:xfrm>
              <a:custGeom>
                <a:avLst/>
                <a:gdLst/>
                <a:ahLst/>
                <a:rect l="l" t="t" r="r" b="b"/>
                <a:pathLst>
                  <a:path w="808" h="396">
                    <a:moveTo>
                      <a:pt x="0" y="366"/>
                    </a:moveTo>
                    <a:lnTo>
                      <a:pt x="105" y="366"/>
                    </a:lnTo>
                    <a:lnTo>
                      <a:pt x="255" y="306"/>
                    </a:lnTo>
                    <a:lnTo>
                      <a:pt x="471" y="112"/>
                    </a:lnTo>
                    <a:lnTo>
                      <a:pt x="307" y="67"/>
                    </a:lnTo>
                    <a:lnTo>
                      <a:pt x="232" y="22"/>
                    </a:lnTo>
                    <a:lnTo>
                      <a:pt x="352" y="22"/>
                    </a:lnTo>
                    <a:lnTo>
                      <a:pt x="524" y="74"/>
                    </a:lnTo>
                    <a:lnTo>
                      <a:pt x="621" y="0"/>
                    </a:lnTo>
                    <a:lnTo>
                      <a:pt x="681" y="0"/>
                    </a:lnTo>
                    <a:lnTo>
                      <a:pt x="576" y="82"/>
                    </a:lnTo>
                    <a:lnTo>
                      <a:pt x="801" y="134"/>
                    </a:lnTo>
                    <a:lnTo>
                      <a:pt x="808" y="209"/>
                    </a:lnTo>
                    <a:lnTo>
                      <a:pt x="516" y="134"/>
                    </a:lnTo>
                    <a:lnTo>
                      <a:pt x="344" y="291"/>
                    </a:lnTo>
                    <a:lnTo>
                      <a:pt x="277" y="344"/>
                    </a:lnTo>
                    <a:lnTo>
                      <a:pt x="157" y="396"/>
                    </a:lnTo>
                    <a:lnTo>
                      <a:pt x="0" y="366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68160"/>
            <a:ext cx="7772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B619-D15D-4DD4-94DE-A2FEBEC22C0F}" type="datetime3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9 juillet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BC42-B34C-4113-A963-1AAC616B974F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066680" y="2057400"/>
          <a:ext cx="77724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05740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539C-B70A-42A3-AF56-86660661D5E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942790-7737-4E6B-8D39-92E5DBFCC3A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17680" y="58572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800" spc="-1" strike="noStrike">
                <a:solidFill>
                  <a:srgbClr val="000000"/>
                </a:solidFill>
                <a:latin typeface="Book Antiqua"/>
              </a:rPr>
              <a:t>Types de maison vendue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77880" y="2021040"/>
          <a:ext cx="8205840" cy="462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7880" y="2021040"/>
                    <a:ext cx="820584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8DF1-C099-4869-A456-1C0503A9522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6A8B84-3DDC-4489-8AA0-C045536419F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5T17:01:43Z</dcterms:created>
  <dc:creator>Julien</dc:creator>
  <dc:description/>
  <dc:language>en-US</dc:language>
  <cp:lastModifiedBy>Caroline Lavoie</cp:lastModifiedBy>
  <dcterms:modified xsi:type="dcterms:W3CDTF">2006-02-23T02:28:18Z</dcterms:modified>
  <cp:revision>19</cp:revision>
  <dc:subject/>
  <dc:title>Maisons vendues pendant 1 mois</dc:title>
</cp:coreProperties>
</file>