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gif" ContentType="image/gi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  <p:custShowLst>
    <p:custShow name="Service" id="0">
      <p:sldLst>
        <p:sld r:id="rId23"/>
        <p:sld r:id="rId24"/>
        <p:sld r:id="rId25"/>
      </p:sldLst>
    </p:custShow>
    <p:custShow name="Vague" id="1">
      <p:sldLst>
        <p:sld r:id="rId26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DD3C-3432-4325-BAA4-86E35C17FD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4848-9D34-43B6-A34C-C55BB77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3620-7E26-4842-A288-6A08E56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C712-AF35-4BF4-8DAB-4519C6DBB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2969-9651-400F-B1C3-1386C5EA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87E9D-F42A-4BA4-8598-BBCBC4AC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888BE-C814-43EC-B375-0CF14B4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D21E5-B22E-42FA-9EDE-FDAB3AC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5855-7284-44C7-B55A-7ADDB020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F695B-7CFF-47CC-A9D4-89D1BC56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D7E48-73B6-4F15-8312-952C7A2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7DE8-61F9-48FF-9156-824B9EC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CF7FE-F5FC-4F8C-AFA7-16C7209D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C0C6D-0F54-4D87-8DAF-69E57A8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BAA7-CE28-4D82-8079-AC64C4C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F82C9-A11C-4E2C-A904-77AE91D0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017B-E90A-4681-94E1-F8CB6CF0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F9C36-01BC-48C7-B95E-44292604A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41152-E6A5-4B88-93DA-C51EE90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7B910A-5561-4E5D-AFE8-C05E6C2E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71EEB-EA9A-45CB-AC4D-7DAD66CC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20974-5C89-4FBB-9D04-FB08936D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B98D-5F55-4498-BEC9-4CCD015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64D36-C7CC-4C91-A721-97F77657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C885B-383E-483F-AD88-9DF7F71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80E14-B9CD-430E-B44A-90B4C8A5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F8387B-4753-4B2F-BFCB-53A2B7D3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6069E-9101-412F-BCD4-710607AB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39B66-E29E-4F31-8EE4-E76C463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781E5-9550-480A-865E-F38D13677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F35DB-62A7-4416-B0CA-534F79D7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CA366-65CD-45B3-9DD5-493C8AF0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1FA8E-8ED0-477F-8AF1-FB5789D5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2B8E-64E6-470D-B534-ABA32426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69BFE-F50D-4EE3-B0E5-0AD59056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A807A-C491-44C6-B494-E27FF5E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5E6B5-476C-4509-B16E-7A0E66C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36B7F-8FCF-4234-9027-2103624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D7776-FF9F-463D-B89F-3A36CE3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D412C-9ABE-40B5-8D61-E9226128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0ACFE-6903-4930-B378-D78AA5C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FC150-D7DB-42F7-97D6-0D64A75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F442D-A9CE-4988-8AE5-7B34445B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FDE7-82A2-4412-AD88-B5F454F76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2350-AB69-479A-B403-23095853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2EAF-ABD9-477E-AE3B-A7F8EC97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FC57-6FA0-4F31-94D1-AC808EFE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FD3D-2434-42E0-8EDB-4D931ED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13B1-3A87-4F0D-8F0B-BE60E351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D9A0-E34E-49B7-B58F-DF0E16C1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35D9-5BB6-4D20-9A0C-B64719A0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DA91D-8A0C-4FDB-AEF7-F62EAD9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BE13C-57A7-439B-BC9B-ED2A785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6A93-69F3-4B9D-99E8-EE32C35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6AA1-C12A-4D01-A6A5-98797E5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1B4D-C471-4F41-993B-649C5ECD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F786-70B1-4092-8871-ECE220BC3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FBD29-3558-4815-9530-0991980E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D2B44-754B-4DF2-B5DF-D27123A7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6B548-5322-426A-9824-61E8D43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0EA53-BBE0-4BF2-A091-AC1F6C3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F6E57-193C-4F4A-AFE4-C116BA6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23A24-DA3A-4285-A483-CA1AFA9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ADB4C-AE9A-4DE9-AE45-5B36BE5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00EC1-D3F6-46F1-BE11-EC7CAFD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33C55-A92C-4FBF-ADAA-9DA46DA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93FE-62D5-48E7-8CE6-ABC01008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54D8B-C8E1-4F3C-B394-A1927363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0F8EC-6499-4210-B6FB-7B5CCE1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FCC29-97A7-4752-B875-E5CB656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6DDF-CC7C-4A84-8E59-6F11749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B434-7EF3-4A9D-93E9-1AB2628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0060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F80-C459-4765-A39C-D989C105C45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rId10" action="ppaction://hlinksldjump"/>
          </p:cNvPr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11" action="ppaction://hlinksldjump"/>
          </p:cNvPr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8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A6C-5C4A-4D32-A489-1E74206BD73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7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6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7"/>
          </p:nvPr>
        </p:nvSpPr>
        <p:spPr>
          <a:xfrm>
            <a:off x="7867440" y="632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5F79-66C4-44EA-B64F-3DA543B65F7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D04-7966-44A0-9BF5-12C3D9232A9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8244000" y="6248520"/>
            <a:ext cx="442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D1F9-3EDD-4BA1-8703-1CACA6519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603C-A30B-4D2B-BDF8-BCE4DCC19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Participant/Fetes.ppt" TargetMode="Externa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phique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gram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aux inséré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1127160" y="2178000"/>
            <a:ext cx="28872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3" action="ppaction://hlinksldjump"/>
          </p:cNvPr>
          <p:cNvSpPr/>
          <p:nvPr/>
        </p:nvSpPr>
        <p:spPr>
          <a:xfrm>
            <a:off x="1090440" y="286380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1090440" y="3548160"/>
            <a:ext cx="289080" cy="360360"/>
          </a:xfrm>
          <a:prstGeom prst="flowChartExtract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2057400"/>
            <a:ext cx="825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x musicau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iens Internet et sensitif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en UR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resse Internet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à la clientèl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iapositives et présentation insérées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vagues modèlent les cô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positive de plan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001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25621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/>
          </p:cNvPr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434" name="_s25605"/>
            <p:cNvCxnSpPr>
              <a:stCxn id="435" idx="2"/>
              <a:endCxn id="436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37" name="_s25606"/>
            <p:cNvCxnSpPr>
              <a:stCxn id="438" idx="2"/>
              <a:endCxn id="436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39" name="_s25607"/>
            <p:cNvCxnSpPr>
              <a:stCxn id="440" idx="2"/>
              <a:endCxn id="436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1" name="_s25608"/>
            <p:cNvCxnSpPr>
              <a:stCxn id="442" idx="4"/>
              <a:endCxn id="443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4" name="_s25609"/>
            <p:cNvCxnSpPr>
              <a:stCxn id="445" idx="4"/>
              <a:endCxn id="443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6" name="_s25610"/>
            <p:cNvCxnSpPr>
              <a:stCxn id="447" idx="4"/>
              <a:endCxn id="443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48" name="_s25611"/>
            <p:cNvCxnSpPr>
              <a:stCxn id="449" idx="4"/>
              <a:endCxn id="450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1" name="_s25612"/>
            <p:cNvCxnSpPr>
              <a:stCxn id="452" idx="4"/>
              <a:endCxn id="450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3" name="_s25613"/>
            <p:cNvCxnSpPr>
              <a:stCxn id="436" idx="0"/>
              <a:endCxn id="454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5" name="_s25614"/>
            <p:cNvCxnSpPr>
              <a:stCxn id="443" idx="0"/>
              <a:endCxn id="454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56" name="_s25615"/>
            <p:cNvCxnSpPr>
              <a:stCxn id="450" idx="0"/>
              <a:endCxn id="454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54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405240" cy="397188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46" name=""/>
          <p:cNvCxnSpPr>
            <a:stCxn id="344" idx="3"/>
            <a:endCxn id="344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47" name=""/>
          <p:cNvCxnSpPr>
            <a:stCxn id="344" idx="0"/>
            <a:endCxn id="342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8" idx="0"/>
            <a:endCxn id="348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50" name=""/>
          <p:cNvCxnSpPr>
            <a:stCxn id="348" idx="0"/>
            <a:endCxn id="342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3" idx="0"/>
            <a:endCxn id="342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48" idx="2"/>
            <a:endCxn id="355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8" idx="2"/>
            <a:endCxn id="356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8" idx="2"/>
            <a:endCxn id="357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3" idx="2"/>
            <a:endCxn id="353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3" idx="2"/>
            <a:endCxn id="351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44" idx="2"/>
            <a:endCxn id="354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7470720" y="632448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previousslide"/>
          </p:cNvPr>
          <p:cNvSpPr/>
          <p:nvPr/>
        </p:nvSpPr>
        <p:spPr>
          <a:xfrm>
            <a:off x="6896160" y="632304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72080" y="632448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70" idx="4"/>
            <a:endCxn id="369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1" idx="4"/>
            <a:endCxn id="369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4" idx="3"/>
            <a:endCxn id="370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79" idx="0"/>
            <a:endCxn id="369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79" idx="1"/>
            <a:endCxn id="384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79" idx="1"/>
            <a:endCxn id="386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7467480" y="66600"/>
            <a:ext cx="432000" cy="43200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2000"/>
              <a:gd name="textAreaBottom" fmla="*/ 3765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821" y="2779"/>
                </a:lnTo>
                <a:lnTo>
                  <a:pt x="2779" y="277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821" y="18821"/>
                </a:lnTo>
                <a:lnTo>
                  <a:pt x="18821" y="277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21" y="1882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00" h="21600">
                <a:moveTo>
                  <a:pt x="4821" y="4821"/>
                </a:moveTo>
                <a:lnTo>
                  <a:pt x="16779" y="10800"/>
                </a:lnTo>
                <a:lnTo>
                  <a:pt x="4821" y="1677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6892920" y="65160"/>
            <a:ext cx="433440" cy="433440"/>
          </a:xfrm>
          <a:custGeom>
            <a:avLst/>
            <a:gdLst>
              <a:gd name="textAreaLeft" fmla="*/ 69840 w 433440"/>
              <a:gd name="textAreaRight" fmla="*/ 363600 w 433440"/>
              <a:gd name="textAreaTop" fmla="*/ 69840 h 433440"/>
              <a:gd name="textAreaBottom" fmla="*/ 3636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19" y="3481"/>
                </a:lnTo>
                <a:lnTo>
                  <a:pt x="3481" y="3481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19" y="18119"/>
                </a:lnTo>
                <a:lnTo>
                  <a:pt x="18119" y="3481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81" y="18119"/>
                </a:lnTo>
                <a:lnTo>
                  <a:pt x="18119" y="18119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81" y="3481"/>
                </a:lnTo>
                <a:lnTo>
                  <a:pt x="3481" y="18119"/>
                </a:lnTo>
                <a:close/>
              </a:path>
              <a:path fill="darken" w="21600" h="21600">
                <a:moveTo>
                  <a:pt x="5345" y="10800"/>
                </a:moveTo>
                <a:lnTo>
                  <a:pt x="16255" y="5345"/>
                </a:lnTo>
                <a:lnTo>
                  <a:pt x="16255" y="16255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088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68840" y="66600"/>
            <a:ext cx="1422360" cy="432000"/>
          </a:xfrm>
          <a:custGeom>
            <a:avLst/>
            <a:gdLst>
              <a:gd name="textAreaLeft" fmla="*/ 69120 w 1422360"/>
              <a:gd name="textAreaRight" fmla="*/ 1353240 w 1422360"/>
              <a:gd name="textAreaTop" fmla="*/ 69120 h 432000"/>
              <a:gd name="textAreaBottom" fmla="*/ 362880 h 432000"/>
            </a:gdLst>
            <a:ahLst/>
            <a:rect l="textAreaLeft" t="textAreaTop" r="textAreaRight" b="textAreaBottom"/>
            <a:pathLst>
              <a:path w="71077" h="21600">
                <a:moveTo>
                  <a:pt x="0" y="0"/>
                </a:moveTo>
                <a:lnTo>
                  <a:pt x="71077" y="0"/>
                </a:lnTo>
                <a:lnTo>
                  <a:pt x="71077" y="21600"/>
                </a:lnTo>
                <a:lnTo>
                  <a:pt x="0" y="21600"/>
                </a:lnTo>
                <a:close/>
              </a:path>
              <a:path fill="lightenLess" w="71077" h="21600">
                <a:moveTo>
                  <a:pt x="0" y="0"/>
                </a:moveTo>
                <a:lnTo>
                  <a:pt x="71077" y="0"/>
                </a:lnTo>
                <a:lnTo>
                  <a:pt x="67616" y="3461"/>
                </a:lnTo>
                <a:lnTo>
                  <a:pt x="3461" y="3461"/>
                </a:lnTo>
                <a:close/>
              </a:path>
              <a:path fill="darken" w="71077" h="21600">
                <a:moveTo>
                  <a:pt x="71077" y="0"/>
                </a:moveTo>
                <a:lnTo>
                  <a:pt x="71077" y="21600"/>
                </a:lnTo>
                <a:lnTo>
                  <a:pt x="67616" y="18139"/>
                </a:lnTo>
                <a:lnTo>
                  <a:pt x="67616" y="3461"/>
                </a:lnTo>
                <a:close/>
              </a:path>
              <a:path fill="darkenLess" w="71077" h="21600">
                <a:moveTo>
                  <a:pt x="71077" y="21600"/>
                </a:moveTo>
                <a:lnTo>
                  <a:pt x="0" y="21600"/>
                </a:lnTo>
                <a:lnTo>
                  <a:pt x="3461" y="18139"/>
                </a:lnTo>
                <a:lnTo>
                  <a:pt x="67616" y="18139"/>
                </a:lnTo>
                <a:close/>
              </a:path>
              <a:path fill="lighten" w="71077" h="21600">
                <a:moveTo>
                  <a:pt x="0" y="21600"/>
                </a:moveTo>
                <a:lnTo>
                  <a:pt x="0" y="0"/>
                </a:lnTo>
                <a:lnTo>
                  <a:pt x="3461" y="3461"/>
                </a:lnTo>
                <a:lnTo>
                  <a:pt x="3461" y="18139"/>
                </a:lnTo>
                <a:close/>
              </a:path>
            </a:pathLst>
          </a:custGeom>
          <a:solidFill>
            <a:srgbClr val="cc9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ère par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ine Lavoie</cp:lastModifiedBy>
  <dcterms:modified xsi:type="dcterms:W3CDTF">2006-02-24T01:00:54Z</dcterms:modified>
  <cp:revision>29</cp:revision>
  <dc:subject/>
  <dc:title>Tableau inséré avec lien </dc:title>
</cp:coreProperties>
</file>