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4BF-A50D-4604-8A1C-8A1A23F9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506-09CC-4F63-942A-CADDDF15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EB6-4CD0-41E0-82EB-2580B1EE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39F-9C2E-4D5D-BFA9-DDCF88C8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537A-5C0E-438D-8C0E-678D4D51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C2FF-76ED-4BA4-8E07-B371ECD6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F24C-5C5D-449D-8F2D-D9740A73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4BD9-6F6A-4BDB-9E57-9C2A3C86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53EE-E1F9-4633-9E81-8FB204B6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7166-B7EA-47B2-8C39-A9FE1076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E7A9-FD32-492E-A95D-2AF8A1F6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E46-DE4B-45D1-A5F2-04AAF55C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1666-2B3E-473A-817F-782449CE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D6A1-E9C9-40BD-B984-3962900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9C03-5D23-4BF6-821F-5DC2FE0C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6A5A-0341-4FDC-80ED-E6803066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781C-BC80-4410-AF37-105F0374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49D-BF1C-452C-AEAC-BD58CE3E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2F7-5949-46DF-8421-8B0DFFB3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498-BD0B-4C65-B900-80BFCEC5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674-1ED5-48F8-AD5E-E4D6FC41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DBE-B563-4C62-9F41-675AF6C3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3C0-6A33-4ABA-ADA7-49F851B3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348-62CC-41E5-AF69-27B22333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69C4-500A-4010-B124-5ECBFB2DAC4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5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06A9-7D4F-4C10-ABDE-37EB3BD658A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02080" y="228600"/>
            <a:ext cx="3943080" cy="838080"/>
          </a:xfrm>
          <a:prstGeom prst="flowChartProcess">
            <a:avLst/>
          </a:prstGeom>
          <a:solidFill>
            <a:srgbClr val="cc9b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utour du m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680" y="1981080"/>
            <a:ext cx="199872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e D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981080"/>
            <a:ext cx="2473200" cy="86040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rank D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irecteur des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>
            <a:off x="115200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109" name=""/>
          <p:cNvCxnSpPr>
            <a:stCxn id="107" idx="3"/>
            <a:endCxn id="107" idx="3"/>
          </p:cNvCxnSpPr>
          <p:nvPr/>
        </p:nvCxnSpPr>
        <p:spPr>
          <a:xfrm>
            <a:off x="8873640" y="24109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110" name=""/>
          <p:cNvCxnSpPr>
            <a:stCxn id="107" idx="0"/>
            <a:endCxn id="105" idx="2"/>
          </p:cNvCxnSpPr>
          <p:nvPr/>
        </p:nvCxnSpPr>
        <p:spPr>
          <a:xfrm flipV="1" rot="16200000">
            <a:off x="5647680" y="-8640"/>
            <a:ext cx="915120" cy="306468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117960" y="1981080"/>
            <a:ext cx="2361960" cy="838440"/>
          </a:xfrm>
          <a:prstGeom prst="flowChartProcess">
            <a:avLst/>
          </a:prstGeom>
          <a:gradFill rotWithShape="0">
            <a:gsLst>
              <a:gs pos="0">
                <a:srgbClr val="3366ff"/>
              </a:gs>
              <a:gs pos="50000">
                <a:srgbClr val="cc9b10"/>
              </a:gs>
              <a:gs pos="100000">
                <a:srgbClr val="3366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92d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ile C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rice des v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11" idx="0"/>
            <a:endCxn id="111" idx="0"/>
          </p:cNvCxnSpPr>
          <p:nvPr/>
        </p:nvCxnSpPr>
        <p:spPr>
          <a:xfrm>
            <a:off x="4298760" y="1980720"/>
            <a:ext cx="1080" cy="1080"/>
          </a:xfrm>
          <a:prstGeom prst="straightConnector1">
            <a:avLst/>
          </a:prstGeom>
          <a:ln w="12600">
            <a:solidFill>
              <a:srgbClr val="9f83bd"/>
            </a:solidFill>
            <a:miter/>
          </a:ln>
        </p:spPr>
      </p:cxnSp>
      <p:cxnSp>
        <p:nvCxnSpPr>
          <p:cNvPr id="113" name=""/>
          <p:cNvCxnSpPr>
            <a:stCxn id="111" idx="0"/>
            <a:endCxn id="105" idx="2"/>
          </p:cNvCxnSpPr>
          <p:nvPr/>
        </p:nvCxnSpPr>
        <p:spPr>
          <a:xfrm flipH="1" flipV="1" rot="5400000">
            <a:off x="3978720" y="1386360"/>
            <a:ext cx="915120" cy="27504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390600" y="4533840"/>
            <a:ext cx="1828800" cy="60984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ie Meil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onn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6" idx="0"/>
            <a:endCxn id="105" idx="2"/>
          </p:cNvCxnSpPr>
          <p:nvPr/>
        </p:nvCxnSpPr>
        <p:spPr>
          <a:xfrm flipH="1" flipV="1" rot="5400000">
            <a:off x="2439360" y="-153000"/>
            <a:ext cx="915120" cy="335340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390600" y="3505320"/>
            <a:ext cx="1828800" cy="609480"/>
          </a:xfrm>
          <a:prstGeom prst="flowChartAlternateProcess">
            <a:avLst/>
          </a:prstGeom>
          <a:solidFill>
            <a:srgbClr val="cc9b10"/>
          </a:solidFill>
          <a:ln w="12600">
            <a:solidFill>
              <a:srgbClr val="9f8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lain Terri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94640" y="3505320"/>
            <a:ext cx="1685880" cy="102852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an C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17960" y="32004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o 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17960" y="4229280"/>
            <a:ext cx="2252520" cy="80784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Jeanne Da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end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17960" y="5257800"/>
            <a:ext cx="2252520" cy="808200"/>
          </a:xfrm>
          <a:prstGeom prst="flowChartPreparation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 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1" idx="2"/>
            <a:endCxn id="118" idx="3"/>
          </p:cNvCxnSpPr>
          <p:nvPr/>
        </p:nvCxnSpPr>
        <p:spPr>
          <a:xfrm flipH="1" rot="16200000">
            <a:off x="4442040" y="2676240"/>
            <a:ext cx="786240" cy="1072080"/>
          </a:xfrm>
          <a:prstGeom prst="bentConnector4">
            <a:avLst>
              <a:gd name="adj1" fmla="val 33898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1" idx="2"/>
            <a:endCxn id="119" idx="3"/>
          </p:cNvCxnSpPr>
          <p:nvPr/>
        </p:nvCxnSpPr>
        <p:spPr>
          <a:xfrm flipH="1" rot="16200000">
            <a:off x="3927600" y="3190680"/>
            <a:ext cx="1815120" cy="1072080"/>
          </a:xfrm>
          <a:prstGeom prst="bentConnector4">
            <a:avLst>
              <a:gd name="adj1" fmla="val 14520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1" idx="2"/>
            <a:endCxn id="120" idx="3"/>
          </p:cNvCxnSpPr>
          <p:nvPr/>
        </p:nvCxnSpPr>
        <p:spPr>
          <a:xfrm flipH="1" rot="16200000">
            <a:off x="3413160" y="3704760"/>
            <a:ext cx="2843640" cy="1072080"/>
          </a:xfrm>
          <a:prstGeom prst="bentConnector4">
            <a:avLst>
              <a:gd name="adj1" fmla="val 9369"/>
              <a:gd name="adj2" fmla="val 1213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6" idx="2"/>
            <a:endCxn id="116" idx="1"/>
          </p:cNvCxnSpPr>
          <p:nvPr/>
        </p:nvCxnSpPr>
        <p:spPr>
          <a:xfrm rot="5400000">
            <a:off x="320760" y="2910600"/>
            <a:ext cx="969120" cy="830880"/>
          </a:xfrm>
          <a:prstGeom prst="bentConnector4">
            <a:avLst>
              <a:gd name="adj1" fmla="val 31438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6" idx="2"/>
            <a:endCxn id="114" idx="1"/>
          </p:cNvCxnSpPr>
          <p:nvPr/>
        </p:nvCxnSpPr>
        <p:spPr>
          <a:xfrm rot="5400000">
            <a:off x="-193680" y="3425040"/>
            <a:ext cx="1998000" cy="830880"/>
          </a:xfrm>
          <a:prstGeom prst="bentConnector4">
            <a:avLst>
              <a:gd name="adj1" fmla="val 15245"/>
              <a:gd name="adj2" fmla="val 1275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07" idx="2"/>
            <a:endCxn id="117" idx="0"/>
          </p:cNvCxnSpPr>
          <p:nvPr/>
        </p:nvCxnSpPr>
        <p:spPr>
          <a:xfrm>
            <a:off x="7637040" y="2841480"/>
            <a:ext cx="10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1520" y="181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lackChancery"/>
              </a:rPr>
              <a:t>Informatiqu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2077920"/>
            <a:ext cx="2135160" cy="2452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1520" y="320040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1520" y="5018040"/>
            <a:ext cx="1533600" cy="1122480"/>
          </a:xfrm>
          <a:prstGeom prst="flowChartMagneticDisk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9" idx="4"/>
            <a:endCxn id="128" idx="1"/>
          </p:cNvCxnSpPr>
          <p:nvPr/>
        </p:nvCxnSpPr>
        <p:spPr>
          <a:xfrm flipV="1">
            <a:off x="1904760" y="3304800"/>
            <a:ext cx="1905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4"/>
            <a:endCxn id="128" idx="1"/>
          </p:cNvCxnSpPr>
          <p:nvPr/>
        </p:nvCxnSpPr>
        <p:spPr>
          <a:xfrm flipV="1">
            <a:off x="1904760" y="3304800"/>
            <a:ext cx="1905480" cy="22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371520" y="1324080"/>
            <a:ext cx="1533600" cy="112212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3"/>
            <a:endCxn id="129" idx="1"/>
          </p:cNvCxnSpPr>
          <p:nvPr/>
        </p:nvCxnSpPr>
        <p:spPr>
          <a:xfrm>
            <a:off x="1137960" y="244584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066680" y="243828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26888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162240"/>
            <a:ext cx="1901880" cy="7495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5040" y="5181480"/>
            <a:ext cx="2590920" cy="1255680"/>
          </a:xfrm>
          <a:prstGeom prst="flowChartProcess">
            <a:avLst/>
          </a:pr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son-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0"/>
            <a:endCxn id="128" idx="3"/>
          </p:cNvCxnSpPr>
          <p:nvPr/>
        </p:nvCxnSpPr>
        <p:spPr>
          <a:xfrm flipH="1" flipV="1">
            <a:off x="5944320" y="3304800"/>
            <a:ext cx="1296360" cy="18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095880" y="3962520"/>
            <a:ext cx="1901880" cy="749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1324080"/>
            <a:ext cx="273384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1324080"/>
            <a:ext cx="2440080" cy="18381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né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nor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28920" y="5994360"/>
            <a:ext cx="955800" cy="76824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8" idx="1"/>
            <a:endCxn id="143" idx="3"/>
          </p:cNvCxnSpPr>
          <p:nvPr/>
        </p:nvCxnSpPr>
        <p:spPr>
          <a:xfrm flipH="1">
            <a:off x="4284360" y="5810400"/>
            <a:ext cx="166104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3332160" y="5018040"/>
            <a:ext cx="1095480" cy="881280"/>
          </a:xfrm>
          <a:prstGeom prst="flowChartDocumen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et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38" idx="1"/>
            <a:endCxn id="145" idx="3"/>
          </p:cNvCxnSpPr>
          <p:nvPr/>
        </p:nvCxnSpPr>
        <p:spPr>
          <a:xfrm flipH="1" flipV="1">
            <a:off x="4426920" y="5459040"/>
            <a:ext cx="151812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5:33:38Z</dcterms:created>
  <dc:creator>dmdfor1</dc:creator>
  <dc:description/>
  <dc:language>en-US</dc:language>
  <cp:lastModifiedBy>Caroline Lavoie</cp:lastModifiedBy>
  <dcterms:modified xsi:type="dcterms:W3CDTF">2006-02-23T03:50:42Z</dcterms:modified>
  <cp:revision>3</cp:revision>
  <dc:subject/>
  <dc:title>Diapositive 1</dc:title>
</cp:coreProperties>
</file>