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E04-29DA-4EA1-AB43-9E94D575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8A4-34A1-42CC-AD5C-3C72D2BE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7E8-BFD1-4818-AA2D-BB566F68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1DE-CC28-440A-8D18-43D38BE7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0903-83F7-4A6F-984E-0BFDC5B2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8C76-5748-4DFF-A4A2-3A65BCD7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D1B7-7FD8-4D2E-A2AA-B29F9AF1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716C-FEBA-4E10-B651-9ECF296F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A061-6361-4D6A-9C42-0489AE5E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62E7-B5E8-4D88-A0C2-E8CC5D96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FB7D-93C3-4236-AF60-A55A622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1C4-CD10-4C4E-B0B1-F71538DE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3254-C5D7-4A62-939C-79ABEAA7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C7E2-BC46-4157-974A-85E4BDC0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6098-5FA9-496F-8D9A-D4744068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5CAB-6103-43D8-B266-A72047B8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F5A7-5381-4BE9-A3CF-50ED4A7E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92AE-9A2E-422E-8862-378C46CB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67A4-FC3B-438F-9D22-04677230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071C-46FD-48E3-B59A-8015D60B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8650-95A7-4AB5-A301-444D3FBC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1C12-769B-49CF-A7E9-1BE598FA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8A3-B0A7-4A16-89CD-5675957B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E893E-E311-4B4C-B1B7-79576154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93643-8481-40B9-AF99-AE635A04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40481-2892-4639-AC06-3F8A181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BD9C-BA8A-4182-8C53-E9593AC0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E306-2E4A-47F6-A032-FF095926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45AD-7020-4F29-8F40-4273B7C9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2BA48-B8B6-4ADA-92AA-68DD51C4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D2F8-9F98-422C-81B8-079C190C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0E1B-F231-4B49-9FA7-7F3EF25A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11589-D25D-436E-BF66-ECC146BC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1D7-F911-4464-BC0C-7CB3FDF1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50C6-EE8B-4C9B-B00C-E8D99543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5010E-CC2B-4427-807B-F0C195E5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76537-0226-497F-9327-F05B813B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724A-0570-4B0B-B3CC-243FDCDB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D2244-EA95-4720-B289-38E9340B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CE33-11EC-4A56-A8CB-9797C1F4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61F1-37D8-45C5-AB4B-8E344A41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15A47-D134-4231-8CF6-848DADB9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12672-6E5C-4CF9-BAF6-71E4CF8D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B6C-1486-4A26-8FD5-8928E1B8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367-59AD-4C9E-A77E-C0782085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85A-B5D2-4A80-9E74-F72896AC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B2F-3B87-4899-BAE8-8B0C8A62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F66-40C0-4C2C-875F-5BA255BC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8A1E-B898-4A57-B1C1-82D14468A76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49CB-236A-4AFD-9A81-B5F6177BCD2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94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E2F5-8734-4DE6-93E5-89A0A6B41999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C244-BE7D-43AA-A90B-9EC37B89630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../Participant/CouperColler.ppt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Déroulement des activité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809880"/>
            <a:ext cx="16765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 Black"/>
              </a:rPr>
              <a:t>Accu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3657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be92"/>
              </a:gs>
              <a:gs pos="50000">
                <a:srgbClr val="ff822d"/>
              </a:gs>
              <a:gs pos="100000">
                <a:srgbClr val="febe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62440" y="25146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62440" y="4572000"/>
            <a:ext cx="19051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f3c8"/>
              </a:gs>
              <a:gs pos="50000">
                <a:srgbClr val="00cc00"/>
              </a:gs>
              <a:gs pos="100000">
                <a:srgbClr val="c8f3c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Spec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10280" y="3657600"/>
            <a:ext cx="1752840" cy="10666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Buf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3733920"/>
            <a:ext cx="380880" cy="747720"/>
          </a:xfrm>
          <a:custGeom>
            <a:avLst/>
            <a:gdLst/>
            <a:ahLst/>
            <a:rect l="l" t="t" r="r" b="b"/>
            <a:pathLst>
              <a:path w="240" h="471">
                <a:moveTo>
                  <a:pt x="240" y="0"/>
                </a:moveTo>
                <a:lnTo>
                  <a:pt x="0" y="231"/>
                </a:lnTo>
                <a:lnTo>
                  <a:pt x="240" y="471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8726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Service à la clientè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2133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556272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38196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38098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ompt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2793960"/>
            <a:ext cx="2819160" cy="2506680"/>
          </a:xfrm>
          <a:custGeom>
            <a:avLst/>
            <a:gdLst>
              <a:gd name="textAreaLeft" fmla="*/ 704880 w 2819160"/>
              <a:gd name="textAreaRight" fmla="*/ 2114640 w 2819160"/>
              <a:gd name="textAreaTop" fmla="*/ 626760 h 2506680"/>
              <a:gd name="textAreaBottom" fmla="*/ 1880280 h 25066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9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’app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8726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sponsables par rég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7640" y="2277000"/>
            <a:ext cx="8496000" cy="2507040"/>
            <a:chOff x="647640" y="2277000"/>
            <a:chExt cx="8496000" cy="2507040"/>
          </a:xfrm>
        </p:grpSpPr>
        <p:cxnSp>
          <p:nvCxnSpPr>
            <p:cNvPr id="276" name="_s25605"/>
            <p:cNvCxnSpPr>
              <a:stCxn id="277" idx="2"/>
              <a:endCxn id="278" idx="3"/>
            </p:cNvCxnSpPr>
            <p:nvPr/>
          </p:nvCxnSpPr>
          <p:spPr>
            <a:xfrm rot="10800000">
              <a:off x="7068600" y="3238920"/>
              <a:ext cx="317880" cy="139284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79" name="_s25606"/>
            <p:cNvCxnSpPr>
              <a:stCxn id="280" idx="2"/>
              <a:endCxn id="278" idx="3"/>
            </p:cNvCxnSpPr>
            <p:nvPr/>
          </p:nvCxnSpPr>
          <p:spPr>
            <a:xfrm rot="10800000">
              <a:off x="7068600" y="3238920"/>
              <a:ext cx="317880" cy="87768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81" name="_s25607"/>
            <p:cNvCxnSpPr>
              <a:stCxn id="282" idx="2"/>
              <a:endCxn id="278" idx="3"/>
            </p:cNvCxnSpPr>
            <p:nvPr/>
          </p:nvCxnSpPr>
          <p:spPr>
            <a:xfrm rot="10800000">
              <a:off x="7068600" y="3238920"/>
              <a:ext cx="317880" cy="36324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83" name="_s25608"/>
            <p:cNvCxnSpPr>
              <a:stCxn id="284" idx="4"/>
              <a:endCxn id="285" idx="3"/>
            </p:cNvCxnSpPr>
            <p:nvPr/>
          </p:nvCxnSpPr>
          <p:spPr>
            <a:xfrm flipV="1">
              <a:off x="4711320" y="3238920"/>
              <a:ext cx="308160" cy="139284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86" name="_s25609"/>
            <p:cNvCxnSpPr>
              <a:stCxn id="287" idx="4"/>
              <a:endCxn id="285" idx="3"/>
            </p:cNvCxnSpPr>
            <p:nvPr/>
          </p:nvCxnSpPr>
          <p:spPr>
            <a:xfrm flipV="1">
              <a:off x="4711320" y="3239280"/>
              <a:ext cx="308160" cy="87768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88" name="_s25610"/>
            <p:cNvCxnSpPr>
              <a:stCxn id="289" idx="4"/>
              <a:endCxn id="285" idx="3"/>
            </p:cNvCxnSpPr>
            <p:nvPr/>
          </p:nvCxnSpPr>
          <p:spPr>
            <a:xfrm flipV="1">
              <a:off x="4711320" y="3238920"/>
              <a:ext cx="308160" cy="36324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90" name="_s25611"/>
            <p:cNvCxnSpPr>
              <a:stCxn id="291" idx="4"/>
              <a:endCxn id="292" idx="3"/>
            </p:cNvCxnSpPr>
            <p:nvPr/>
          </p:nvCxnSpPr>
          <p:spPr>
            <a:xfrm flipV="1">
              <a:off x="2367720" y="3239280"/>
              <a:ext cx="305640" cy="87768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93" name="_s25612"/>
            <p:cNvCxnSpPr>
              <a:stCxn id="294" idx="4"/>
              <a:endCxn id="292" idx="3"/>
            </p:cNvCxnSpPr>
            <p:nvPr/>
          </p:nvCxnSpPr>
          <p:spPr>
            <a:xfrm flipV="1">
              <a:off x="2367720" y="3238920"/>
              <a:ext cx="305640" cy="363240"/>
            </a:xfrm>
            <a:prstGeom prst="bentConnector2">
              <a:avLst/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95" name="_s25613"/>
            <p:cNvCxnSpPr>
              <a:stCxn id="278" idx="0"/>
              <a:endCxn id="296" idx="3"/>
            </p:cNvCxnSpPr>
            <p:nvPr/>
          </p:nvCxnSpPr>
          <p:spPr>
            <a:xfrm flipV="1" rot="16200000">
              <a:off x="5909040" y="1585800"/>
              <a:ext cx="173520" cy="224388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97" name="_s25614"/>
            <p:cNvCxnSpPr>
              <a:stCxn id="285" idx="0"/>
              <a:endCxn id="296" idx="3"/>
            </p:cNvCxnSpPr>
            <p:nvPr/>
          </p:nvCxnSpPr>
          <p:spPr>
            <a:xfrm flipV="1" rot="16200000">
              <a:off x="4883040" y="2611800"/>
              <a:ext cx="173520" cy="19152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298" name="_s25615"/>
            <p:cNvCxnSpPr>
              <a:stCxn id="292" idx="0"/>
              <a:endCxn id="296" idx="3"/>
            </p:cNvCxnSpPr>
            <p:nvPr/>
          </p:nvCxnSpPr>
          <p:spPr>
            <a:xfrm flipH="1" flipV="1" rot="5400000">
              <a:off x="3711240" y="1631520"/>
              <a:ext cx="173520" cy="2152440"/>
            </a:xfrm>
            <a:prstGeom prst="bentConnector3">
              <a:avLst>
                <a:gd name="adj1" fmla="val 49480"/>
              </a:avLst>
            </a:prstGeom>
            <a:ln w="28440">
              <a:solidFill>
                <a:srgbClr val="777777"/>
              </a:solidFill>
              <a:miter/>
            </a:ln>
          </p:spPr>
        </p:cxnSp>
        <p:sp>
          <p:nvSpPr>
            <p:cNvPr id="296" name="_s25616"/>
            <p:cNvSpPr/>
            <p:nvPr/>
          </p:nvSpPr>
          <p:spPr>
            <a:xfrm>
              <a:off x="4015080" y="2277000"/>
              <a:ext cx="1758960" cy="34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ente des mai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25617"/>
            <p:cNvSpPr/>
            <p:nvPr/>
          </p:nvSpPr>
          <p:spPr>
            <a:xfrm>
              <a:off x="181836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822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82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uy Co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ntré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5618"/>
            <p:cNvSpPr/>
            <p:nvPr/>
          </p:nvSpPr>
          <p:spPr>
            <a:xfrm>
              <a:off x="4161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822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82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Colombe Dub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S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25619"/>
            <p:cNvSpPr/>
            <p:nvPr/>
          </p:nvSpPr>
          <p:spPr>
            <a:xfrm>
              <a:off x="6213600" y="2794320"/>
              <a:ext cx="1758960" cy="44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822d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82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Armand Duquet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200" spc="-1" strike="noStrike">
                  <a:solidFill>
                    <a:srgbClr val="000000"/>
                  </a:solidFill>
                  <a:latin typeface="Times New Roman"/>
                </a:rPr>
                <a:t>Rive N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25620"/>
            <p:cNvSpPr/>
            <p:nvPr/>
          </p:nvSpPr>
          <p:spPr>
            <a:xfrm>
              <a:off x="64764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Édifices à burea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25621"/>
            <p:cNvSpPr/>
            <p:nvPr/>
          </p:nvSpPr>
          <p:spPr>
            <a:xfrm>
              <a:off x="64764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mer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25622"/>
            <p:cNvSpPr/>
            <p:nvPr/>
          </p:nvSpPr>
          <p:spPr>
            <a:xfrm>
              <a:off x="2991240" y="34124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tta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25623"/>
            <p:cNvSpPr/>
            <p:nvPr/>
          </p:nvSpPr>
          <p:spPr>
            <a:xfrm>
              <a:off x="2991240" y="3927240"/>
              <a:ext cx="175644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dominiu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25624"/>
            <p:cNvSpPr/>
            <p:nvPr/>
          </p:nvSpPr>
          <p:spPr>
            <a:xfrm>
              <a:off x="2991240" y="4442040"/>
              <a:ext cx="175644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880" rIns="2988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upl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25625"/>
            <p:cNvSpPr/>
            <p:nvPr/>
          </p:nvSpPr>
          <p:spPr>
            <a:xfrm>
              <a:off x="7386480" y="34124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mmer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5626"/>
            <p:cNvSpPr/>
            <p:nvPr/>
          </p:nvSpPr>
          <p:spPr>
            <a:xfrm>
              <a:off x="7386480" y="3927240"/>
              <a:ext cx="1757160" cy="34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condomin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25627"/>
            <p:cNvSpPr/>
            <p:nvPr/>
          </p:nvSpPr>
          <p:spPr>
            <a:xfrm>
              <a:off x="7386480" y="4442040"/>
              <a:ext cx="1757160" cy="342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63b1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6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cation résidenti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87264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ésentations inséré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3527280" cy="411480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rId2"/>
          </p:cNvPr>
          <p:cNvSpPr/>
          <p:nvPr/>
        </p:nvSpPr>
        <p:spPr>
          <a:xfrm>
            <a:off x="1332000" y="2565360"/>
            <a:ext cx="2663640" cy="2664000"/>
          </a:xfrm>
          <a:prstGeom prst="sun">
            <a:avLst>
              <a:gd name="adj" fmla="val 25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Les vagues modèlent les côt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n combat entre la mer et la terr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La puissance du déferlement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Les forces de l’espac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La résistance du ro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ne roche sertie de cristaux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es composants varié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La mer a ses jardi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n envahisseu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ne bonne récol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n signe d’été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Le régime de l’épong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es algues pigmentée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On les appelle coquillag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es mollusques brouteur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ne splendeur nacré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es bibelots de mer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n herbivore côtier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Un carnivore côti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ne allure trompeus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Un mollusque venimeux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02080" y="228600"/>
            <a:ext cx="3943080" cy="838080"/>
          </a:xfrm>
          <a:prstGeom prst="flowChartProcess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ur du m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680" y="1981080"/>
            <a:ext cx="199872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e D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1981080"/>
            <a:ext cx="247320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ank D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 des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115200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211" name=""/>
          <p:cNvCxnSpPr>
            <a:stCxn id="209" idx="3"/>
            <a:endCxn id="209" idx="3"/>
          </p:cNvCxnSpPr>
          <p:nvPr/>
        </p:nvCxnSpPr>
        <p:spPr>
          <a:xfrm>
            <a:off x="8873640" y="24109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212" name=""/>
          <p:cNvCxnSpPr>
            <a:stCxn id="209" idx="0"/>
            <a:endCxn id="207" idx="2"/>
          </p:cNvCxnSpPr>
          <p:nvPr/>
        </p:nvCxnSpPr>
        <p:spPr>
          <a:xfrm flipV="1" rot="16200000">
            <a:off x="5647680" y="-8640"/>
            <a:ext cx="915120" cy="306468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3117960" y="1981080"/>
            <a:ext cx="2361960" cy="83844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ile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rice des v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3" idx="0"/>
            <a:endCxn id="213" idx="0"/>
          </p:cNvCxnSpPr>
          <p:nvPr/>
        </p:nvCxnSpPr>
        <p:spPr>
          <a:xfrm>
            <a:off x="429876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215" name=""/>
          <p:cNvCxnSpPr>
            <a:stCxn id="213" idx="0"/>
            <a:endCxn id="207" idx="2"/>
          </p:cNvCxnSpPr>
          <p:nvPr/>
        </p:nvCxnSpPr>
        <p:spPr>
          <a:xfrm flipH="1" flipV="1" rot="5400000">
            <a:off x="3978720" y="1386360"/>
            <a:ext cx="915120" cy="27504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390600" y="4533840"/>
            <a:ext cx="1828800" cy="60984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ie Meil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onn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08" idx="0"/>
            <a:endCxn id="207" idx="2"/>
          </p:cNvCxnSpPr>
          <p:nvPr/>
        </p:nvCxnSpPr>
        <p:spPr>
          <a:xfrm flipH="1" flipV="1" rot="5400000">
            <a:off x="2439360" y="-153000"/>
            <a:ext cx="915120" cy="335340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390600" y="3505320"/>
            <a:ext cx="1828800" cy="60948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lain Ter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4640" y="3505320"/>
            <a:ext cx="1685880" cy="102852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an C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7960" y="32004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o 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17960" y="4229280"/>
            <a:ext cx="2252520" cy="80784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Jeanne Da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end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17960" y="52578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 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13" idx="2"/>
            <a:endCxn id="220" idx="3"/>
          </p:cNvCxnSpPr>
          <p:nvPr/>
        </p:nvCxnSpPr>
        <p:spPr>
          <a:xfrm flipH="1" rot="16200000">
            <a:off x="4442040" y="2676240"/>
            <a:ext cx="786240" cy="1072080"/>
          </a:xfrm>
          <a:prstGeom prst="bentConnector4">
            <a:avLst>
              <a:gd name="adj1" fmla="val 33898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3" idx="2"/>
            <a:endCxn id="221" idx="3"/>
          </p:cNvCxnSpPr>
          <p:nvPr/>
        </p:nvCxnSpPr>
        <p:spPr>
          <a:xfrm flipH="1" rot="16200000">
            <a:off x="3927600" y="3190680"/>
            <a:ext cx="1815120" cy="1072080"/>
          </a:xfrm>
          <a:prstGeom prst="bentConnector4">
            <a:avLst>
              <a:gd name="adj1" fmla="val 14520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3" idx="2"/>
            <a:endCxn id="222" idx="3"/>
          </p:cNvCxnSpPr>
          <p:nvPr/>
        </p:nvCxnSpPr>
        <p:spPr>
          <a:xfrm flipH="1" rot="16200000">
            <a:off x="3413160" y="3704760"/>
            <a:ext cx="2843640" cy="1072080"/>
          </a:xfrm>
          <a:prstGeom prst="bentConnector4">
            <a:avLst>
              <a:gd name="adj1" fmla="val 9369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08" idx="2"/>
            <a:endCxn id="218" idx="1"/>
          </p:cNvCxnSpPr>
          <p:nvPr/>
        </p:nvCxnSpPr>
        <p:spPr>
          <a:xfrm rot="5400000">
            <a:off x="320760" y="2910600"/>
            <a:ext cx="969120" cy="830880"/>
          </a:xfrm>
          <a:prstGeom prst="bentConnector4">
            <a:avLst>
              <a:gd name="adj1" fmla="val 31438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08" idx="2"/>
            <a:endCxn id="216" idx="1"/>
          </p:cNvCxnSpPr>
          <p:nvPr/>
        </p:nvCxnSpPr>
        <p:spPr>
          <a:xfrm rot="5400000">
            <a:off x="-193680" y="3425040"/>
            <a:ext cx="1998000" cy="830880"/>
          </a:xfrm>
          <a:prstGeom prst="bentConnector4">
            <a:avLst>
              <a:gd name="adj1" fmla="val 15245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09" idx="2"/>
            <a:endCxn id="219" idx="0"/>
          </p:cNvCxnSpPr>
          <p:nvPr/>
        </p:nvCxnSpPr>
        <p:spPr>
          <a:xfrm>
            <a:off x="7637040" y="2841480"/>
            <a:ext cx="10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71520" y="181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lackChancery"/>
              </a:rPr>
              <a:t>Informat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077920"/>
            <a:ext cx="2135160" cy="2452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1520" y="320040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1520" y="501804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1" idx="4"/>
            <a:endCxn id="230" idx="1"/>
          </p:cNvCxnSpPr>
          <p:nvPr/>
        </p:nvCxnSpPr>
        <p:spPr>
          <a:xfrm flipV="1">
            <a:off x="1904760" y="3304800"/>
            <a:ext cx="1905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2" idx="4"/>
            <a:endCxn id="230" idx="1"/>
          </p:cNvCxnSpPr>
          <p:nvPr/>
        </p:nvCxnSpPr>
        <p:spPr>
          <a:xfrm flipV="1">
            <a:off x="1904760" y="3304800"/>
            <a:ext cx="1905480" cy="22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371520" y="1324080"/>
            <a:ext cx="1533600" cy="112212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5" idx="3"/>
            <a:endCxn id="231" idx="1"/>
          </p:cNvCxnSpPr>
          <p:nvPr/>
        </p:nvCxnSpPr>
        <p:spPr>
          <a:xfrm>
            <a:off x="1137960" y="244584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1066680" y="243828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426888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316224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5040" y="5181480"/>
            <a:ext cx="2590920" cy="1255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son-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40" idx="0"/>
            <a:endCxn id="230" idx="3"/>
          </p:cNvCxnSpPr>
          <p:nvPr/>
        </p:nvCxnSpPr>
        <p:spPr>
          <a:xfrm flipH="1" flipV="1">
            <a:off x="5944320" y="3304800"/>
            <a:ext cx="1296360" cy="18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95880" y="396252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1324080"/>
            <a:ext cx="273384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1324080"/>
            <a:ext cx="244008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nor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28920" y="5994360"/>
            <a:ext cx="955800" cy="76824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1"/>
            <a:endCxn id="245" idx="3"/>
          </p:cNvCxnSpPr>
          <p:nvPr/>
        </p:nvCxnSpPr>
        <p:spPr>
          <a:xfrm flipH="1">
            <a:off x="4284360" y="5810400"/>
            <a:ext cx="166104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332160" y="5018040"/>
            <a:ext cx="1095480" cy="88128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0" idx="1"/>
            <a:endCxn id="247" idx="3"/>
          </p:cNvCxnSpPr>
          <p:nvPr/>
        </p:nvCxnSpPr>
        <p:spPr>
          <a:xfrm flipH="1" flipV="1">
            <a:off x="4426920" y="5459040"/>
            <a:ext cx="15181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inséré avec lien 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044800" y="2057400"/>
            <a:ext cx="581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Tableau </a:t>
            </a: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inséré sans lien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76360" y="2349360"/>
          <a:ext cx="5657760" cy="349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349360"/>
                    <a:ext cx="565776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7236000" y="2708280"/>
          <a:ext cx="1728720" cy="936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2708280"/>
                    <a:ext cx="1728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ahoma"/>
              </a:rPr>
              <a:t>Choix musicau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Orches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Musique la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cc00"/>
                </a:solidFill>
                <a:latin typeface="Tahoma"/>
              </a:rPr>
              <a:t>Tables tourn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Hip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R&amp;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ahoma"/>
              </a:rPr>
              <a:t>D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443640" y="3610080"/>
            <a:ext cx="2251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16:50Z</dcterms:created>
  <dc:creator>dmdfor1</dc:creator>
  <dc:description/>
  <dc:language>en-US</dc:language>
  <cp:lastModifiedBy>Carole Gagnon</cp:lastModifiedBy>
  <dcterms:modified xsi:type="dcterms:W3CDTF">2006-02-23T17:17:09Z</dcterms:modified>
  <cp:revision>12</cp:revision>
  <dc:subject/>
  <dc:title>Tableau inséré avec lien </dc:title>
</cp:coreProperties>
</file>