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3.gif" ContentType="image/gif"/>
  <Override PartName="/ppt/media/image7.png" ContentType="image/png"/>
  <Override PartName="/ppt/media/image15.wmf" ContentType="image/x-wmf"/>
  <Override PartName="/ppt/media/image21.wmf" ContentType="image/x-wmf"/>
  <Override PartName="/ppt/media/image24.jpeg" ContentType="image/jpeg"/>
  <Override PartName="/ppt/media/drumroll.wav" ContentType="audio/x-wav"/>
  <Override PartName="/ppt/media/applause.wav" ContentType="audio/x-wav"/>
  <Override PartName="/ppt/media/image16.png" ContentType="image/png"/>
  <Override PartName="/ppt/media/image19.gif" ContentType="image/gif"/>
  <Override PartName="/ppt/media/image1.png" ContentType="image/png"/>
  <Override PartName="/ppt/media/image26.jpeg" ContentType="image/jpeg"/>
  <Override PartName="/ppt/media/image18.wmf" ContentType="image/x-wmf"/>
  <Override PartName="/ppt/media/image20.wmf" ContentType="image/x-wmf"/>
  <Override PartName="/ppt/media/image1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22.gif" ContentType="image/gif"/>
  <Override PartName="/ppt/media/image2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  <p:custShowLst>
    <p:custShow name="Service" id="0">
      <p:sldLst>
        <p:sld r:id="rId24"/>
        <p:sld r:id="rId25"/>
        <p:sld r:id="rId26"/>
      </p:sldLst>
    </p:custShow>
    <p:custShow name="Vague" id="1">
      <p:sldLst>
        <p:sld r:id="rId27"/>
        <p:sld r:id="rId28"/>
        <p:sld r:id="rId2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65FE0-6EFB-4C24-AE79-1065D6ABA8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E7CC8-2A25-45F6-AFA8-39ABA29D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DF2E5-6A75-493A-9261-EDF6E68B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6712C-B672-4911-8737-8EFDE5CC8A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D5CDE-4F2A-4D0E-8C52-C5F28D50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4AE29-FB2D-4721-9E89-3C675171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5193A-98C4-4ECA-A298-DA7F7878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E2BBE-0270-4391-A5EE-14E0200C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9808F-0DAE-40E7-90F7-AC0D9D78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1D122-A7BB-49F9-A7DB-1C41D817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2BD3C-496D-4A6E-B8EA-A9408554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7DBC1-66FF-419D-A740-2AB6E9AD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09D04-E514-4DAA-9BB0-EB49F7D8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67989-1E68-4121-8CD7-9A0B27D7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C1ABD-D06B-4C60-8206-DA7C95C2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BF4C6-4B23-4631-8637-05E86051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B8387-B839-462E-829D-52494C08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6A65C7-C268-4E11-B9A5-C93FDD6C2B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BF841C-4797-4866-BEE2-2A63A2DE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55F25B-E423-4C67-912D-6814B35A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E67E01-DA1D-4190-B209-75F87445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0B8DCE-9392-47C8-8A72-DB1677FB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D65A-A0E1-4350-8B17-B5FE6B86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7F1BDE-414F-4A6D-951A-57F59147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9D34E1-EF8F-4FBC-A298-4CC01053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E5B3E0-6996-4FE6-BE8F-39CEC61B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28EABF-BE17-4B57-8FA7-19A9B494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186843-5C00-43FE-AF2C-015A35C3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EBD98A-22BC-4460-8B9D-0692C492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63B8B9-89FA-498D-ACB1-2EC7A007BF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D3C750-59E4-42DD-B11D-4DC1610F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8E497F-5181-4292-BDB4-42EED280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767093-1239-413B-AAC1-6CAF9FC4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FC341-0F42-4D90-8F8A-70F903E7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69DFB5-7E6F-423C-810B-D6EED397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0FE5EF-5DA2-44AD-ABE5-3F520C5D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D618CC-62A6-4067-BDE7-0318A388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2F7490-B990-4AE5-BFDB-7F86E8B5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90B058-F342-410A-9583-29F4756D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096B50-FCE8-45CC-AE47-EF9E2013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950533-A1EB-41E6-9025-9C7457AD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C96D05-F38B-45DF-A661-C0CFFEEE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852D24-5C76-4F96-AF8A-1725978F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FD282-044B-45CD-81A3-C2A7B78D74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9A5DA-B42A-4534-866C-9DF63889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EB282-A655-451D-BAFF-02072869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CE322-31BD-4335-A84D-A2A47A2B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1AB4E-4EB4-4B14-B0C6-D9B295F4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74AE7-468D-459F-AF1D-8DAA3767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D86C2-3280-44A1-81E5-70D86648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6420E-0466-4CA3-8098-5813DD2D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E1849-42A4-41FC-B247-24311643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54A7F-B652-4775-8E4A-56EFBD25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F063A-F9AA-42FD-BC4D-2F6343FF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12244-17B5-43ED-A283-743E8BDE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EDC9D-91FF-41B4-B50D-03C92C96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3CC68-590D-4D09-97ED-04FCD1BDF2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25151E-93B3-44FE-B713-4BEB7157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E6D08D-A6B6-4260-8359-20295303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4D1DA-3075-4E81-9897-4968F233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0766E-BA77-4A9D-B0DB-FDD56FFB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842FF9-1459-4381-BA2C-FE8DCB2A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D94461-5680-4AF4-B098-B49D6971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EC226B-DF9C-40F4-83CA-7AB1FE9F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DA538-F732-4C2A-A2DA-BE49D5DA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D9EC4C-ED0A-4323-964E-25B90DDA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52AF0-8327-4F68-81FB-622B6786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43511E-E3E9-4E55-AABF-FD19C210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0778AB-EB4C-4E06-ABDF-217B241A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ABE893-E5C9-4560-B93E-391405F4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9B07F-79F3-47FA-B11F-D65DCD27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096E8-D210-485C-9A68-231971C3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" Target="slide11.xml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slide" Target="slide1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400600" y="63244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699D-84DB-4E5E-AA85-614F66C8EB34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>
            <a:off x="7470720" y="6324480"/>
            <a:ext cx="432000" cy="43200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2000"/>
              <a:gd name="textAreaBottom" fmla="*/ 3765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21" y="2779"/>
                </a:lnTo>
                <a:lnTo>
                  <a:pt x="2779" y="277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21" y="18821"/>
                </a:lnTo>
                <a:lnTo>
                  <a:pt x="18821" y="277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21" y="1882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00" h="21600">
                <a:moveTo>
                  <a:pt x="4821" y="4821"/>
                </a:moveTo>
                <a:lnTo>
                  <a:pt x="16779" y="10800"/>
                </a:lnTo>
                <a:lnTo>
                  <a:pt x="4821" y="1677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6896160" y="6323040"/>
            <a:ext cx="433440" cy="433440"/>
          </a:xfrm>
          <a:custGeom>
            <a:avLst/>
            <a:gdLst>
              <a:gd name="textAreaLeft" fmla="*/ 69840 w 433440"/>
              <a:gd name="textAreaRight" fmla="*/ 363600 w 433440"/>
              <a:gd name="textAreaTop" fmla="*/ 69840 h 433440"/>
              <a:gd name="textAreaBottom" fmla="*/ 3636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19" y="3481"/>
                </a:lnTo>
                <a:lnTo>
                  <a:pt x="3481" y="348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19" y="18119"/>
                </a:lnTo>
                <a:lnTo>
                  <a:pt x="18119" y="348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18119" y="1811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  <a:path fill="darken" w="21600" h="21600">
                <a:moveTo>
                  <a:pt x="5345" y="10800"/>
                </a:moveTo>
                <a:lnTo>
                  <a:pt x="16255" y="5345"/>
                </a:lnTo>
                <a:lnTo>
                  <a:pt x="16255" y="16255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rId10" action="ppaction://hlinksldjump"/>
          </p:cNvPr>
          <p:cNvSpPr/>
          <p:nvPr/>
        </p:nvSpPr>
        <p:spPr>
          <a:xfrm>
            <a:off x="533412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11" action="ppaction://hlinksldjump"/>
          </p:cNvPr>
          <p:cNvSpPr/>
          <p:nvPr/>
        </p:nvSpPr>
        <p:spPr>
          <a:xfrm>
            <a:off x="377208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èr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8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681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E6F7-DFDA-41B9-8385-1F133DAD62B9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Book Antiqu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98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6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7"/>
          </p:nvPr>
        </p:nvSpPr>
        <p:spPr>
          <a:xfrm>
            <a:off x="7867440" y="63244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C096-DBEE-40D6-A052-21C41FBDE6B4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7470720" y="6324480"/>
            <a:ext cx="432000" cy="43200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2000"/>
              <a:gd name="textAreaBottom" fmla="*/ 3765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21" y="2779"/>
                </a:lnTo>
                <a:lnTo>
                  <a:pt x="2779" y="277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21" y="18821"/>
                </a:lnTo>
                <a:lnTo>
                  <a:pt x="18821" y="277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21" y="1882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00" h="21600">
                <a:moveTo>
                  <a:pt x="4821" y="4821"/>
                </a:moveTo>
                <a:lnTo>
                  <a:pt x="16779" y="10800"/>
                </a:lnTo>
                <a:lnTo>
                  <a:pt x="4821" y="16779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6896160" y="6323040"/>
            <a:ext cx="433440" cy="433440"/>
          </a:xfrm>
          <a:custGeom>
            <a:avLst/>
            <a:gdLst>
              <a:gd name="textAreaLeft" fmla="*/ 69840 w 433440"/>
              <a:gd name="textAreaRight" fmla="*/ 363600 w 433440"/>
              <a:gd name="textAreaTop" fmla="*/ 69840 h 433440"/>
              <a:gd name="textAreaBottom" fmla="*/ 3636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19" y="3481"/>
                </a:lnTo>
                <a:lnTo>
                  <a:pt x="3481" y="348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19" y="18119"/>
                </a:lnTo>
                <a:lnTo>
                  <a:pt x="18119" y="348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18119" y="1811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  <a:path fill="darken" w="21600" h="21600">
                <a:moveTo>
                  <a:pt x="5345" y="10800"/>
                </a:moveTo>
                <a:lnTo>
                  <a:pt x="16255" y="5345"/>
                </a:lnTo>
                <a:lnTo>
                  <a:pt x="16255" y="16255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533412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4" action="ppaction://hlinksldjump"/>
          </p:cNvPr>
          <p:cNvSpPr/>
          <p:nvPr/>
        </p:nvSpPr>
        <p:spPr>
          <a:xfrm>
            <a:off x="377208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èr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1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1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DE23-C3CA-4255-980F-C0D009749BE2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248520" y="624852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0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0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2"/>
          </p:nvPr>
        </p:nvSpPr>
        <p:spPr>
          <a:xfrm>
            <a:off x="8244000" y="6248520"/>
            <a:ext cx="442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93D6-5E10-4471-B949-EA786FC13E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7470720" y="6324480"/>
            <a:ext cx="432000" cy="43200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2000"/>
              <a:gd name="textAreaBottom" fmla="*/ 3765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21" y="2779"/>
                </a:lnTo>
                <a:lnTo>
                  <a:pt x="2779" y="277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21" y="18821"/>
                </a:lnTo>
                <a:lnTo>
                  <a:pt x="18821" y="277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21" y="1882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00" h="21600">
                <a:moveTo>
                  <a:pt x="4821" y="4821"/>
                </a:moveTo>
                <a:lnTo>
                  <a:pt x="16779" y="10800"/>
                </a:lnTo>
                <a:lnTo>
                  <a:pt x="4821" y="1677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6896160" y="6323040"/>
            <a:ext cx="433440" cy="433440"/>
          </a:xfrm>
          <a:custGeom>
            <a:avLst/>
            <a:gdLst>
              <a:gd name="textAreaLeft" fmla="*/ 69840 w 433440"/>
              <a:gd name="textAreaRight" fmla="*/ 363600 w 433440"/>
              <a:gd name="textAreaTop" fmla="*/ 69840 h 433440"/>
              <a:gd name="textAreaBottom" fmla="*/ 3636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19" y="3481"/>
                </a:lnTo>
                <a:lnTo>
                  <a:pt x="3481" y="348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19" y="18119"/>
                </a:lnTo>
                <a:lnTo>
                  <a:pt x="18119" y="348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18119" y="1811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  <a:path fill="darken" w="21600" h="21600">
                <a:moveTo>
                  <a:pt x="5345" y="10800"/>
                </a:moveTo>
                <a:lnTo>
                  <a:pt x="16255" y="5345"/>
                </a:lnTo>
                <a:lnTo>
                  <a:pt x="16255" y="1625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7208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èr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6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7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B71D-6BF7-4BFA-83D8-0DE471A358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Participant/Fetes.ppt" TargetMode="External"/><Relationship Id="rId2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hyperlink" Target="file:///../Participant/CouperColler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5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14632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Formation PowerPoint 2002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otre no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471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Tableau </a:t>
            </a: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inséré sans lien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476360" y="2349360"/>
          <a:ext cx="5657760" cy="349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349360"/>
                    <a:ext cx="565776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7236000" y="2708280"/>
          <a:ext cx="1728720" cy="936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6000" y="2708280"/>
                    <a:ext cx="17287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Book Antiqua"/>
              </a:rPr>
              <a:t>2e partie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42920" y="2057400"/>
            <a:ext cx="825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x musicau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liens Internet et sensitifs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en UR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dresse Internet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à la clientèl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diapositives et présentation insérées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vagues modèlent les cô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apositive de plan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Choix musicau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00"/>
                </a:solidFill>
                <a:latin typeface="Tahoma"/>
              </a:rPr>
              <a:t>Orchest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usique class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Jaz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usique lat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4956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00"/>
                </a:solidFill>
                <a:latin typeface="Tahoma"/>
              </a:rPr>
              <a:t>Tables tourn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Hip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R&amp;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D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6443640" y="3610080"/>
            <a:ext cx="2251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Déroulement des activité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457200" y="3809880"/>
            <a:ext cx="16765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 Black"/>
              </a:rPr>
              <a:t>Accu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2400120" cy="25513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applaus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Déroulement des activité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3809880"/>
            <a:ext cx="16765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 Black"/>
              </a:rPr>
              <a:t>Accu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nextslide"/>
          </p:cNvPr>
          <p:cNvSpPr/>
          <p:nvPr/>
        </p:nvSpPr>
        <p:spPr>
          <a:xfrm>
            <a:off x="2286000" y="365760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be92"/>
              </a:gs>
              <a:gs pos="50000">
                <a:srgbClr val="ff822d"/>
              </a:gs>
              <a:gs pos="100000">
                <a:srgbClr val="febe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P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924280"/>
            <a:ext cx="256212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Déroulement des activité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3809880"/>
            <a:ext cx="16765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 Black"/>
              </a:rPr>
              <a:t>Accu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0" y="365760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be92"/>
              </a:gs>
              <a:gs pos="50000">
                <a:srgbClr val="ff822d"/>
              </a:gs>
              <a:gs pos="100000">
                <a:srgbClr val="febe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P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rId1" action="ppaction://hlinksldjump"/>
          </p:cNvPr>
          <p:cNvSpPr/>
          <p:nvPr/>
        </p:nvSpPr>
        <p:spPr>
          <a:xfrm>
            <a:off x="4762440" y="25146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Da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4762440" y="45720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Spec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343400" y="3733920"/>
            <a:ext cx="380880" cy="747720"/>
          </a:xfrm>
          <a:custGeom>
            <a:avLst/>
            <a:gdLst/>
            <a:ahLst/>
            <a:rect l="l" t="t" r="r" b="b"/>
            <a:pathLst>
              <a:path w="240" h="471">
                <a:moveTo>
                  <a:pt x="240" y="0"/>
                </a:moveTo>
                <a:lnTo>
                  <a:pt x="0" y="231"/>
                </a:lnTo>
                <a:lnTo>
                  <a:pt x="240" y="471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Déroulement des activité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3809880"/>
            <a:ext cx="16765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 Black"/>
              </a:rPr>
              <a:t>Accu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0" y="365760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be92"/>
              </a:gs>
              <a:gs pos="50000">
                <a:srgbClr val="ff822d"/>
              </a:gs>
              <a:gs pos="100000">
                <a:srgbClr val="febe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P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762440" y="25146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Da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762440" y="45720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Spec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>
            <a:hlinkClick r:id="rId1"/>
          </p:cNvPr>
          <p:cNvSpPr/>
          <p:nvPr/>
        </p:nvSpPr>
        <p:spPr>
          <a:xfrm>
            <a:off x="7010280" y="3657600"/>
            <a:ext cx="1752840" cy="10666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Buf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343400" y="3733920"/>
            <a:ext cx="380880" cy="747720"/>
          </a:xfrm>
          <a:custGeom>
            <a:avLst/>
            <a:gdLst/>
            <a:ahLst/>
            <a:rect l="l" t="t" r="r" b="b"/>
            <a:pathLst>
              <a:path w="240" h="471">
                <a:moveTo>
                  <a:pt x="240" y="0"/>
                </a:moveTo>
                <a:lnTo>
                  <a:pt x="0" y="231"/>
                </a:lnTo>
                <a:lnTo>
                  <a:pt x="240" y="471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Service à la clientèle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21337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2793960"/>
            <a:ext cx="2819160" cy="250668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26760 h 2506680"/>
              <a:gd name="textAreaBottom" fmla="*/ 1880280 h 25066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cc9b10"/>
              </a:gs>
              <a:gs pos="100000">
                <a:srgbClr val="9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’app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114800" y="55627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76520" y="38196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53080" y="380988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ompt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05320" y="2793960"/>
            <a:ext cx="2819160" cy="250668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26760 h 2506680"/>
              <a:gd name="textAreaBottom" fmla="*/ 1880280 h 25066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cc9b10"/>
              </a:gs>
              <a:gs pos="100000">
                <a:srgbClr val="9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’app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Responsables par régi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47640" y="2277000"/>
            <a:ext cx="8496000" cy="2505960"/>
            <a:chOff x="647640" y="2277000"/>
            <a:chExt cx="8496000" cy="2505960"/>
          </a:xfrm>
        </p:grpSpPr>
        <p:cxnSp>
          <p:nvCxnSpPr>
            <p:cNvPr id="439" name="_s25605"/>
            <p:cNvCxnSpPr>
              <a:stCxn id="440" idx="2"/>
              <a:endCxn id="441" idx="3"/>
            </p:cNvCxnSpPr>
            <p:nvPr/>
          </p:nvCxnSpPr>
          <p:spPr>
            <a:xfrm rot="10800000">
              <a:off x="7068600" y="3237840"/>
              <a:ext cx="317880" cy="13928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42" name="_s25606"/>
            <p:cNvCxnSpPr>
              <a:stCxn id="443" idx="2"/>
              <a:endCxn id="441" idx="3"/>
            </p:cNvCxnSpPr>
            <p:nvPr/>
          </p:nvCxnSpPr>
          <p:spPr>
            <a:xfrm rot="10800000">
              <a:off x="7068600" y="3237840"/>
              <a:ext cx="317880" cy="87876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44" name="_s25607"/>
            <p:cNvCxnSpPr>
              <a:stCxn id="445" idx="2"/>
              <a:endCxn id="441" idx="3"/>
            </p:cNvCxnSpPr>
            <p:nvPr/>
          </p:nvCxnSpPr>
          <p:spPr>
            <a:xfrm rot="10800000">
              <a:off x="7068600" y="3238560"/>
              <a:ext cx="317880" cy="36252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46" name="_s25608"/>
            <p:cNvCxnSpPr>
              <a:stCxn id="447" idx="4"/>
              <a:endCxn id="448" idx="3"/>
            </p:cNvCxnSpPr>
            <p:nvPr/>
          </p:nvCxnSpPr>
          <p:spPr>
            <a:xfrm flipV="1">
              <a:off x="4711320" y="3237840"/>
              <a:ext cx="308160" cy="13928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49" name="_s25609"/>
            <p:cNvCxnSpPr>
              <a:stCxn id="450" idx="4"/>
              <a:endCxn id="448" idx="3"/>
            </p:cNvCxnSpPr>
            <p:nvPr/>
          </p:nvCxnSpPr>
          <p:spPr>
            <a:xfrm flipV="1">
              <a:off x="4711320" y="3237840"/>
              <a:ext cx="308160" cy="87876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51" name="_s25610"/>
            <p:cNvCxnSpPr>
              <a:stCxn id="452" idx="4"/>
              <a:endCxn id="448" idx="3"/>
            </p:cNvCxnSpPr>
            <p:nvPr/>
          </p:nvCxnSpPr>
          <p:spPr>
            <a:xfrm flipV="1">
              <a:off x="4711320" y="3238560"/>
              <a:ext cx="308160" cy="36252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53" name="_s25611"/>
            <p:cNvCxnSpPr>
              <a:stCxn id="454" idx="4"/>
              <a:endCxn id="455" idx="3"/>
            </p:cNvCxnSpPr>
            <p:nvPr/>
          </p:nvCxnSpPr>
          <p:spPr>
            <a:xfrm flipV="1">
              <a:off x="2367720" y="3237840"/>
              <a:ext cx="305640" cy="87876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56" name="_s25612"/>
            <p:cNvCxnSpPr>
              <a:stCxn id="457" idx="4"/>
              <a:endCxn id="455" idx="3"/>
            </p:cNvCxnSpPr>
            <p:nvPr/>
          </p:nvCxnSpPr>
          <p:spPr>
            <a:xfrm flipV="1">
              <a:off x="2367720" y="3238560"/>
              <a:ext cx="305640" cy="36252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58" name="_s25613"/>
            <p:cNvCxnSpPr>
              <a:stCxn id="441" idx="0"/>
              <a:endCxn id="459" idx="3"/>
            </p:cNvCxnSpPr>
            <p:nvPr/>
          </p:nvCxnSpPr>
          <p:spPr>
            <a:xfrm flipV="1" rot="16200000">
              <a:off x="5909040" y="1585800"/>
              <a:ext cx="173520" cy="224388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60" name="_s25614"/>
            <p:cNvCxnSpPr>
              <a:stCxn id="448" idx="0"/>
              <a:endCxn id="459" idx="3"/>
            </p:cNvCxnSpPr>
            <p:nvPr/>
          </p:nvCxnSpPr>
          <p:spPr>
            <a:xfrm flipV="1" rot="16200000">
              <a:off x="4883040" y="2611800"/>
              <a:ext cx="173520" cy="19152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61" name="_s25615"/>
            <p:cNvCxnSpPr>
              <a:stCxn id="455" idx="0"/>
              <a:endCxn id="459" idx="3"/>
            </p:cNvCxnSpPr>
            <p:nvPr/>
          </p:nvCxnSpPr>
          <p:spPr>
            <a:xfrm flipH="1" flipV="1" rot="5400000">
              <a:off x="3711240" y="1631520"/>
              <a:ext cx="173520" cy="215244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892d5b"/>
              </a:solidFill>
              <a:miter/>
            </a:ln>
          </p:spPr>
        </p:cxnSp>
        <p:sp>
          <p:nvSpPr>
            <p:cNvPr id="459" name="_s25616"/>
            <p:cNvSpPr/>
            <p:nvPr/>
          </p:nvSpPr>
          <p:spPr>
            <a:xfrm>
              <a:off x="4015080" y="2277000"/>
              <a:ext cx="1758960" cy="344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b1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b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ente des mais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_s25617"/>
            <p:cNvSpPr/>
            <p:nvPr/>
          </p:nvSpPr>
          <p:spPr>
            <a:xfrm>
              <a:off x="1818360" y="2794320"/>
              <a:ext cx="1758960" cy="443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6cb6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6c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uy Co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ontré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25618"/>
            <p:cNvSpPr/>
            <p:nvPr/>
          </p:nvSpPr>
          <p:spPr>
            <a:xfrm>
              <a:off x="4161600" y="2794320"/>
              <a:ext cx="1758960" cy="443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6cb6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6c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Colombe Dub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Rive Su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25619"/>
            <p:cNvSpPr/>
            <p:nvPr/>
          </p:nvSpPr>
          <p:spPr>
            <a:xfrm>
              <a:off x="6213600" y="2794320"/>
              <a:ext cx="1758960" cy="443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6cb6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6c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Armand Duquet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Rive N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25620"/>
            <p:cNvSpPr/>
            <p:nvPr/>
          </p:nvSpPr>
          <p:spPr>
            <a:xfrm>
              <a:off x="647640" y="3411360"/>
              <a:ext cx="175716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Édifices à burea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_s25621"/>
            <p:cNvSpPr/>
            <p:nvPr/>
          </p:nvSpPr>
          <p:spPr>
            <a:xfrm>
              <a:off x="647640" y="392616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mer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25622"/>
            <p:cNvSpPr/>
            <p:nvPr/>
          </p:nvSpPr>
          <p:spPr>
            <a:xfrm>
              <a:off x="2991240" y="3411360"/>
              <a:ext cx="175644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ttag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25623"/>
            <p:cNvSpPr/>
            <p:nvPr/>
          </p:nvSpPr>
          <p:spPr>
            <a:xfrm>
              <a:off x="2991240" y="3926160"/>
              <a:ext cx="175644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dominiu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25624"/>
            <p:cNvSpPr/>
            <p:nvPr/>
          </p:nvSpPr>
          <p:spPr>
            <a:xfrm>
              <a:off x="2991240" y="4440960"/>
              <a:ext cx="175644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upl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25625"/>
            <p:cNvSpPr/>
            <p:nvPr/>
          </p:nvSpPr>
          <p:spPr>
            <a:xfrm>
              <a:off x="7386480" y="3411360"/>
              <a:ext cx="175716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commer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25626"/>
            <p:cNvSpPr/>
            <p:nvPr/>
          </p:nvSpPr>
          <p:spPr>
            <a:xfrm>
              <a:off x="7386480" y="392616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condomini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25627"/>
            <p:cNvSpPr/>
            <p:nvPr/>
          </p:nvSpPr>
          <p:spPr>
            <a:xfrm>
              <a:off x="7386480" y="444096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résidenti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Présentations inséré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3405240" cy="3971880"/>
          </a:xfrm>
          <a:prstGeom prst="rect">
            <a:avLst/>
          </a:prstGeom>
          <a:ln w="0">
            <a:noFill/>
          </a:ln>
        </p:spPr>
      </p:pic>
      <p:sp>
        <p:nvSpPr>
          <p:cNvPr id="464" name="">
            <a:hlinkClick r:id="rId3"/>
          </p:cNvPr>
          <p:cNvSpPr/>
          <p:nvPr/>
        </p:nvSpPr>
        <p:spPr>
          <a:xfrm>
            <a:off x="1332000" y="2565360"/>
            <a:ext cx="2663640" cy="2664000"/>
          </a:xfrm>
          <a:prstGeom prst="sun">
            <a:avLst>
              <a:gd name="adj" fmla="val 25000"/>
            </a:avLst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Book Antiqua"/>
              </a:rPr>
              <a:t>1ère partie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raphique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rganigramm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ableaux inséré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1" name="">
            <a:hlinkClick r:id="rId2" action="ppaction://hlinksldjump"/>
          </p:cNvPr>
          <p:cNvSpPr/>
          <p:nvPr/>
        </p:nvSpPr>
        <p:spPr>
          <a:xfrm>
            <a:off x="1127160" y="2178000"/>
            <a:ext cx="288720" cy="360360"/>
          </a:xfrm>
          <a:prstGeom prst="flowChartExtract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3" action="ppaction://hlinksldjump"/>
          </p:cNvPr>
          <p:cNvSpPr/>
          <p:nvPr/>
        </p:nvSpPr>
        <p:spPr>
          <a:xfrm>
            <a:off x="1090440" y="2863800"/>
            <a:ext cx="289080" cy="360360"/>
          </a:xfrm>
          <a:prstGeom prst="flowChartExtract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4" action="ppaction://hlinksldjump"/>
          </p:cNvPr>
          <p:cNvSpPr/>
          <p:nvPr/>
        </p:nvSpPr>
        <p:spPr>
          <a:xfrm>
            <a:off x="1090440" y="3548160"/>
            <a:ext cx="289080" cy="360360"/>
          </a:xfrm>
          <a:prstGeom prst="flowChartExtract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s vagues modèlent les cô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n combat entre la mer et la ter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uissance du défer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forces de l’e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 résistance du r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 roche sertie de crista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 composants vari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5575320" y="2266920"/>
            <a:ext cx="2741760" cy="2741760"/>
          </a:xfrm>
          <a:prstGeom prst="rect">
            <a:avLst/>
          </a:prstGeom>
          <a:ln w="0">
            <a:noFill/>
          </a:ln>
        </p:spPr>
      </p:pic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7470720" y="6324480"/>
            <a:ext cx="432000" cy="43200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2000"/>
              <a:gd name="textAreaBottom" fmla="*/ 3765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21" y="2779"/>
                </a:lnTo>
                <a:lnTo>
                  <a:pt x="2779" y="277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21" y="18821"/>
                </a:lnTo>
                <a:lnTo>
                  <a:pt x="18821" y="277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21" y="1882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00" h="21600">
                <a:moveTo>
                  <a:pt x="4821" y="4821"/>
                </a:moveTo>
                <a:lnTo>
                  <a:pt x="16779" y="10800"/>
                </a:lnTo>
                <a:lnTo>
                  <a:pt x="4821" y="1677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" action="ppaction://hlinkshowjump?jump=previousslide"/>
          </p:cNvPr>
          <p:cNvSpPr/>
          <p:nvPr/>
        </p:nvSpPr>
        <p:spPr>
          <a:xfrm>
            <a:off x="6896160" y="6323040"/>
            <a:ext cx="433440" cy="433440"/>
          </a:xfrm>
          <a:custGeom>
            <a:avLst/>
            <a:gdLst>
              <a:gd name="textAreaLeft" fmla="*/ 69840 w 433440"/>
              <a:gd name="textAreaRight" fmla="*/ 363600 w 433440"/>
              <a:gd name="textAreaTop" fmla="*/ 69840 h 433440"/>
              <a:gd name="textAreaBottom" fmla="*/ 3636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19" y="3481"/>
                </a:lnTo>
                <a:lnTo>
                  <a:pt x="3481" y="348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19" y="18119"/>
                </a:lnTo>
                <a:lnTo>
                  <a:pt x="18119" y="348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18119" y="1811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  <a:path fill="darken" w="21600" h="21600">
                <a:moveTo>
                  <a:pt x="5345" y="10800"/>
                </a:moveTo>
                <a:lnTo>
                  <a:pt x="16255" y="5345"/>
                </a:lnTo>
                <a:lnTo>
                  <a:pt x="16255" y="1625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33412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77208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èr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mer a ses jard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n envahisse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ne bonne récol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n signe d’é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régime de l’épo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 algues pigmenté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521240" y="1763280"/>
            <a:ext cx="4038120" cy="3497040"/>
            <a:chOff x="4521240" y="1763280"/>
            <a:chExt cx="4038120" cy="3497040"/>
          </a:xfrm>
        </p:grpSpPr>
        <p:sp>
          <p:nvSpPr>
            <p:cNvPr id="476" name="_s32774"/>
            <p:cNvSpPr/>
            <p:nvPr/>
          </p:nvSpPr>
          <p:spPr>
            <a:xfrm flipV="1">
              <a:off x="5867280" y="1763280"/>
              <a:ext cx="1346040" cy="1164960"/>
            </a:xfrm>
            <a:custGeom>
              <a:avLst/>
              <a:gdLst>
                <a:gd name="textAreaLeft" fmla="*/ 482760 w 1346040"/>
                <a:gd name="textAreaRight" fmla="*/ 863280 w 1346040"/>
                <a:gd name="textAreaTop" fmla="*/ 417960 h 1164960"/>
                <a:gd name="textAreaBottom" fmla="*/ 747000 h 11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écol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_s32775"/>
            <p:cNvSpPr/>
            <p:nvPr/>
          </p:nvSpPr>
          <p:spPr>
            <a:xfrm flipV="1">
              <a:off x="5194080" y="2928240"/>
              <a:ext cx="2692080" cy="1166400"/>
            </a:xfrm>
            <a:custGeom>
              <a:avLst/>
              <a:gdLst>
                <a:gd name="textAreaLeft" fmla="*/ 591840 w 2692080"/>
                <a:gd name="textAreaRight" fmla="*/ 2100240 w 2692080"/>
                <a:gd name="textAreaTop" fmla="*/ 256320 h 1166400"/>
                <a:gd name="textAreaBottom" fmla="*/ 910080 h 11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Épo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_s32776"/>
            <p:cNvSpPr/>
            <p:nvPr/>
          </p:nvSpPr>
          <p:spPr>
            <a:xfrm flipV="1">
              <a:off x="4521240" y="4095360"/>
              <a:ext cx="4038120" cy="1164960"/>
            </a:xfrm>
            <a:custGeom>
              <a:avLst/>
              <a:gdLst>
                <a:gd name="textAreaLeft" fmla="*/ 700920 w 4038120"/>
                <a:gd name="textAreaRight" fmla="*/ 3337200 w 4038120"/>
                <a:gd name="textAreaTop" fmla="*/ 201960 h 1164960"/>
                <a:gd name="textAreaBottom" fmla="*/ 963000 h 11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g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n les appelle coquillag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 mollusques broute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 splendeur nacré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 bibelots de 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 herbivore côt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n carnivore cô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 allure trompe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 mollusque venime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267160" y="1523880"/>
            <a:ext cx="3005280" cy="4202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32788" fill="hold"/>
                                        <p:tgtEl>
                                          <p:spTgt spid="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19040" y="325440"/>
            <a:ext cx="3605400" cy="54720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320840" y="325440"/>
            <a:ext cx="3605040" cy="54720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1320840" y="325440"/>
            <a:ext cx="3605040" cy="54720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5484960" y="200160"/>
            <a:ext cx="2700360" cy="1584360"/>
          </a:xfrm>
          <a:prstGeom prst="wedgeEllipseCallout">
            <a:avLst>
              <a:gd name="adj1" fmla="val -111314"/>
              <a:gd name="adj2" fmla="val 48194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ien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u tourn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 tenni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Maisons vendues pendant 1 moi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038240" y="2065320"/>
          <a:ext cx="7732800" cy="409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8240" y="2065320"/>
                    <a:ext cx="77328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Bilan des ventes de mais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17680" y="58572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Types de maison vendu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912960" y="1996920"/>
          <a:ext cx="819612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2960" y="1996920"/>
                    <a:ext cx="819612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Ventes de maisons par régi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602080" y="228600"/>
            <a:ext cx="3943080" cy="838080"/>
          </a:xfrm>
          <a:prstGeom prst="flowChartProcess">
            <a:avLst/>
          </a:prstGeom>
          <a:solidFill>
            <a:srgbClr val="cc9b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utour du mo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0680" y="1981080"/>
            <a:ext cx="1998720" cy="86040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ee D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981080"/>
            <a:ext cx="2473200" cy="86040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rank D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irecteur des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"/>
          <p:cNvCxnSpPr/>
          <p:nvPr/>
        </p:nvCxnSpPr>
        <p:spPr>
          <a:xfrm>
            <a:off x="1152000" y="19807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350" name=""/>
          <p:cNvCxnSpPr>
            <a:stCxn id="348" idx="3"/>
            <a:endCxn id="348" idx="3"/>
          </p:cNvCxnSpPr>
          <p:nvPr/>
        </p:nvCxnSpPr>
        <p:spPr>
          <a:xfrm>
            <a:off x="8873640" y="24109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351" name=""/>
          <p:cNvCxnSpPr>
            <a:stCxn id="348" idx="0"/>
            <a:endCxn id="346" idx="2"/>
          </p:cNvCxnSpPr>
          <p:nvPr/>
        </p:nvCxnSpPr>
        <p:spPr>
          <a:xfrm flipV="1" rot="16200000">
            <a:off x="5647680" y="-8640"/>
            <a:ext cx="915120" cy="306468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3117960" y="1981080"/>
            <a:ext cx="2361960" cy="83844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ile C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rice des v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52" idx="0"/>
            <a:endCxn id="352" idx="0"/>
          </p:cNvCxnSpPr>
          <p:nvPr/>
        </p:nvCxnSpPr>
        <p:spPr>
          <a:xfrm>
            <a:off x="4298760" y="19807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354" name=""/>
          <p:cNvCxnSpPr>
            <a:stCxn id="352" idx="0"/>
            <a:endCxn id="346" idx="2"/>
          </p:cNvCxnSpPr>
          <p:nvPr/>
        </p:nvCxnSpPr>
        <p:spPr>
          <a:xfrm flipH="1" flipV="1" rot="5400000">
            <a:off x="3978720" y="1386360"/>
            <a:ext cx="915120" cy="27504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390600" y="4533840"/>
            <a:ext cx="1828800" cy="609840"/>
          </a:xfrm>
          <a:prstGeom prst="flowChartAlternateProcess">
            <a:avLst/>
          </a:prstGeom>
          <a:solidFill>
            <a:srgbClr val="cc9b10"/>
          </a:solidFill>
          <a:ln w="1260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nie Meil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onnat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"/>
          <p:cNvCxnSpPr>
            <a:stCxn id="347" idx="0"/>
            <a:endCxn id="346" idx="2"/>
          </p:cNvCxnSpPr>
          <p:nvPr/>
        </p:nvCxnSpPr>
        <p:spPr>
          <a:xfrm flipH="1" flipV="1" rot="5400000">
            <a:off x="2439360" y="-153000"/>
            <a:ext cx="915120" cy="335340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390600" y="3505320"/>
            <a:ext cx="1828800" cy="609480"/>
          </a:xfrm>
          <a:prstGeom prst="flowChartAlternateProcess">
            <a:avLst/>
          </a:prstGeom>
          <a:solidFill>
            <a:srgbClr val="cc9b10"/>
          </a:solidFill>
          <a:ln w="1260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Alain Terri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Ad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794640" y="3505320"/>
            <a:ext cx="1685880" cy="102852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an Co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117960" y="3200400"/>
            <a:ext cx="2252520" cy="80820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o P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17960" y="4229280"/>
            <a:ext cx="2252520" cy="80784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Jeanne Da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Vend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17960" y="5257800"/>
            <a:ext cx="2252520" cy="80820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 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"/>
          <p:cNvCxnSpPr>
            <a:stCxn id="352" idx="2"/>
            <a:endCxn id="359" idx="3"/>
          </p:cNvCxnSpPr>
          <p:nvPr/>
        </p:nvCxnSpPr>
        <p:spPr>
          <a:xfrm flipH="1" rot="16200000">
            <a:off x="4442040" y="2676240"/>
            <a:ext cx="786240" cy="1072080"/>
          </a:xfrm>
          <a:prstGeom prst="bentConnector4">
            <a:avLst>
              <a:gd name="adj1" fmla="val 33898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60" idx="3"/>
          </p:cNvCxnSpPr>
          <p:nvPr/>
        </p:nvCxnSpPr>
        <p:spPr>
          <a:xfrm flipH="1" rot="16200000">
            <a:off x="3927600" y="3190680"/>
            <a:ext cx="1815120" cy="1072080"/>
          </a:xfrm>
          <a:prstGeom prst="bentConnector4">
            <a:avLst>
              <a:gd name="adj1" fmla="val 14520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52" idx="2"/>
            <a:endCxn id="361" idx="3"/>
          </p:cNvCxnSpPr>
          <p:nvPr/>
        </p:nvCxnSpPr>
        <p:spPr>
          <a:xfrm flipH="1" rot="16200000">
            <a:off x="3413160" y="3704760"/>
            <a:ext cx="2843640" cy="1072080"/>
          </a:xfrm>
          <a:prstGeom prst="bentConnector4">
            <a:avLst>
              <a:gd name="adj1" fmla="val 9369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"/>
          <p:cNvCxnSpPr>
            <a:stCxn id="347" idx="2"/>
            <a:endCxn id="357" idx="1"/>
          </p:cNvCxnSpPr>
          <p:nvPr/>
        </p:nvCxnSpPr>
        <p:spPr>
          <a:xfrm rot="5400000">
            <a:off x="320760" y="2910600"/>
            <a:ext cx="969120" cy="830880"/>
          </a:xfrm>
          <a:prstGeom prst="bentConnector4">
            <a:avLst>
              <a:gd name="adj1" fmla="val 31438"/>
              <a:gd name="adj2" fmla="val 127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47" idx="2"/>
            <a:endCxn id="355" idx="1"/>
          </p:cNvCxnSpPr>
          <p:nvPr/>
        </p:nvCxnSpPr>
        <p:spPr>
          <a:xfrm rot="5400000">
            <a:off x="-193680" y="3425040"/>
            <a:ext cx="1998000" cy="830880"/>
          </a:xfrm>
          <a:prstGeom prst="bentConnector4">
            <a:avLst>
              <a:gd name="adj1" fmla="val 15245"/>
              <a:gd name="adj2" fmla="val 127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48" idx="2"/>
            <a:endCxn id="358" idx="0"/>
          </p:cNvCxnSpPr>
          <p:nvPr/>
        </p:nvCxnSpPr>
        <p:spPr>
          <a:xfrm>
            <a:off x="7637040" y="2841480"/>
            <a:ext cx="10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7470720" y="6324480"/>
            <a:ext cx="432000" cy="43200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2000"/>
              <a:gd name="textAreaBottom" fmla="*/ 3765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21" y="2779"/>
                </a:lnTo>
                <a:lnTo>
                  <a:pt x="2779" y="277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21" y="18821"/>
                </a:lnTo>
                <a:lnTo>
                  <a:pt x="18821" y="277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21" y="1882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00" h="21600">
                <a:moveTo>
                  <a:pt x="4821" y="4821"/>
                </a:moveTo>
                <a:lnTo>
                  <a:pt x="16779" y="10800"/>
                </a:lnTo>
                <a:lnTo>
                  <a:pt x="4821" y="1677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previousslide"/>
          </p:cNvPr>
          <p:cNvSpPr/>
          <p:nvPr/>
        </p:nvSpPr>
        <p:spPr>
          <a:xfrm>
            <a:off x="6896160" y="6323040"/>
            <a:ext cx="433440" cy="433440"/>
          </a:xfrm>
          <a:custGeom>
            <a:avLst/>
            <a:gdLst>
              <a:gd name="textAreaLeft" fmla="*/ 69840 w 433440"/>
              <a:gd name="textAreaRight" fmla="*/ 363600 w 433440"/>
              <a:gd name="textAreaTop" fmla="*/ 69840 h 433440"/>
              <a:gd name="textAreaBottom" fmla="*/ 3636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19" y="3481"/>
                </a:lnTo>
                <a:lnTo>
                  <a:pt x="3481" y="348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19" y="18119"/>
                </a:lnTo>
                <a:lnTo>
                  <a:pt x="18119" y="348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18119" y="1811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  <a:path fill="darken" w="21600" h="21600">
                <a:moveTo>
                  <a:pt x="5345" y="10800"/>
                </a:moveTo>
                <a:lnTo>
                  <a:pt x="16255" y="5345"/>
                </a:lnTo>
                <a:lnTo>
                  <a:pt x="16255" y="16255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412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7208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èr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9164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1520" y="1810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lackChancery"/>
              </a:rPr>
              <a:t>Informatiqu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09880" y="2077920"/>
            <a:ext cx="2135160" cy="245268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71520" y="3200400"/>
            <a:ext cx="1533600" cy="1122480"/>
          </a:xfrm>
          <a:prstGeom prst="flowChartMagneticDisk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71520" y="5018040"/>
            <a:ext cx="1533600" cy="1122480"/>
          </a:xfrm>
          <a:prstGeom prst="flowChartMagneticDisk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"/>
          <p:cNvCxnSpPr>
            <a:stCxn id="375" idx="4"/>
            <a:endCxn id="374" idx="1"/>
          </p:cNvCxnSpPr>
          <p:nvPr/>
        </p:nvCxnSpPr>
        <p:spPr>
          <a:xfrm flipV="1">
            <a:off x="1904760" y="3304800"/>
            <a:ext cx="19054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76" idx="4"/>
            <a:endCxn id="374" idx="1"/>
          </p:cNvCxnSpPr>
          <p:nvPr/>
        </p:nvCxnSpPr>
        <p:spPr>
          <a:xfrm flipV="1">
            <a:off x="1904760" y="3304800"/>
            <a:ext cx="1905480" cy="227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371520" y="1324080"/>
            <a:ext cx="1533600" cy="1122120"/>
          </a:xfrm>
          <a:prstGeom prst="flowChartMagneticDisk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"/>
          <p:cNvCxnSpPr>
            <a:stCxn id="379" idx="3"/>
            <a:endCxn id="375" idx="1"/>
          </p:cNvCxnSpPr>
          <p:nvPr/>
        </p:nvCxnSpPr>
        <p:spPr>
          <a:xfrm>
            <a:off x="1137960" y="2445840"/>
            <a:ext cx="108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1066680" y="2438280"/>
            <a:ext cx="1901880" cy="7495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905120" y="4268880"/>
            <a:ext cx="1901880" cy="749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905120" y="3162240"/>
            <a:ext cx="1901880" cy="7495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945040" y="5181480"/>
            <a:ext cx="2590920" cy="125568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son-Fac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"/>
          <p:cNvCxnSpPr>
            <a:stCxn id="384" idx="0"/>
            <a:endCxn id="374" idx="3"/>
          </p:cNvCxnSpPr>
          <p:nvPr/>
        </p:nvCxnSpPr>
        <p:spPr>
          <a:xfrm flipH="1" flipV="1">
            <a:off x="5944320" y="3304800"/>
            <a:ext cx="1296360" cy="187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6095880" y="3962520"/>
            <a:ext cx="1901880" cy="749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95880" y="1324080"/>
            <a:ext cx="2733840" cy="1838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095880" y="1324080"/>
            <a:ext cx="2440080" cy="1838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nées 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nor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28920" y="5994360"/>
            <a:ext cx="955800" cy="768240"/>
          </a:xfrm>
          <a:prstGeom prst="flowChartDocumen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"/>
          <p:cNvCxnSpPr>
            <a:stCxn id="384" idx="1"/>
            <a:endCxn id="389" idx="3"/>
          </p:cNvCxnSpPr>
          <p:nvPr/>
        </p:nvCxnSpPr>
        <p:spPr>
          <a:xfrm flipH="1">
            <a:off x="4284360" y="5810400"/>
            <a:ext cx="1661040" cy="56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1" name=""/>
          <p:cNvSpPr/>
          <p:nvPr/>
        </p:nvSpPr>
        <p:spPr>
          <a:xfrm>
            <a:off x="3332160" y="5018040"/>
            <a:ext cx="1095480" cy="881280"/>
          </a:xfrm>
          <a:prstGeom prst="flowChartDocumen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et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"/>
          <p:cNvCxnSpPr>
            <a:stCxn id="384" idx="1"/>
            <a:endCxn id="391" idx="3"/>
          </p:cNvCxnSpPr>
          <p:nvPr/>
        </p:nvCxnSpPr>
        <p:spPr>
          <a:xfrm flipH="1" flipV="1">
            <a:off x="4426920" y="5459040"/>
            <a:ext cx="151812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7467480" y="66600"/>
            <a:ext cx="432000" cy="43200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2000"/>
              <a:gd name="textAreaBottom" fmla="*/ 3765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21" y="2779"/>
                </a:lnTo>
                <a:lnTo>
                  <a:pt x="2779" y="277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21" y="18821"/>
                </a:lnTo>
                <a:lnTo>
                  <a:pt x="18821" y="277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21" y="1882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00" h="21600">
                <a:moveTo>
                  <a:pt x="4821" y="4821"/>
                </a:moveTo>
                <a:lnTo>
                  <a:pt x="16779" y="10800"/>
                </a:lnTo>
                <a:lnTo>
                  <a:pt x="4821" y="1677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" action="ppaction://hlinkshowjump?jump=previousslide"/>
          </p:cNvPr>
          <p:cNvSpPr/>
          <p:nvPr/>
        </p:nvSpPr>
        <p:spPr>
          <a:xfrm>
            <a:off x="6892920" y="65160"/>
            <a:ext cx="433440" cy="433440"/>
          </a:xfrm>
          <a:custGeom>
            <a:avLst/>
            <a:gdLst>
              <a:gd name="textAreaLeft" fmla="*/ 69840 w 433440"/>
              <a:gd name="textAreaRight" fmla="*/ 363600 w 433440"/>
              <a:gd name="textAreaTop" fmla="*/ 69840 h 433440"/>
              <a:gd name="textAreaBottom" fmla="*/ 3636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19" y="3481"/>
                </a:lnTo>
                <a:lnTo>
                  <a:pt x="3481" y="348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19" y="18119"/>
                </a:lnTo>
                <a:lnTo>
                  <a:pt x="18119" y="348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18119" y="1811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  <a:path fill="darken" w="21600" h="21600">
                <a:moveTo>
                  <a:pt x="5345" y="10800"/>
                </a:moveTo>
                <a:lnTo>
                  <a:pt x="16255" y="5345"/>
                </a:lnTo>
                <a:lnTo>
                  <a:pt x="16255" y="16255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30880" y="6660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68840" y="6660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èr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Tableau inséré avec lien 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2044800" y="2057400"/>
            <a:ext cx="5815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8:16:50Z</dcterms:created>
  <dc:creator>dmdfor1</dc:creator>
  <dc:description/>
  <dc:language>en-US</dc:language>
  <cp:lastModifiedBy>Caroline Lavoie</cp:lastModifiedBy>
  <dcterms:modified xsi:type="dcterms:W3CDTF">2006-02-24T01:02:53Z</dcterms:modified>
  <cp:revision>46</cp:revision>
  <dc:subject/>
  <dc:title>Tableau inséré avec lien </dc:title>
</cp:coreProperties>
</file>