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9FC-AAF2-48F4-A368-0944A9B7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F71-9A62-487F-9137-E597D072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945-840E-4DEA-8F54-316DB64C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5F2-76F4-40A1-B0B9-4DBB8954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DD88-4E80-44FC-A908-394CE176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A7AC-5730-42CD-AAF9-70665026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F82-5506-45E9-8B07-83CD9F0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71A-BEDC-45E2-82B1-DF45DA8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FEC0-1E2B-4877-B2EF-8F713C2C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44C0-BBB2-4777-A95C-A5A7DA65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B402-EBF1-4D9B-8F51-B2E685B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65C-9A3F-454E-86D8-4B03A586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9502-E960-448D-B524-521DF32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2B9-24A0-4CA0-9BCE-FDFE0EE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91A-01DE-423A-B40F-C2041401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C12D-3811-47E9-94F8-CCE3BF60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E98-8FF9-4D7D-8238-A7E0F7DC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3AA-C4FC-4F74-8744-77703D9A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890-E97D-42B0-8D90-30C227B6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16E-84A5-4E3A-B4FD-A60F585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CE0-7476-4D02-B95E-CF943314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868-84F3-494F-B24C-25E3E86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0D0-26CC-480A-BFDF-1BA5D883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33C-341E-4D0D-8D54-B3FA01D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B402-8C3A-4B92-9E1A-53310282C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50A-0378-40C9-9E10-8377D9545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880" y="2057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Organisation de fê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00040" y="4038120"/>
            <a:ext cx="4724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Un souvenir inoubli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293544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Pour toutes sortes d’occas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Cérémonies religie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ari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Baptê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Annivers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ahoma"/>
              </a:rPr>
              <a:t>Aff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nfé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éceptions d’ouver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590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Buffets succul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uisine légè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uisine raffin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uisine internation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Ital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Mex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ahoma"/>
              </a:rPr>
              <a:t>A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BB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ckt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95680" y="2343240"/>
            <a:ext cx="3810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5:18:21Z</dcterms:created>
  <dc:creator>Katie Miadlikowski</dc:creator>
  <dc:description/>
  <dc:language>en-US</dc:language>
  <cp:lastModifiedBy>Carole Gagnon</cp:lastModifiedBy>
  <dcterms:modified xsi:type="dcterms:W3CDTF">2006-02-23T17:17:55Z</dcterms:modified>
  <cp:revision>19</cp:revision>
  <dc:subject/>
  <dc:title>Organisation de fêtes</dc:title>
</cp:coreProperties>
</file>