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017-43D7-4145-9F10-3FEBB149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C4B-52C7-454E-B22F-0E47C225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913-972A-4226-A180-57831EE5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562-BEF3-4CC7-9BD5-28DC2B20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F7C5-59E2-40A4-B4D9-D1E4E254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A298-7C23-4D94-ACC8-63014B8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63C5-7EB5-4717-8D6F-5C884AB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A80-985D-46FD-AD74-D2225D6D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6C6-61AA-452D-B868-04C93EF3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EEA-E811-4FAC-AB9A-EAD4043F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F04-5BD8-48C9-99F2-8B9A5D92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AFD-4326-4DF4-93DF-DD9746B3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6BF5-F160-4388-8EC1-51A75363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FF0-E97A-4594-ABD1-5A30CD8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AA7-9F11-4B14-A4C9-CC98B20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B32-5E3E-48A8-AF3B-C99F9A45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188C-1C56-40E3-9080-1C18F20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17F4-2536-4763-8858-CDDC295C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FBB5-DC64-42DD-B305-1D7FE130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7596-EBB1-4069-A5F3-C5ECF02E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DC49-70A1-49B1-B300-BE65B3F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988E-74AB-447F-BE91-2FB896AF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847-11CA-4F4E-A6B1-841EBE5A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BA06-C9E1-4F99-B56F-CD6CD923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6D07-25DA-4C21-B3B0-E39A2875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77C6-2832-47C0-8B8F-8CD2CA0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DCD5-B0AA-4A21-BDB9-E3D471AB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84BB-F075-4F65-B759-EDE87D9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3950-B2ED-4F82-8DF8-94F6BBD3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64A2-C12C-4B8A-A4A0-1885FB84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FF39-738A-4C8C-B347-A2297116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620D-CD69-4D89-A46A-635953DF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B4FD-A688-4B46-B528-8ECD7BB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B1B-F06D-4C4C-A9EE-5C29658E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69FB-493C-4B24-994D-0A05D057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F13AA-E35E-4242-AFFC-57F949B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8B85-62CC-4588-BA1A-88ECAB0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51B0-2E2F-40F6-8D4D-22CACBB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80698-8753-4EA9-84D4-40DE0B0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991B-18DF-4609-8EDD-FA219FB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609B-93FA-467F-9AE3-D64CB97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1B10-7D55-40C5-B640-E7378376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0180-6A6C-437F-92DF-6478BEA8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8518-2315-4095-B34A-75C989F9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E13-71DF-4963-BF0E-06429666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D594-9D1E-4D31-8C6A-45BFD25A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4896-AA18-45F3-9958-BFFF63B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0314-B3F5-47FE-8A41-CB3D899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97FB-E7F0-4E29-BFBD-021C661A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C895A-8096-496C-A7E0-1121A1E6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0B20-0F15-45A7-B646-51DC480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DB05-98D4-49AE-B048-EC96A8C0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2CAA9-A9A6-41D2-A48A-1709D8F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2776-FBA5-4195-A894-6685D011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AB31-EA45-4091-A890-1760C90F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9F3-C5DD-412D-A7FA-A7B0BCC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9D5B-0AE6-459A-A78E-70D88214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D06C-3CA7-4614-A2A9-F5C73180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038C-9C2B-417A-BE78-9E6FAEE2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1D7C0-AE52-477C-B1A8-60164F9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B151-F380-4B57-A0E5-2F338AC3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A3F8-DD9E-4BE1-B935-513C1D5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01F0-45C9-460E-9516-07491312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813F-6CC8-4788-8FBD-41DF36C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5162-7D8F-4BD2-83D3-C3BD44B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943B5-BEBF-41D3-A88B-7FB32BC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54-F266-4926-A0DD-454BFB8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410B-D48A-45A6-8DBC-5DB509C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14E9-FD41-4127-8B0F-923E2B81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E2A9-A786-494F-B027-17CCEB8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F17-91D3-47F6-9842-641EC0A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FC6-586F-4982-BDAC-783A0BA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1F3-7E72-41E7-9BBE-C2B1441AEA8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E54-C65E-489C-A7AF-B39D33EFAF5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9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377-EA6D-425C-AACB-5F30C9FA1B7F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3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086-5C30-4CFC-BF1F-62DB63C3089B}" type="slidenum">
              <a:rPr b="0" lang="fr-C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13B-96F5-4AC3-9700-F3607613B03E}" type="slidenum">
              <a:rPr b="0" lang="fr-C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399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499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ee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ee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4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51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0A0A-EEAF-440B-B278-F63AF42510A6}" type="slidenum">
              <a:rPr b="0" lang="fr-C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Times New Roman"/>
              </a:rPr>
              <a:t>Bilan annuel de votre compagn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3366"/>
                </a:solidFill>
                <a:latin typeface="Times New Roman"/>
              </a:rPr>
              <a:t>Présenté par Jacques Laflamme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666880" cy="26542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5475240" y="3048120"/>
            <a:ext cx="4557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66"/>
                </a:solidFill>
                <a:latin typeface="Times New Roman"/>
              </a:rPr>
              <a:t>Service à la clientè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cc99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cc99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0000"/>
            </a:gs>
            <a:gs pos="100000">
              <a:srgbClr val="cc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3366"/>
                </a:solidFill>
                <a:latin typeface="Times New Roman"/>
              </a:rPr>
              <a:t>Responsables par rég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608" name="_s43039"/>
            <p:cNvCxnSpPr>
              <a:stCxn id="609" idx="2"/>
              <a:endCxn id="610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1" name="_s43037"/>
            <p:cNvCxnSpPr>
              <a:stCxn id="612" idx="2"/>
              <a:endCxn id="610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3" name="_s43035"/>
            <p:cNvCxnSpPr>
              <a:stCxn id="614" idx="2"/>
              <a:endCxn id="610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5" name="_s43033"/>
            <p:cNvCxnSpPr>
              <a:stCxn id="616" idx="4"/>
              <a:endCxn id="617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18" name="_s43031"/>
            <p:cNvCxnSpPr>
              <a:stCxn id="619" idx="4"/>
              <a:endCxn id="617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0" name="_s43029"/>
            <p:cNvCxnSpPr>
              <a:stCxn id="621" idx="4"/>
              <a:endCxn id="617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2" name="_s43027"/>
            <p:cNvCxnSpPr>
              <a:stCxn id="623" idx="4"/>
              <a:endCxn id="624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5" name="_s43023"/>
            <p:cNvCxnSpPr>
              <a:stCxn id="626" idx="4"/>
              <a:endCxn id="624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7" name="_s43021"/>
            <p:cNvCxnSpPr>
              <a:stCxn id="610" idx="0"/>
              <a:endCxn id="628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29" name="_s43020"/>
            <p:cNvCxnSpPr>
              <a:stCxn id="617" idx="0"/>
              <a:endCxn id="628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cxnSp>
          <p:nvCxnSpPr>
            <p:cNvPr id="630" name="_s43019"/>
            <p:cNvCxnSpPr>
              <a:stCxn id="624" idx="0"/>
              <a:endCxn id="628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e3e2c7"/>
              </a:solidFill>
              <a:miter/>
            </a:ln>
          </p:spPr>
        </p:cxnSp>
        <p:sp>
          <p:nvSpPr>
            <p:cNvPr id="628" name="_s43015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3366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4" name="_s43016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7" name="_s43017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0" name="_s43018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6" name="_s43022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3" name="_s43026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1" name="_s43028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9" name="_s43030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6" name="_s43032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4" name="_s43034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2" name="_s4303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9" name="_s43038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33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3366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Book Antiqua"/>
              </a:rPr>
              <a:t>À la prochaine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0880" y="2666880"/>
            <a:ext cx="55627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cccc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Impact"/>
              </a:rPr>
              <a:t>Merci de vot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ccccff"/>
                  </a:gs>
                  <a:gs pos="100000">
                    <a:srgbClr val="33cccc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cccc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Impact"/>
              </a:rPr>
              <a:t>particip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ccccff"/>
                  </a:gs>
                  <a:gs pos="100000">
                    <a:srgbClr val="33cccc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5257800" y="3124080"/>
            <a:ext cx="2286000" cy="2286000"/>
            <a:chOff x="5257800" y="3124080"/>
            <a:chExt cx="2286000" cy="2286000"/>
          </a:xfrm>
        </p:grpSpPr>
        <p:pic>
          <p:nvPicPr>
            <p:cNvPr id="634" name="" descr=""/>
            <p:cNvPicPr/>
            <p:nvPr/>
          </p:nvPicPr>
          <p:blipFill>
            <a:blip r:embed="rId1"/>
            <a:stretch/>
          </p:blipFill>
          <p:spPr>
            <a:xfrm>
              <a:off x="525780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41008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Janvi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410080" y="3124080"/>
            <a:ext cx="2286000" cy="2286000"/>
            <a:chOff x="5410080" y="3124080"/>
            <a:chExt cx="2286000" cy="2286000"/>
          </a:xfrm>
        </p:grpSpPr>
        <p:pic>
          <p:nvPicPr>
            <p:cNvPr id="637" name="" descr=""/>
            <p:cNvPicPr/>
            <p:nvPr/>
          </p:nvPicPr>
          <p:blipFill>
            <a:blip r:embed="rId2"/>
            <a:stretch/>
          </p:blipFill>
          <p:spPr>
            <a:xfrm>
              <a:off x="541008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56236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févrie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562720" y="3124080"/>
            <a:ext cx="2286000" cy="2286000"/>
            <a:chOff x="5562720" y="3124080"/>
            <a:chExt cx="2286000" cy="2286000"/>
          </a:xfrm>
        </p:grpSpPr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556272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71500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ma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715000" y="3124080"/>
            <a:ext cx="2286000" cy="2286000"/>
            <a:chOff x="5715000" y="3124080"/>
            <a:chExt cx="2286000" cy="2286000"/>
          </a:xfrm>
        </p:grpSpPr>
        <p:pic>
          <p:nvPicPr>
            <p:cNvPr id="643" name="" descr=""/>
            <p:cNvPicPr/>
            <p:nvPr/>
          </p:nvPicPr>
          <p:blipFill>
            <a:blip r:embed="rId4"/>
            <a:stretch/>
          </p:blipFill>
          <p:spPr>
            <a:xfrm>
              <a:off x="5715000" y="312408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5867280" y="3733920"/>
              <a:ext cx="2057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2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eaeaea"/>
                  </a:solidFill>
                  <a:latin typeface="comic"/>
                </a:rPr>
                <a:t>avri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648320" y="2057400"/>
            <a:ext cx="3504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eaeaea"/>
                </a:solidFill>
                <a:latin typeface="Times New Roman"/>
              </a:rPr>
              <a:t>Ne manquez pas n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eaeaea"/>
                </a:solidFill>
                <a:latin typeface="Times New Roman"/>
              </a:rPr>
              <a:t>prochaines démonstr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cc"/>
                </a:solidFill>
                <a:latin typeface="Book Antiqua"/>
              </a:rPr>
              <a:t>Réalisations à l’externe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09640" y="2442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Ouverture de nouvelles succursales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Rimouski, Chicoutimi, Rouyn-Noranda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Amélioration du service à la clientèle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Heures d’ouverture prolongées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Contrôle de la qualité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eaeaea"/>
                </a:solidFill>
                <a:latin typeface="Book Antiqua"/>
              </a:rPr>
              <a:t>Campagne publicitaire à la télévision</a:t>
            </a:r>
            <a:endParaRPr b="1" lang="en-US" sz="2800" spc="-1" strike="noStrike">
              <a:solidFill>
                <a:srgbClr val="eaeaea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eaeaea"/>
                </a:solidFill>
                <a:latin typeface="Book Antiqua"/>
              </a:rPr>
              <a:t>Visibilité accrue de l’entreprise</a:t>
            </a:r>
            <a:endParaRPr b="0" lang="en-US" sz="2400" spc="-1" strike="noStrike">
              <a:solidFill>
                <a:srgbClr val="eaeaea"/>
              </a:solidFill>
              <a:latin typeface="Book Antiqu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097440" y="1103760"/>
            <a:ext cx="1537200" cy="1439640"/>
            <a:chOff x="3097440" y="1103760"/>
            <a:chExt cx="1537200" cy="1439640"/>
          </a:xfrm>
        </p:grpSpPr>
        <p:sp>
          <p:nvSpPr>
            <p:cNvPr id="649" name=""/>
            <p:cNvSpPr/>
            <p:nvPr/>
          </p:nvSpPr>
          <p:spPr>
            <a:xfrm flipV="1" rot="13904400">
              <a:off x="3132360" y="1469160"/>
              <a:ext cx="1275480" cy="70776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 rot="13904400">
              <a:off x="3233160" y="1496880"/>
              <a:ext cx="1078200" cy="59580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13904400">
              <a:off x="3672000" y="2001600"/>
              <a:ext cx="119880" cy="11016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 rot="13904400">
              <a:off x="3657960" y="1780920"/>
              <a:ext cx="291240" cy="25812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 rot="13904400">
              <a:off x="3490560" y="1601640"/>
              <a:ext cx="860400" cy="18936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 rot="13904400">
              <a:off x="3409200" y="1341000"/>
              <a:ext cx="364320" cy="48816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 rot="13904400">
              <a:off x="4046400" y="1972440"/>
              <a:ext cx="707760" cy="3888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13904400">
              <a:off x="3276720" y="1248120"/>
              <a:ext cx="185040" cy="46044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984560" y="1171080"/>
            <a:ext cx="1022400" cy="1441080"/>
            <a:chOff x="4984560" y="1171080"/>
            <a:chExt cx="1022400" cy="1441080"/>
          </a:xfrm>
        </p:grpSpPr>
        <p:sp>
          <p:nvSpPr>
            <p:cNvPr id="658" name=""/>
            <p:cNvSpPr/>
            <p:nvPr/>
          </p:nvSpPr>
          <p:spPr>
            <a:xfrm flipV="1" rot="15507000">
              <a:off x="4824720" y="1503720"/>
              <a:ext cx="1242000" cy="68868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 rot="15507000">
              <a:off x="4934520" y="1534320"/>
              <a:ext cx="1050120" cy="57960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5507000">
              <a:off x="5252400" y="1981080"/>
              <a:ext cx="116280" cy="10728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 rot="15507000">
              <a:off x="5294880" y="1812240"/>
              <a:ext cx="283320" cy="25128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 rot="15507000">
              <a:off x="5213520" y="1712160"/>
              <a:ext cx="837720" cy="18396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 rot="15507000">
              <a:off x="5217120" y="1325520"/>
              <a:ext cx="354600" cy="47484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15507000">
              <a:off x="5574960" y="2251800"/>
              <a:ext cx="689040" cy="3780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15507000">
              <a:off x="5158440" y="1148760"/>
              <a:ext cx="180360" cy="44748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467000" y="1138320"/>
            <a:ext cx="1671480" cy="954720"/>
            <a:chOff x="1467000" y="1138320"/>
            <a:chExt cx="1671480" cy="954720"/>
          </a:xfrm>
        </p:grpSpPr>
        <p:sp>
          <p:nvSpPr>
            <p:cNvPr id="667" name=""/>
            <p:cNvSpPr/>
            <p:nvPr/>
          </p:nvSpPr>
          <p:spPr>
            <a:xfrm flipH="1" rot="639000">
              <a:off x="1522080" y="1252800"/>
              <a:ext cx="1308960" cy="725400"/>
            </a:xfrm>
            <a:custGeom>
              <a:avLst/>
              <a:gdLst/>
              <a:ahLst/>
              <a:rect l="l" t="t" r="r" b="b"/>
              <a:pathLst>
                <a:path w="13660" h="7582">
                  <a:moveTo>
                    <a:pt x="13660" y="0"/>
                  </a:moveTo>
                  <a:lnTo>
                    <a:pt x="9298" y="7582"/>
                  </a:lnTo>
                  <a:lnTo>
                    <a:pt x="6384" y="5772"/>
                  </a:lnTo>
                  <a:lnTo>
                    <a:pt x="4147" y="7106"/>
                  </a:lnTo>
                  <a:lnTo>
                    <a:pt x="3580" y="3662"/>
                  </a:lnTo>
                  <a:lnTo>
                    <a:pt x="0" y="815"/>
                  </a:lnTo>
                  <a:lnTo>
                    <a:pt x="13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rot="639000">
              <a:off x="1606320" y="1287360"/>
              <a:ext cx="1106640" cy="610560"/>
            </a:xfrm>
            <a:custGeom>
              <a:avLst/>
              <a:gdLst/>
              <a:ahLst/>
              <a:rect l="l" t="t" r="r" b="b"/>
              <a:pathLst>
                <a:path w="11557" h="6392">
                  <a:moveTo>
                    <a:pt x="11557" y="0"/>
                  </a:moveTo>
                  <a:lnTo>
                    <a:pt x="7877" y="6392"/>
                  </a:lnTo>
                  <a:lnTo>
                    <a:pt x="4272" y="4172"/>
                  </a:lnTo>
                  <a:lnTo>
                    <a:pt x="9777" y="826"/>
                  </a:lnTo>
                  <a:lnTo>
                    <a:pt x="2856" y="2944"/>
                  </a:lnTo>
                  <a:lnTo>
                    <a:pt x="0" y="802"/>
                  </a:lnTo>
                  <a:lnTo>
                    <a:pt x="11557" y="0"/>
                  </a:lnTo>
                  <a:close/>
                </a:path>
              </a:pathLst>
            </a:custGeom>
            <a:solidFill>
              <a:srgbClr val="e0c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rot="639000">
              <a:off x="2243880" y="1765080"/>
              <a:ext cx="122400" cy="113040"/>
            </a:xfrm>
            <a:custGeom>
              <a:avLst/>
              <a:gdLst/>
              <a:ahLst/>
              <a:rect l="l" t="t" r="r" b="b"/>
              <a:pathLst>
                <a:path w="1287" h="1174">
                  <a:moveTo>
                    <a:pt x="674" y="0"/>
                  </a:moveTo>
                  <a:lnTo>
                    <a:pt x="0" y="1174"/>
                  </a:lnTo>
                  <a:lnTo>
                    <a:pt x="1287" y="397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200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rot="639000">
              <a:off x="2111400" y="1527840"/>
              <a:ext cx="298800" cy="264600"/>
            </a:xfrm>
            <a:custGeom>
              <a:avLst/>
              <a:gdLst/>
              <a:ahLst/>
              <a:rect l="l" t="t" r="r" b="b"/>
              <a:pathLst>
                <a:path w="3119" h="2768">
                  <a:moveTo>
                    <a:pt x="0" y="2768"/>
                  </a:moveTo>
                  <a:lnTo>
                    <a:pt x="560" y="1601"/>
                  </a:lnTo>
                  <a:lnTo>
                    <a:pt x="3119" y="0"/>
                  </a:lnTo>
                  <a:lnTo>
                    <a:pt x="60" y="1281"/>
                  </a:lnTo>
                  <a:lnTo>
                    <a:pt x="0" y="2768"/>
                  </a:lnTo>
                  <a:close/>
                </a:path>
              </a:pathLst>
            </a:custGeom>
            <a:solidFill>
              <a:srgbClr val="473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rot="639000">
              <a:off x="1766520" y="1319400"/>
              <a:ext cx="882720" cy="194400"/>
            </a:xfrm>
            <a:custGeom>
              <a:avLst/>
              <a:gdLst/>
              <a:ahLst/>
              <a:rect l="l" t="t" r="r" b="b"/>
              <a:pathLst>
                <a:path w="9215" h="2034">
                  <a:moveTo>
                    <a:pt x="9215" y="0"/>
                  </a:moveTo>
                  <a:lnTo>
                    <a:pt x="0" y="763"/>
                  </a:lnTo>
                  <a:lnTo>
                    <a:pt x="1449" y="2034"/>
                  </a:lnTo>
                  <a:lnTo>
                    <a:pt x="9215" y="0"/>
                  </a:lnTo>
                  <a:close/>
                </a:path>
              </a:pathLst>
            </a:custGeom>
            <a:solidFill>
              <a:srgbClr val="fff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rot="639000">
              <a:off x="1690920" y="1302120"/>
              <a:ext cx="373680" cy="500400"/>
            </a:xfrm>
            <a:custGeom>
              <a:avLst/>
              <a:gdLst/>
              <a:ahLst/>
              <a:rect l="l" t="t" r="r" b="b"/>
              <a:pathLst>
                <a:path w="3904" h="5239">
                  <a:moveTo>
                    <a:pt x="0" y="4601"/>
                  </a:moveTo>
                  <a:lnTo>
                    <a:pt x="928" y="5239"/>
                  </a:lnTo>
                  <a:lnTo>
                    <a:pt x="3904" y="0"/>
                  </a:lnTo>
                  <a:lnTo>
                    <a:pt x="0" y="4601"/>
                  </a:lnTo>
                  <a:close/>
                </a:path>
              </a:pathLst>
            </a:custGeom>
            <a:solidFill>
              <a:srgbClr val="b2a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639000">
              <a:off x="2414160" y="1302120"/>
              <a:ext cx="726480" cy="39600"/>
            </a:xfrm>
            <a:custGeom>
              <a:avLst/>
              <a:gdLst/>
              <a:ahLst/>
              <a:rect l="l" t="t" r="r" b="b"/>
              <a:pathLst>
                <a:path w="7586" h="425">
                  <a:moveTo>
                    <a:pt x="0" y="0"/>
                  </a:moveTo>
                  <a:lnTo>
                    <a:pt x="384" y="425"/>
                  </a:lnTo>
                  <a:lnTo>
                    <a:pt x="7586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rot="639000">
              <a:off x="1539720" y="1383480"/>
              <a:ext cx="190080" cy="471960"/>
            </a:xfrm>
            <a:custGeom>
              <a:avLst/>
              <a:gdLst/>
              <a:ahLst/>
              <a:rect l="l" t="t" r="r" b="b"/>
              <a:pathLst>
                <a:path w="1988" h="4915">
                  <a:moveTo>
                    <a:pt x="222" y="4915"/>
                  </a:moveTo>
                  <a:lnTo>
                    <a:pt x="0" y="4484"/>
                  </a:lnTo>
                  <a:lnTo>
                    <a:pt x="1988" y="0"/>
                  </a:lnTo>
                  <a:lnTo>
                    <a:pt x="222" y="4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5715000" y="5562720"/>
            <a:ext cx="3200040" cy="1066320"/>
            <a:chOff x="5715000" y="5562720"/>
            <a:chExt cx="3200040" cy="1066320"/>
          </a:xfrm>
        </p:grpSpPr>
        <p:grpSp>
          <p:nvGrpSpPr>
            <p:cNvPr id="676" name=""/>
            <p:cNvGrpSpPr/>
            <p:nvPr/>
          </p:nvGrpSpPr>
          <p:grpSpPr>
            <a:xfrm>
              <a:off x="5715000" y="5562720"/>
              <a:ext cx="3200040" cy="1066320"/>
              <a:chOff x="5715000" y="5562720"/>
              <a:chExt cx="3200040" cy="1066320"/>
            </a:xfrm>
          </p:grpSpPr>
          <p:sp>
            <p:nvSpPr>
              <p:cNvPr id="677" name=""/>
              <p:cNvSpPr/>
              <p:nvPr/>
            </p:nvSpPr>
            <p:spPr>
              <a:xfrm>
                <a:off x="5738760" y="5604840"/>
                <a:ext cx="2220480" cy="983520"/>
              </a:xfrm>
              <a:custGeom>
                <a:avLst/>
                <a:gdLst/>
                <a:ahLst/>
                <a:rect l="l" t="t" r="r" b="b"/>
                <a:pathLst>
                  <a:path w="3529" h="1403">
                    <a:moveTo>
                      <a:pt x="53" y="365"/>
                    </a:moveTo>
                    <a:lnTo>
                      <a:pt x="23" y="213"/>
                    </a:lnTo>
                    <a:lnTo>
                      <a:pt x="84" y="114"/>
                    </a:lnTo>
                    <a:lnTo>
                      <a:pt x="205" y="99"/>
                    </a:lnTo>
                    <a:lnTo>
                      <a:pt x="494" y="182"/>
                    </a:lnTo>
                    <a:lnTo>
                      <a:pt x="937" y="129"/>
                    </a:lnTo>
                    <a:lnTo>
                      <a:pt x="1555" y="7"/>
                    </a:lnTo>
                    <a:lnTo>
                      <a:pt x="1890" y="0"/>
                    </a:lnTo>
                    <a:lnTo>
                      <a:pt x="2500" y="91"/>
                    </a:lnTo>
                    <a:lnTo>
                      <a:pt x="2896" y="106"/>
                    </a:lnTo>
                    <a:lnTo>
                      <a:pt x="3301" y="68"/>
                    </a:lnTo>
                    <a:lnTo>
                      <a:pt x="3430" y="114"/>
                    </a:lnTo>
                    <a:lnTo>
                      <a:pt x="3483" y="167"/>
                    </a:lnTo>
                    <a:lnTo>
                      <a:pt x="3529" y="251"/>
                    </a:lnTo>
                    <a:lnTo>
                      <a:pt x="3483" y="1175"/>
                    </a:lnTo>
                    <a:lnTo>
                      <a:pt x="3498" y="1273"/>
                    </a:lnTo>
                    <a:lnTo>
                      <a:pt x="3453" y="1327"/>
                    </a:lnTo>
                    <a:lnTo>
                      <a:pt x="3247" y="1319"/>
                    </a:lnTo>
                    <a:lnTo>
                      <a:pt x="2994" y="1365"/>
                    </a:lnTo>
                    <a:lnTo>
                      <a:pt x="2645" y="1403"/>
                    </a:lnTo>
                    <a:lnTo>
                      <a:pt x="2224" y="1349"/>
                    </a:lnTo>
                    <a:lnTo>
                      <a:pt x="1684" y="1273"/>
                    </a:lnTo>
                    <a:lnTo>
                      <a:pt x="1196" y="1289"/>
                    </a:lnTo>
                    <a:lnTo>
                      <a:pt x="648" y="1387"/>
                    </a:lnTo>
                    <a:lnTo>
                      <a:pt x="281" y="1403"/>
                    </a:lnTo>
                    <a:lnTo>
                      <a:pt x="46" y="1357"/>
                    </a:lnTo>
                    <a:lnTo>
                      <a:pt x="0" y="1258"/>
                    </a:lnTo>
                    <a:lnTo>
                      <a:pt x="68" y="929"/>
                    </a:lnTo>
                    <a:lnTo>
                      <a:pt x="99" y="754"/>
                    </a:lnTo>
                    <a:lnTo>
                      <a:pt x="38" y="557"/>
                    </a:lnTo>
                    <a:lnTo>
                      <a:pt x="53" y="365"/>
                    </a:lnTo>
                    <a:lnTo>
                      <a:pt x="53" y="36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280720" y="5973840"/>
                <a:ext cx="586440" cy="298800"/>
              </a:xfrm>
              <a:custGeom>
                <a:avLst/>
                <a:gdLst/>
                <a:ahLst/>
                <a:rect l="l" t="t" r="r" b="b"/>
                <a:pathLst>
                  <a:path w="932" h="426">
                    <a:moveTo>
                      <a:pt x="86" y="198"/>
                    </a:moveTo>
                    <a:lnTo>
                      <a:pt x="0" y="8"/>
                    </a:lnTo>
                    <a:lnTo>
                      <a:pt x="78" y="0"/>
                    </a:lnTo>
                    <a:lnTo>
                      <a:pt x="200" y="122"/>
                    </a:lnTo>
                    <a:lnTo>
                      <a:pt x="565" y="99"/>
                    </a:lnTo>
                    <a:lnTo>
                      <a:pt x="656" y="175"/>
                    </a:lnTo>
                    <a:lnTo>
                      <a:pt x="709" y="122"/>
                    </a:lnTo>
                    <a:lnTo>
                      <a:pt x="841" y="99"/>
                    </a:lnTo>
                    <a:lnTo>
                      <a:pt x="932" y="183"/>
                    </a:lnTo>
                    <a:lnTo>
                      <a:pt x="863" y="320"/>
                    </a:lnTo>
                    <a:lnTo>
                      <a:pt x="649" y="343"/>
                    </a:lnTo>
                    <a:lnTo>
                      <a:pt x="466" y="343"/>
                    </a:lnTo>
                    <a:lnTo>
                      <a:pt x="291" y="426"/>
                    </a:lnTo>
                    <a:lnTo>
                      <a:pt x="306" y="350"/>
                    </a:lnTo>
                    <a:lnTo>
                      <a:pt x="238" y="289"/>
                    </a:lnTo>
                    <a:lnTo>
                      <a:pt x="86" y="198"/>
                    </a:lnTo>
                    <a:lnTo>
                      <a:pt x="86" y="198"/>
                    </a:lnTo>
                    <a:close/>
                  </a:path>
                </a:pathLst>
              </a:custGeom>
              <a:solidFill>
                <a:srgbClr val="ff99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29480" y="5562720"/>
                <a:ext cx="2081160" cy="203400"/>
              </a:xfrm>
              <a:custGeom>
                <a:avLst/>
                <a:gdLst/>
                <a:ahLst/>
                <a:rect l="l" t="t" r="r" b="b"/>
                <a:pathLst>
                  <a:path w="3307" h="291">
                    <a:moveTo>
                      <a:pt x="0" y="135"/>
                    </a:moveTo>
                    <a:lnTo>
                      <a:pt x="135" y="164"/>
                    </a:lnTo>
                    <a:lnTo>
                      <a:pt x="310" y="183"/>
                    </a:lnTo>
                    <a:lnTo>
                      <a:pt x="493" y="177"/>
                    </a:lnTo>
                    <a:lnTo>
                      <a:pt x="683" y="150"/>
                    </a:lnTo>
                    <a:lnTo>
                      <a:pt x="905" y="108"/>
                    </a:lnTo>
                    <a:lnTo>
                      <a:pt x="1189" y="55"/>
                    </a:lnTo>
                    <a:lnTo>
                      <a:pt x="1417" y="21"/>
                    </a:lnTo>
                    <a:lnTo>
                      <a:pt x="1599" y="0"/>
                    </a:lnTo>
                    <a:lnTo>
                      <a:pt x="1869" y="29"/>
                    </a:lnTo>
                    <a:lnTo>
                      <a:pt x="2166" y="82"/>
                    </a:lnTo>
                    <a:lnTo>
                      <a:pt x="2375" y="108"/>
                    </a:lnTo>
                    <a:lnTo>
                      <a:pt x="2613" y="122"/>
                    </a:lnTo>
                    <a:lnTo>
                      <a:pt x="2989" y="95"/>
                    </a:lnTo>
                    <a:lnTo>
                      <a:pt x="3151" y="108"/>
                    </a:lnTo>
                    <a:lnTo>
                      <a:pt x="3293" y="150"/>
                    </a:lnTo>
                    <a:lnTo>
                      <a:pt x="3307" y="190"/>
                    </a:lnTo>
                    <a:lnTo>
                      <a:pt x="3225" y="164"/>
                    </a:lnTo>
                    <a:lnTo>
                      <a:pt x="3031" y="177"/>
                    </a:lnTo>
                    <a:lnTo>
                      <a:pt x="2761" y="217"/>
                    </a:lnTo>
                    <a:lnTo>
                      <a:pt x="2552" y="230"/>
                    </a:lnTo>
                    <a:lnTo>
                      <a:pt x="2335" y="217"/>
                    </a:lnTo>
                    <a:lnTo>
                      <a:pt x="2052" y="164"/>
                    </a:lnTo>
                    <a:lnTo>
                      <a:pt x="1742" y="135"/>
                    </a:lnTo>
                    <a:lnTo>
                      <a:pt x="1552" y="116"/>
                    </a:lnTo>
                    <a:lnTo>
                      <a:pt x="1284" y="143"/>
                    </a:lnTo>
                    <a:lnTo>
                      <a:pt x="980" y="217"/>
                    </a:lnTo>
                    <a:lnTo>
                      <a:pt x="689" y="278"/>
                    </a:lnTo>
                    <a:lnTo>
                      <a:pt x="474" y="291"/>
                    </a:lnTo>
                    <a:lnTo>
                      <a:pt x="284" y="283"/>
                    </a:lnTo>
                    <a:lnTo>
                      <a:pt x="149" y="257"/>
                    </a:lnTo>
                    <a:lnTo>
                      <a:pt x="21" y="190"/>
                    </a:lnTo>
                    <a:lnTo>
                      <a:pt x="0" y="135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727240" y="5685840"/>
                <a:ext cx="101880" cy="488160"/>
              </a:xfrm>
              <a:custGeom>
                <a:avLst/>
                <a:gdLst/>
                <a:ahLst/>
                <a:rect l="l" t="t" r="r" b="b"/>
                <a:pathLst>
                  <a:path w="161" h="696">
                    <a:moveTo>
                      <a:pt x="82" y="0"/>
                    </a:moveTo>
                    <a:lnTo>
                      <a:pt x="13" y="66"/>
                    </a:lnTo>
                    <a:lnTo>
                      <a:pt x="0" y="114"/>
                    </a:lnTo>
                    <a:lnTo>
                      <a:pt x="0" y="175"/>
                    </a:lnTo>
                    <a:lnTo>
                      <a:pt x="34" y="256"/>
                    </a:lnTo>
                    <a:lnTo>
                      <a:pt x="34" y="336"/>
                    </a:lnTo>
                    <a:lnTo>
                      <a:pt x="7" y="412"/>
                    </a:lnTo>
                    <a:lnTo>
                      <a:pt x="7" y="479"/>
                    </a:lnTo>
                    <a:lnTo>
                      <a:pt x="61" y="540"/>
                    </a:lnTo>
                    <a:lnTo>
                      <a:pt x="108" y="600"/>
                    </a:lnTo>
                    <a:lnTo>
                      <a:pt x="135" y="696"/>
                    </a:lnTo>
                    <a:lnTo>
                      <a:pt x="161" y="621"/>
                    </a:lnTo>
                    <a:lnTo>
                      <a:pt x="148" y="500"/>
                    </a:lnTo>
                    <a:lnTo>
                      <a:pt x="95" y="426"/>
                    </a:lnTo>
                    <a:lnTo>
                      <a:pt x="95" y="370"/>
                    </a:lnTo>
                    <a:lnTo>
                      <a:pt x="135" y="296"/>
                    </a:lnTo>
                    <a:lnTo>
                      <a:pt x="122" y="228"/>
                    </a:lnTo>
                    <a:lnTo>
                      <a:pt x="87" y="148"/>
                    </a:lnTo>
                    <a:lnTo>
                      <a:pt x="82" y="95"/>
                    </a:lnTo>
                    <a:lnTo>
                      <a:pt x="122" y="40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15000" y="6178680"/>
                <a:ext cx="2234520" cy="450360"/>
              </a:xfrm>
              <a:custGeom>
                <a:avLst/>
                <a:gdLst/>
                <a:ahLst/>
                <a:rect l="l" t="t" r="r" b="b"/>
                <a:pathLst>
                  <a:path w="3550" h="643">
                    <a:moveTo>
                      <a:pt x="76" y="0"/>
                    </a:moveTo>
                    <a:lnTo>
                      <a:pt x="61" y="164"/>
                    </a:lnTo>
                    <a:lnTo>
                      <a:pt x="13" y="318"/>
                    </a:lnTo>
                    <a:lnTo>
                      <a:pt x="0" y="460"/>
                    </a:lnTo>
                    <a:lnTo>
                      <a:pt x="21" y="542"/>
                    </a:lnTo>
                    <a:lnTo>
                      <a:pt x="82" y="595"/>
                    </a:lnTo>
                    <a:lnTo>
                      <a:pt x="182" y="622"/>
                    </a:lnTo>
                    <a:lnTo>
                      <a:pt x="378" y="643"/>
                    </a:lnTo>
                    <a:lnTo>
                      <a:pt x="587" y="622"/>
                    </a:lnTo>
                    <a:lnTo>
                      <a:pt x="831" y="595"/>
                    </a:lnTo>
                    <a:lnTo>
                      <a:pt x="1101" y="542"/>
                    </a:lnTo>
                    <a:lnTo>
                      <a:pt x="1403" y="500"/>
                    </a:lnTo>
                    <a:lnTo>
                      <a:pt x="1654" y="487"/>
                    </a:lnTo>
                    <a:lnTo>
                      <a:pt x="1856" y="508"/>
                    </a:lnTo>
                    <a:lnTo>
                      <a:pt x="2152" y="569"/>
                    </a:lnTo>
                    <a:lnTo>
                      <a:pt x="2403" y="601"/>
                    </a:lnTo>
                    <a:lnTo>
                      <a:pt x="2673" y="622"/>
                    </a:lnTo>
                    <a:lnTo>
                      <a:pt x="2835" y="622"/>
                    </a:lnTo>
                    <a:lnTo>
                      <a:pt x="3004" y="595"/>
                    </a:lnTo>
                    <a:lnTo>
                      <a:pt x="3219" y="534"/>
                    </a:lnTo>
                    <a:lnTo>
                      <a:pt x="3388" y="534"/>
                    </a:lnTo>
                    <a:lnTo>
                      <a:pt x="3529" y="548"/>
                    </a:lnTo>
                    <a:lnTo>
                      <a:pt x="3550" y="508"/>
                    </a:lnTo>
                    <a:lnTo>
                      <a:pt x="3422" y="479"/>
                    </a:lnTo>
                    <a:lnTo>
                      <a:pt x="3266" y="466"/>
                    </a:lnTo>
                    <a:lnTo>
                      <a:pt x="3124" y="500"/>
                    </a:lnTo>
                    <a:lnTo>
                      <a:pt x="2930" y="534"/>
                    </a:lnTo>
                    <a:lnTo>
                      <a:pt x="2761" y="555"/>
                    </a:lnTo>
                    <a:lnTo>
                      <a:pt x="2572" y="542"/>
                    </a:lnTo>
                    <a:lnTo>
                      <a:pt x="2295" y="494"/>
                    </a:lnTo>
                    <a:lnTo>
                      <a:pt x="1972" y="447"/>
                    </a:lnTo>
                    <a:lnTo>
                      <a:pt x="1702" y="426"/>
                    </a:lnTo>
                    <a:lnTo>
                      <a:pt x="1451" y="420"/>
                    </a:lnTo>
                    <a:lnTo>
                      <a:pt x="1236" y="447"/>
                    </a:lnTo>
                    <a:lnTo>
                      <a:pt x="911" y="487"/>
                    </a:lnTo>
                    <a:lnTo>
                      <a:pt x="601" y="527"/>
                    </a:lnTo>
                    <a:lnTo>
                      <a:pt x="426" y="542"/>
                    </a:lnTo>
                    <a:lnTo>
                      <a:pt x="182" y="534"/>
                    </a:lnTo>
                    <a:lnTo>
                      <a:pt x="108" y="508"/>
                    </a:lnTo>
                    <a:lnTo>
                      <a:pt x="87" y="460"/>
                    </a:lnTo>
                    <a:lnTo>
                      <a:pt x="95" y="365"/>
                    </a:lnTo>
                    <a:lnTo>
                      <a:pt x="135" y="257"/>
                    </a:lnTo>
                    <a:lnTo>
                      <a:pt x="143" y="143"/>
                    </a:lnTo>
                    <a:lnTo>
                      <a:pt x="143" y="48"/>
                    </a:lnTo>
                    <a:lnTo>
                      <a:pt x="129" y="8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919280" y="5732640"/>
                <a:ext cx="60480" cy="753480"/>
              </a:xfrm>
              <a:custGeom>
                <a:avLst/>
                <a:gdLst/>
                <a:ahLst/>
                <a:rect l="l" t="t" r="r" b="b"/>
                <a:pathLst>
                  <a:path w="95" h="1074">
                    <a:moveTo>
                      <a:pt x="40" y="40"/>
                    </a:moveTo>
                    <a:lnTo>
                      <a:pt x="8" y="487"/>
                    </a:lnTo>
                    <a:lnTo>
                      <a:pt x="0" y="783"/>
                    </a:lnTo>
                    <a:lnTo>
                      <a:pt x="8" y="953"/>
                    </a:lnTo>
                    <a:lnTo>
                      <a:pt x="8" y="1021"/>
                    </a:lnTo>
                    <a:lnTo>
                      <a:pt x="40" y="1074"/>
                    </a:lnTo>
                    <a:lnTo>
                      <a:pt x="61" y="1034"/>
                    </a:lnTo>
                    <a:lnTo>
                      <a:pt x="82" y="918"/>
                    </a:lnTo>
                    <a:lnTo>
                      <a:pt x="88" y="405"/>
                    </a:lnTo>
                    <a:lnTo>
                      <a:pt x="95" y="130"/>
                    </a:lnTo>
                    <a:lnTo>
                      <a:pt x="95" y="48"/>
                    </a:lnTo>
                    <a:lnTo>
                      <a:pt x="74" y="0"/>
                    </a:lnTo>
                    <a:lnTo>
                      <a:pt x="4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966080" y="6164640"/>
                <a:ext cx="309240" cy="345240"/>
              </a:xfrm>
              <a:custGeom>
                <a:avLst/>
                <a:gdLst/>
                <a:ahLst/>
                <a:rect l="l" t="t" r="r" b="b"/>
                <a:pathLst>
                  <a:path w="493" h="493">
                    <a:moveTo>
                      <a:pt x="34" y="493"/>
                    </a:moveTo>
                    <a:lnTo>
                      <a:pt x="230" y="297"/>
                    </a:lnTo>
                    <a:lnTo>
                      <a:pt x="354" y="164"/>
                    </a:lnTo>
                    <a:lnTo>
                      <a:pt x="493" y="61"/>
                    </a:lnTo>
                    <a:lnTo>
                      <a:pt x="493" y="0"/>
                    </a:lnTo>
                    <a:lnTo>
                      <a:pt x="439" y="14"/>
                    </a:lnTo>
                    <a:lnTo>
                      <a:pt x="304" y="122"/>
                    </a:lnTo>
                    <a:lnTo>
                      <a:pt x="204" y="232"/>
                    </a:lnTo>
                    <a:lnTo>
                      <a:pt x="107" y="337"/>
                    </a:lnTo>
                    <a:lnTo>
                      <a:pt x="0" y="458"/>
                    </a:lnTo>
                    <a:lnTo>
                      <a:pt x="34" y="493"/>
                    </a:lnTo>
                    <a:lnTo>
                      <a:pt x="34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08920" y="5752080"/>
                <a:ext cx="263160" cy="279000"/>
              </a:xfrm>
              <a:custGeom>
                <a:avLst/>
                <a:gdLst/>
                <a:ahLst/>
                <a:rect l="l" t="t" r="r" b="b"/>
                <a:pathLst>
                  <a:path w="418" h="397">
                    <a:moveTo>
                      <a:pt x="0" y="0"/>
                    </a:moveTo>
                    <a:lnTo>
                      <a:pt x="5" y="59"/>
                    </a:lnTo>
                    <a:lnTo>
                      <a:pt x="119" y="175"/>
                    </a:lnTo>
                    <a:lnTo>
                      <a:pt x="241" y="277"/>
                    </a:lnTo>
                    <a:lnTo>
                      <a:pt x="397" y="397"/>
                    </a:lnTo>
                    <a:lnTo>
                      <a:pt x="418" y="357"/>
                    </a:lnTo>
                    <a:lnTo>
                      <a:pt x="336" y="283"/>
                    </a:lnTo>
                    <a:lnTo>
                      <a:pt x="188" y="161"/>
                    </a:lnTo>
                    <a:lnTo>
                      <a:pt x="4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234280" y="5941440"/>
                <a:ext cx="680760" cy="284760"/>
              </a:xfrm>
              <a:custGeom>
                <a:avLst/>
                <a:gdLst/>
                <a:ahLst/>
                <a:rect l="l" t="t" r="r" b="b"/>
                <a:pathLst>
                  <a:path w="1082" h="405">
                    <a:moveTo>
                      <a:pt x="0" y="270"/>
                    </a:moveTo>
                    <a:lnTo>
                      <a:pt x="80" y="270"/>
                    </a:lnTo>
                    <a:lnTo>
                      <a:pt x="148" y="323"/>
                    </a:lnTo>
                    <a:lnTo>
                      <a:pt x="244" y="357"/>
                    </a:lnTo>
                    <a:lnTo>
                      <a:pt x="350" y="378"/>
                    </a:lnTo>
                    <a:lnTo>
                      <a:pt x="437" y="357"/>
                    </a:lnTo>
                    <a:lnTo>
                      <a:pt x="493" y="336"/>
                    </a:lnTo>
                    <a:lnTo>
                      <a:pt x="418" y="310"/>
                    </a:lnTo>
                    <a:lnTo>
                      <a:pt x="331" y="289"/>
                    </a:lnTo>
                    <a:lnTo>
                      <a:pt x="215" y="270"/>
                    </a:lnTo>
                    <a:lnTo>
                      <a:pt x="244" y="228"/>
                    </a:lnTo>
                    <a:lnTo>
                      <a:pt x="223" y="201"/>
                    </a:lnTo>
                    <a:lnTo>
                      <a:pt x="196" y="201"/>
                    </a:lnTo>
                    <a:lnTo>
                      <a:pt x="167" y="148"/>
                    </a:lnTo>
                    <a:lnTo>
                      <a:pt x="114" y="80"/>
                    </a:lnTo>
                    <a:lnTo>
                      <a:pt x="154" y="80"/>
                    </a:lnTo>
                    <a:lnTo>
                      <a:pt x="202" y="114"/>
                    </a:lnTo>
                    <a:lnTo>
                      <a:pt x="228" y="161"/>
                    </a:lnTo>
                    <a:lnTo>
                      <a:pt x="283" y="201"/>
                    </a:lnTo>
                    <a:lnTo>
                      <a:pt x="392" y="188"/>
                    </a:lnTo>
                    <a:lnTo>
                      <a:pt x="607" y="175"/>
                    </a:lnTo>
                    <a:lnTo>
                      <a:pt x="620" y="222"/>
                    </a:lnTo>
                    <a:lnTo>
                      <a:pt x="702" y="243"/>
                    </a:lnTo>
                    <a:lnTo>
                      <a:pt x="742" y="270"/>
                    </a:lnTo>
                    <a:lnTo>
                      <a:pt x="776" y="243"/>
                    </a:lnTo>
                    <a:lnTo>
                      <a:pt x="797" y="180"/>
                    </a:lnTo>
                    <a:lnTo>
                      <a:pt x="875" y="167"/>
                    </a:lnTo>
                    <a:lnTo>
                      <a:pt x="937" y="180"/>
                    </a:lnTo>
                    <a:lnTo>
                      <a:pt x="949" y="251"/>
                    </a:lnTo>
                    <a:lnTo>
                      <a:pt x="941" y="310"/>
                    </a:lnTo>
                    <a:lnTo>
                      <a:pt x="863" y="357"/>
                    </a:lnTo>
                    <a:lnTo>
                      <a:pt x="863" y="405"/>
                    </a:lnTo>
                    <a:lnTo>
                      <a:pt x="937" y="399"/>
                    </a:lnTo>
                    <a:lnTo>
                      <a:pt x="993" y="365"/>
                    </a:lnTo>
                    <a:lnTo>
                      <a:pt x="1008" y="313"/>
                    </a:lnTo>
                    <a:lnTo>
                      <a:pt x="1046" y="302"/>
                    </a:lnTo>
                    <a:lnTo>
                      <a:pt x="1082" y="254"/>
                    </a:lnTo>
                    <a:lnTo>
                      <a:pt x="1067" y="207"/>
                    </a:lnTo>
                    <a:lnTo>
                      <a:pt x="1027" y="184"/>
                    </a:lnTo>
                    <a:lnTo>
                      <a:pt x="979" y="152"/>
                    </a:lnTo>
                    <a:lnTo>
                      <a:pt x="922" y="125"/>
                    </a:lnTo>
                    <a:lnTo>
                      <a:pt x="842" y="125"/>
                    </a:lnTo>
                    <a:lnTo>
                      <a:pt x="755" y="140"/>
                    </a:lnTo>
                    <a:lnTo>
                      <a:pt x="736" y="175"/>
                    </a:lnTo>
                    <a:lnTo>
                      <a:pt x="723" y="135"/>
                    </a:lnTo>
                    <a:lnTo>
                      <a:pt x="715" y="93"/>
                    </a:lnTo>
                    <a:lnTo>
                      <a:pt x="660" y="80"/>
                    </a:lnTo>
                    <a:lnTo>
                      <a:pt x="607" y="121"/>
                    </a:lnTo>
                    <a:lnTo>
                      <a:pt x="519" y="140"/>
                    </a:lnTo>
                    <a:lnTo>
                      <a:pt x="363" y="148"/>
                    </a:lnTo>
                    <a:lnTo>
                      <a:pt x="283" y="135"/>
                    </a:lnTo>
                    <a:lnTo>
                      <a:pt x="215" y="61"/>
                    </a:lnTo>
                    <a:lnTo>
                      <a:pt x="167" y="19"/>
                    </a:lnTo>
                    <a:lnTo>
                      <a:pt x="122" y="0"/>
                    </a:lnTo>
                    <a:lnTo>
                      <a:pt x="61" y="5"/>
                    </a:lnTo>
                    <a:lnTo>
                      <a:pt x="53" y="53"/>
                    </a:lnTo>
                    <a:lnTo>
                      <a:pt x="67" y="93"/>
                    </a:lnTo>
                    <a:lnTo>
                      <a:pt x="114" y="180"/>
                    </a:lnTo>
                    <a:lnTo>
                      <a:pt x="80" y="209"/>
                    </a:lnTo>
                    <a:lnTo>
                      <a:pt x="0" y="209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67360" y="6262920"/>
                <a:ext cx="118080" cy="128880"/>
              </a:xfrm>
              <a:custGeom>
                <a:avLst/>
                <a:gdLst/>
                <a:ahLst/>
                <a:rect l="l" t="t" r="r" b="b"/>
                <a:pathLst>
                  <a:path w="189" h="182">
                    <a:moveTo>
                      <a:pt x="101" y="0"/>
                    </a:moveTo>
                    <a:lnTo>
                      <a:pt x="40" y="26"/>
                    </a:lnTo>
                    <a:lnTo>
                      <a:pt x="0" y="87"/>
                    </a:lnTo>
                    <a:lnTo>
                      <a:pt x="27" y="142"/>
                    </a:lnTo>
                    <a:lnTo>
                      <a:pt x="54" y="177"/>
                    </a:lnTo>
                    <a:lnTo>
                      <a:pt x="101" y="182"/>
                    </a:lnTo>
                    <a:lnTo>
                      <a:pt x="154" y="156"/>
                    </a:lnTo>
                    <a:lnTo>
                      <a:pt x="189" y="95"/>
                    </a:lnTo>
                    <a:lnTo>
                      <a:pt x="175" y="42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54600" y="6187320"/>
                <a:ext cx="298440" cy="95040"/>
              </a:xfrm>
              <a:custGeom>
                <a:avLst/>
                <a:gdLst/>
                <a:ahLst/>
                <a:rect l="l" t="t" r="r" b="b"/>
                <a:pathLst>
                  <a:path w="473" h="134">
                    <a:moveTo>
                      <a:pt x="0" y="134"/>
                    </a:moveTo>
                    <a:lnTo>
                      <a:pt x="42" y="81"/>
                    </a:lnTo>
                    <a:lnTo>
                      <a:pt x="135" y="20"/>
                    </a:lnTo>
                    <a:lnTo>
                      <a:pt x="278" y="7"/>
                    </a:lnTo>
                    <a:lnTo>
                      <a:pt x="386" y="0"/>
                    </a:lnTo>
                    <a:lnTo>
                      <a:pt x="460" y="15"/>
                    </a:lnTo>
                    <a:lnTo>
                      <a:pt x="473" y="55"/>
                    </a:lnTo>
                    <a:lnTo>
                      <a:pt x="405" y="55"/>
                    </a:lnTo>
                    <a:lnTo>
                      <a:pt x="251" y="74"/>
                    </a:lnTo>
                    <a:lnTo>
                      <a:pt x="122" y="81"/>
                    </a:lnTo>
                    <a:lnTo>
                      <a:pt x="0" y="13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506080" y="6244560"/>
                <a:ext cx="279360" cy="57600"/>
              </a:xfrm>
              <a:custGeom>
                <a:avLst/>
                <a:gdLst/>
                <a:ahLst/>
                <a:rect l="l" t="t" r="r" b="b"/>
                <a:pathLst>
                  <a:path w="445" h="82">
                    <a:moveTo>
                      <a:pt x="26" y="82"/>
                    </a:moveTo>
                    <a:lnTo>
                      <a:pt x="175" y="61"/>
                    </a:lnTo>
                    <a:lnTo>
                      <a:pt x="323" y="53"/>
                    </a:lnTo>
                    <a:lnTo>
                      <a:pt x="445" y="53"/>
                    </a:lnTo>
                    <a:lnTo>
                      <a:pt x="405" y="8"/>
                    </a:lnTo>
                    <a:lnTo>
                      <a:pt x="270" y="0"/>
                    </a:lnTo>
                    <a:lnTo>
                      <a:pt x="108" y="21"/>
                    </a:lnTo>
                    <a:lnTo>
                      <a:pt x="0" y="40"/>
                    </a:lnTo>
                    <a:lnTo>
                      <a:pt x="26" y="82"/>
                    </a:lnTo>
                    <a:lnTo>
                      <a:pt x="2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06080" y="5911920"/>
                <a:ext cx="331200" cy="105120"/>
              </a:xfrm>
              <a:custGeom>
                <a:avLst/>
                <a:gdLst/>
                <a:ahLst/>
                <a:rect l="l" t="t" r="r" b="b"/>
                <a:pathLst>
                  <a:path w="526" h="148">
                    <a:moveTo>
                      <a:pt x="53" y="148"/>
                    </a:moveTo>
                    <a:lnTo>
                      <a:pt x="188" y="116"/>
                    </a:lnTo>
                    <a:lnTo>
                      <a:pt x="363" y="95"/>
                    </a:lnTo>
                    <a:lnTo>
                      <a:pt x="485" y="95"/>
                    </a:lnTo>
                    <a:lnTo>
                      <a:pt x="526" y="82"/>
                    </a:lnTo>
                    <a:lnTo>
                      <a:pt x="500" y="27"/>
                    </a:lnTo>
                    <a:lnTo>
                      <a:pt x="350" y="0"/>
                    </a:lnTo>
                    <a:lnTo>
                      <a:pt x="235" y="21"/>
                    </a:lnTo>
                    <a:lnTo>
                      <a:pt x="66" y="55"/>
                    </a:lnTo>
                    <a:lnTo>
                      <a:pt x="13" y="82"/>
                    </a:lnTo>
                    <a:lnTo>
                      <a:pt x="0" y="129"/>
                    </a:lnTo>
                    <a:lnTo>
                      <a:pt x="53" y="148"/>
                    </a:lnTo>
                    <a:lnTo>
                      <a:pt x="53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5956560" y="5666760"/>
              <a:ext cx="1691640" cy="8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Rimouski,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Chicoutimi,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600" spc="-1" strike="noStrike">
                  <a:solidFill>
                    <a:srgbClr val="000000"/>
                  </a:solidFill>
                  <a:latin typeface="Times New Roman"/>
                </a:rPr>
                <a:t>Rouyn-Noranda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5:41:30Z</dcterms:created>
  <dc:creator>Julien</dc:creator>
  <dc:description/>
  <dc:language>en-US</dc:language>
  <cp:lastModifiedBy>dmdfor1</cp:lastModifiedBy>
  <dcterms:modified xsi:type="dcterms:W3CDTF">2002-01-11T20:43:43Z</dcterms:modified>
  <cp:revision>57</cp:revision>
  <dc:subject/>
  <dc:title>Bilan annuel de votre compagnie</dc:title>
</cp:coreProperties>
</file>