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23C-72BB-4F5E-9D8A-4155DDF9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83A-EF69-4486-BD2A-A7F9B53E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F6C-A636-4009-B09D-BDF7D743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2A1-F959-4617-BBA2-8245217A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6BEF-998D-4953-9C29-A4DF4DBA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2049-EAE2-42F4-AE15-77CA27C2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B48A-BCF1-433F-A53C-40231969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3E18-578D-4905-8A02-3780AA7A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79D7-EACC-42FE-B230-FDDF83F5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0DA1-9175-4623-BEB2-7B864A44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0618-F87B-43EB-87A0-4EC8FF69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1FB-460A-4508-A789-22BEDD51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E1FE-4FBD-4894-ADE9-13885E23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CFFE-F179-479A-886F-AEE7C76B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C93C-8ED0-4EE1-B36F-56B70CB8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F75C-F1D4-4432-AEF1-0421941B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E1F3-C451-4FBB-8FA5-2442A201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F667-5841-4AFD-AA65-B2BBF5A2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8809-570D-4296-B3C8-04156B16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2CF08-CE85-4DD3-B526-65AFB34D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F374-298E-419F-87A8-7E50D12A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4F74-BCC0-4496-BEC3-5B35C09E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070-BF81-484A-9923-7F77DA3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DAAF-3A80-4A7B-95B5-76CBC9A0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8926-D7A3-4400-BEE8-290785EB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E3FC-5FD5-4DF9-9DDF-E3A6448A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FDE5-0BBB-4F8F-89F6-B4D0A9B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FA9E7-4A80-41CB-B5B0-F8743996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FE31-CAFE-4678-8DAE-33605B9D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93D3-EC74-4B81-8743-22DE0D43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171A-89E6-4878-895D-3BC3E63D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3D1C-AD64-48C5-A030-F4424EF2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C937-3104-4F0F-9208-9480B449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2B3-4206-4BA3-929F-0991F703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9AF2-5547-47CF-A256-D4A445F4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CCA1B-A2EF-4958-9CC1-7C2B314B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0C6A-B8EA-4CA4-AD8F-4C053DA4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269E1-A933-46F0-A793-5E8C8B2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63199-A5DC-417F-A149-C9DB533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281D-CFB2-4763-BF52-78D62EF9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F709-B8AB-4683-82DC-534CC9EB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6FCF-AEF0-476B-888C-CD0AD04A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8073-0396-4550-84E5-385A4F5B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3F4D-414E-426F-8AAE-062C2D35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9BF-FFBC-4899-837D-D786BAC5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36E9-6760-43FD-A697-3DE57B0F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08B2-BB08-4569-8A3D-C4FD77DD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1C152-3F10-4BC4-9609-4A8E14E8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A87BB-576C-4DCD-A1F8-7151DB36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E238-2686-44AA-A8AD-C93B0FB9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39C75-B2DE-4107-822C-53CD8AC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AC1CA-188A-4D25-8251-78152A34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998C-9B2F-40E1-9242-EFEB09A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27FC-6DC7-45C3-9D83-A0EA5038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03B78-2173-4071-A845-80B66129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C3B-6321-46DA-9EC6-5502BFB3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5059F-B63D-4C72-8830-BC60CEBF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29E8F-50B0-4E3E-8A5E-6B688D54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12F04-BAC4-4CE1-8F0F-99A130EA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0F026-DD56-46D9-87E8-01870607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F7C39-AC79-4E8D-8E75-0DC12E83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664D0-C960-48B4-96F3-60558D1E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93569-48D9-4C61-8443-E82D1A7A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9829E-A0DF-4CE2-8129-7804232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6887B-E421-420B-B036-7E078FEE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48E6E-D1D7-4BC6-9972-C5D1C114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A27-C454-48A9-B7B0-98F2750F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F2CD6-BFB2-4D6A-941F-28DC3352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05F63-E46E-4F3F-9EBC-E38E0691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5B578-7828-4711-8FF5-890C601A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60D-25FD-4C61-9854-22E3FC08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864-5C87-4049-8EB8-914E2FED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A8DB-A7DF-4590-8CFC-D7D1D4478DA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FAC3-7BCD-4C70-918E-E2AFCFF27A8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94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CCC9-7252-414B-8F9D-872C4059343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8172-5C6C-486E-A9DD-CECB161E0E66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D73-DF1F-4051-AF0E-49D93B8DD1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6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2292-E480-4009-9CCA-E034FC964C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hyperlink" Target="file:///../Participant/CouperColler.ppt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Service à la clientèle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cc9b1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Responsable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47640" y="2277000"/>
            <a:ext cx="8496000" cy="2507040"/>
            <a:chOff x="647640" y="2277000"/>
            <a:chExt cx="8496000" cy="2507040"/>
          </a:xfrm>
        </p:grpSpPr>
        <p:cxnSp>
          <p:nvCxnSpPr>
            <p:cNvPr id="397" name="_s25605"/>
            <p:cNvCxnSpPr>
              <a:stCxn id="398" idx="2"/>
              <a:endCxn id="399" idx="3"/>
            </p:cNvCxnSpPr>
            <p:nvPr/>
          </p:nvCxnSpPr>
          <p:spPr>
            <a:xfrm rot="10800000">
              <a:off x="7068600" y="3238920"/>
              <a:ext cx="31788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0" name="_s25606"/>
            <p:cNvCxnSpPr>
              <a:stCxn id="401" idx="2"/>
              <a:endCxn id="399" idx="3"/>
            </p:cNvCxnSpPr>
            <p:nvPr/>
          </p:nvCxnSpPr>
          <p:spPr>
            <a:xfrm rot="10800000">
              <a:off x="7068600" y="3238920"/>
              <a:ext cx="31788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2" name="_s25607"/>
            <p:cNvCxnSpPr>
              <a:stCxn id="403" idx="2"/>
              <a:endCxn id="399" idx="3"/>
            </p:cNvCxnSpPr>
            <p:nvPr/>
          </p:nvCxnSpPr>
          <p:spPr>
            <a:xfrm rot="10800000">
              <a:off x="7068600" y="3238920"/>
              <a:ext cx="31788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4" name="_s25608"/>
            <p:cNvCxnSpPr>
              <a:stCxn id="405" idx="4"/>
              <a:endCxn id="406" idx="3"/>
            </p:cNvCxnSpPr>
            <p:nvPr/>
          </p:nvCxnSpPr>
          <p:spPr>
            <a:xfrm flipV="1">
              <a:off x="4711320" y="3238920"/>
              <a:ext cx="308160" cy="13928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7" name="_s25609"/>
            <p:cNvCxnSpPr>
              <a:stCxn id="408" idx="4"/>
              <a:endCxn id="406" idx="3"/>
            </p:cNvCxnSpPr>
            <p:nvPr/>
          </p:nvCxnSpPr>
          <p:spPr>
            <a:xfrm flipV="1">
              <a:off x="4711320" y="3239280"/>
              <a:ext cx="30816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09" name="_s25610"/>
            <p:cNvCxnSpPr>
              <a:stCxn id="410" idx="4"/>
              <a:endCxn id="406" idx="3"/>
            </p:cNvCxnSpPr>
            <p:nvPr/>
          </p:nvCxnSpPr>
          <p:spPr>
            <a:xfrm flipV="1">
              <a:off x="4711320" y="3238920"/>
              <a:ext cx="30816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1" name="_s25611"/>
            <p:cNvCxnSpPr>
              <a:stCxn id="412" idx="4"/>
              <a:endCxn id="413" idx="3"/>
            </p:cNvCxnSpPr>
            <p:nvPr/>
          </p:nvCxnSpPr>
          <p:spPr>
            <a:xfrm flipV="1">
              <a:off x="2367720" y="3239280"/>
              <a:ext cx="305640" cy="87768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4" name="_s25612"/>
            <p:cNvCxnSpPr>
              <a:stCxn id="415" idx="4"/>
              <a:endCxn id="413" idx="3"/>
            </p:cNvCxnSpPr>
            <p:nvPr/>
          </p:nvCxnSpPr>
          <p:spPr>
            <a:xfrm flipV="1">
              <a:off x="2367720" y="3238920"/>
              <a:ext cx="305640" cy="363240"/>
            </a:xfrm>
            <a:prstGeom prst="bentConnector2">
              <a:avLst/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6" name="_s25613"/>
            <p:cNvCxnSpPr>
              <a:stCxn id="399" idx="0"/>
              <a:endCxn id="417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8" name="_s25614"/>
            <p:cNvCxnSpPr>
              <a:stCxn id="406" idx="0"/>
              <a:endCxn id="417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cxnSp>
          <p:nvCxnSpPr>
            <p:cNvPr id="419" name="_s25615"/>
            <p:cNvCxnSpPr>
              <a:stCxn id="413" idx="0"/>
              <a:endCxn id="417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892d5b"/>
              </a:solidFill>
              <a:miter/>
            </a:ln>
          </p:spPr>
        </p:cxnSp>
        <p:sp>
          <p:nvSpPr>
            <p:cNvPr id="417" name="_s25616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9b1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9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25617"/>
            <p:cNvSpPr/>
            <p:nvPr/>
          </p:nvSpPr>
          <p:spPr>
            <a:xfrm>
              <a:off x="181836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25618"/>
            <p:cNvSpPr/>
            <p:nvPr/>
          </p:nvSpPr>
          <p:spPr>
            <a:xfrm>
              <a:off x="4161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25619"/>
            <p:cNvSpPr/>
            <p:nvPr/>
          </p:nvSpPr>
          <p:spPr>
            <a:xfrm>
              <a:off x="6213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6cb65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6c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25620"/>
            <p:cNvSpPr/>
            <p:nvPr/>
          </p:nvSpPr>
          <p:spPr>
            <a:xfrm>
              <a:off x="64764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25621"/>
            <p:cNvSpPr/>
            <p:nvPr/>
          </p:nvSpPr>
          <p:spPr>
            <a:xfrm>
              <a:off x="64764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25622"/>
            <p:cNvSpPr/>
            <p:nvPr/>
          </p:nvSpPr>
          <p:spPr>
            <a:xfrm>
              <a:off x="2991240" y="34124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_s25623"/>
            <p:cNvSpPr/>
            <p:nvPr/>
          </p:nvSpPr>
          <p:spPr>
            <a:xfrm>
              <a:off x="2991240" y="392724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25624"/>
            <p:cNvSpPr/>
            <p:nvPr/>
          </p:nvSpPr>
          <p:spPr>
            <a:xfrm>
              <a:off x="2991240" y="44420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25625"/>
            <p:cNvSpPr/>
            <p:nvPr/>
          </p:nvSpPr>
          <p:spPr>
            <a:xfrm>
              <a:off x="738648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25626"/>
            <p:cNvSpPr/>
            <p:nvPr/>
          </p:nvSpPr>
          <p:spPr>
            <a:xfrm>
              <a:off x="738648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25627"/>
            <p:cNvSpPr/>
            <p:nvPr/>
          </p:nvSpPr>
          <p:spPr>
            <a:xfrm>
              <a:off x="7386480" y="44420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f83b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f83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Présentations inséré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3527280" cy="411480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rId3"/>
          </p:cNvPr>
          <p:cNvSpPr/>
          <p:nvPr/>
        </p:nvSpPr>
        <p:spPr>
          <a:xfrm>
            <a:off x="1332000" y="2565360"/>
            <a:ext cx="2663640" cy="2664000"/>
          </a:xfrm>
          <a:prstGeom prst="sun">
            <a:avLst>
              <a:gd name="adj" fmla="val 25000"/>
            </a:avLst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 vagues modèlent les cô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combat entre la mer et la ter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uissance du défer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 forces de l’e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 résistance du r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roche sertie de crist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composants vari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er a ses jard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envahiss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e bonne récol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signe d’é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 régime de l’épo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algues pigment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n les appelle coquillag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 mollusques broute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splendeur nacré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bibelots de 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herbivore cô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 carnivore cô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allure tromp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mollusque venim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32" name=""/>
          <p:cNvCxnSpPr>
            <a:stCxn id="330" idx="3"/>
            <a:endCxn id="330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33" name=""/>
          <p:cNvCxnSpPr>
            <a:stCxn id="330" idx="0"/>
            <a:endCxn id="328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34" idx="0"/>
            <a:endCxn id="334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336" name=""/>
          <p:cNvCxnSpPr>
            <a:stCxn id="334" idx="0"/>
            <a:endCxn id="328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29" idx="0"/>
            <a:endCxn id="328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"/>
          <p:cNvCxnSpPr>
            <a:stCxn id="334" idx="2"/>
            <a:endCxn id="341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4" idx="2"/>
            <a:endCxn id="342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34" idx="2"/>
            <a:endCxn id="343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9" idx="2"/>
            <a:endCxn id="339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9" idx="2"/>
            <a:endCxn id="337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0" idx="2"/>
            <a:endCxn id="340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2" idx="4"/>
            <a:endCxn id="351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53" idx="4"/>
            <a:endCxn id="351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"/>
          <p:cNvCxnSpPr>
            <a:stCxn id="356" idx="3"/>
            <a:endCxn id="352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61" idx="0"/>
            <a:endCxn id="351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61" idx="1"/>
            <a:endCxn id="366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1" idx="1"/>
            <a:endCxn id="368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inséré avec lien 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044800" y="2057400"/>
            <a:ext cx="581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</a:t>
            </a: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inséré sans lien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476360" y="2349360"/>
          <a:ext cx="5657760" cy="34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49360"/>
                    <a:ext cx="56577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236000" y="2708280"/>
          <a:ext cx="1728720" cy="936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2708280"/>
                    <a:ext cx="1728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16:50Z</dcterms:created>
  <dc:creator>dmdfor1</dc:creator>
  <dc:description/>
  <dc:language>en-US</dc:language>
  <cp:lastModifiedBy>Carole Gagnon</cp:lastModifiedBy>
  <dcterms:modified xsi:type="dcterms:W3CDTF">2006-02-23T17:16:36Z</dcterms:modified>
  <cp:revision>14</cp:revision>
  <dc:subject/>
  <dc:title>Tableau inséré avec lien </dc:title>
</cp:coreProperties>
</file>